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E45-BC22-4F7B-A09C-E8DB46B2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5ED-9C01-4318-BB09-72DD451A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790-E137-4B20-8568-6A4A5173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243E-C46D-4C3E-9F6B-F1A644A4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78D2-B550-4648-A707-0832BE71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0C4B-116B-4E49-84E1-D62419E48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A3E-E788-4236-9756-1B7780AE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590-5158-423C-9ECB-878C2018A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D7D-588F-4D00-8816-6AAAD9DF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A308-0303-47C6-9171-46FB3E27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20E0-943D-4A97-9685-807A4F8D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6AD-604E-4DAF-804A-1F82BA40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0DF-DD93-4769-BCAA-5636505E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61B-035C-4122-B0B7-747152B7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C8A-37D8-44D2-B9EE-1728B6F1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869-7CCD-4E7B-9291-6AEF20C9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923-0FD6-4485-8A26-88875952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571-5041-4773-830E-9AFF85CE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102-0183-4698-A547-740C44D8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63B4-294F-4006-B236-ED69449D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64C-3E3A-4F8E-BC7C-26FD60F8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A3A-5CCF-4D76-BCA4-890D566B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767C-C1D9-460D-BAB7-759A5682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5B7-9671-4DF8-AE2D-689DBD61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 HANGING WEAPON SYMBOLIZES IMPENDING D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ANDINAVIAN MYTHOLOGY, TO WHAT SPECIAL PARADISE ARE THE SOULS OF SLAIN WARRIORS TRANSPOR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80960" y="762120"/>
            <a:ext cx="818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SSENGER OF THE GODS WAS CALLED MERCURY BY THE ROMANS.  WHAT DID THE GREEKS CALL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3880" y="762120"/>
            <a:ext cx="8434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IENT EGYPTIAN GOD OF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  FIRED IT.  APOLLO  GUIDED 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6960" y="762120"/>
            <a:ext cx="775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ACHILLES DIED FROM AN ARROW WOUND TO HIS HEEL.  WHO KILL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YLLA  AND  CHARYB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2360" y="838080"/>
            <a:ext cx="80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NAMES OF THE SEA MONSTERS THAT EPITOMIZE "BEING BETWEEN A ROCK AND A HAR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419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WINGS  MELTED  WHEN  HE  FLEW  TOO  CLOSE  TO  THE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07920" y="762120"/>
            <a:ext cx="732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HOW DID ICARUS, THE SON OF DAEDALUS,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(SATUR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Y OF THE WEEK IS NAMED FOR A ROMAN G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OLOGICAL CREATURE WAS HALF EAGLE AND HALF 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TH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52560" y="4952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54120" y="762120"/>
            <a:ext cx="783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NDER OF THE ANCIENT WORLD DEPICTED THE SUN GOD HEL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RD  OF  DAMO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5560" y="762120"/>
            <a:ext cx="729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 HANGING WEAPON SYMBOLIZES IMPENDING D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H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74840" y="762120"/>
            <a:ext cx="819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ANDINAVIAN MYTHOLOGY, TO WHAT SPECIAL PARADISE ARE THE SOULS OF SLAIN WARRIORS TRANSPO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0680" y="762120"/>
            <a:ext cx="81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SSENGER OF THE GODS WAS CALLED MERCURY BY THE ROMANS.  WHAT DID THE GREEKS CALL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IENT EGYPTIAN GOD OF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ACHILLES DIED FROM AN ARROW WOUND TO HIS HEEL.  WHO KILL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6880" y="762120"/>
            <a:ext cx="795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NAMES OF THE SEA MONSTERS THAT EPITOMIZE "BEING BETWEEN A ROCK AND A HAR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9880" y="762120"/>
            <a:ext cx="728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HOW DID ICARUS, THE SON OF DAEDALUS,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Y OF THE WEEK IS NAMED FOR A ROMAN G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OLOGICAL CREATURE WAS HALF EAGLE AND HALF 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NDER OF THE ANCIENT WORLD DEPICTED THE SUN GOD HEL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0T15:01:24Z</dcterms:modified>
  <cp:revision>370</cp:revision>
  <dc:subject/>
  <dc:title>Slide 1</dc:title>
</cp:coreProperties>
</file>