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734E-D526-4D76-ACF4-181000D2E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03C5-B56C-49A7-9D6B-A3E02AE4F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5F2F-7273-46FB-B5A2-491B783A7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FE76-14E9-4992-9AF3-1A497C8D6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5AE6-6AAD-46A2-8F8C-783BD486F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5D43-41A3-4DC9-BF8C-0F2FA5E3A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2AA7-5036-4E63-9844-95D1DD03E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3E33-BF6B-493B-8265-5B73CFD0D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E87F-43D4-40F5-BE7B-825FED195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761E-5A2F-498A-BD02-79F2EEEF3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9C5C-3A58-44BD-97EF-640AEBE1E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D601-AFE5-4B3A-BD3C-8098C6240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58F2-77A1-4B48-A419-35036B660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4BE8-50B8-4537-99DF-BA9CAE265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1D465-5F33-4215-959B-ADCED4EB9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03ED-823A-42BF-8DA1-A136F052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7AFA-2547-4ED6-8D47-6A424B8D3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B90C-30AE-4C9F-889D-EEB5C754B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34D4-ED52-43D9-8EA3-5CC74226D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64B7-25C8-4849-8655-C26728948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9AF1-175F-46FE-91B8-7EF53BFA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9F0B-7730-4217-B64F-4B8B842E1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82E3-79EC-4712-B7B2-E14382CA0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D8AD-C330-4F52-9C7F-004CDBBFC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W HANGING WEAPON SYMBOLIZES IMPENDING DO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33440" y="761760"/>
            <a:ext cx="8277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CANDINAVIAN MYTHOLOGY, TO WHAT SPECIAL PARADISE ARE THE SOULS OF SLAIN WARRIORS TRANSPOR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80960" y="762120"/>
            <a:ext cx="8182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SSENGER OF THE GODS WAS CALLED MERCURY BY THE ROMANS.  WHAT DID THE GREEKS CALL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53880" y="762120"/>
            <a:ext cx="8434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NCIENT EGYPTIAN GOD OF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IS  FIRED IT.  APOLLO  GUIDED 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96960" y="762120"/>
            <a:ext cx="7750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EGEND, ACHILLES DIED FROM AN ARROW WOUND TO HIS HEEL.  WHO KILLED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YLLA  AND  CHARYBD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22360" y="838080"/>
            <a:ext cx="809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NAMES OF THE SEA MONSTERS THAT EPITOMIZE "BEING BETWEEN A ROCK AND A HARD PL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4197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  WINGS  MELTED  WHEN  HE  FLEW  TOO  CLOSE  TO  THE 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07920" y="762120"/>
            <a:ext cx="732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HOW DID ICARUS, THE SON OF DAEDALUS,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URDAY  (SATUR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AY OF THE WEEK IS NAMED FOR A ROMAN G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60320" y="762120"/>
            <a:ext cx="762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THOLOGICAL CREATURE WAS HALF EAGLE AND HALF 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YTH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952560" y="49528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LOSSUS  OF  RH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54120" y="762120"/>
            <a:ext cx="783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NDER OF THE ANCIENT WORLD DEPICTED THE SUN GOD HELI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ORD  OF  DAMO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25560" y="762120"/>
            <a:ext cx="729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W HANGING WEAPON SYMBOLIZES IMPENDING DO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HA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74840" y="762120"/>
            <a:ext cx="819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CANDINAVIAN MYTHOLOGY, TO WHAT SPECIAL PARADISE ARE THE SOULS OF SLAIN WARRIORS TRANSPOR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90680" y="762120"/>
            <a:ext cx="81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SSENGER OF THE GODS WAS CALLED MERCURY BY THE ROMANS.  WHAT DID THE GREEKS CALL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39760" y="762120"/>
            <a:ext cx="8663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NCIENT EGYPTIAN GOD OF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04440" y="761760"/>
            <a:ext cx="7932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EGEND, ACHILLES DIED FROM AN ARROW WOUND TO HIS HEEL.  WHO KILLED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96880" y="762120"/>
            <a:ext cx="795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NAMES OF THE SEA MONSTERS THAT EPITOMIZE "BEING BETWEEN A ROCK AND A HARD PL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29880" y="762120"/>
            <a:ext cx="728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HOW DID ICARUS, THE SON OF DAEDALUS,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3440" y="761760"/>
            <a:ext cx="773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AY OF THE WEEK IS NAMED FOR A ROMAN G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55560" y="761760"/>
            <a:ext cx="783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YTHOLOGICAL CREATURE WAS HALF EAGLE AND HALF 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NDER OF THE ANCIENT WORLD DEPICTED THE SUN GOD HELI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2-10T15:01:24Z</dcterms:modified>
  <cp:revision>370</cp:revision>
  <dc:subject/>
  <dc:title>Slide 1</dc:title>
</cp:coreProperties>
</file>