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2AE4-30B6-4633-ABBF-E778ED012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98BC-B0C9-4B27-978E-C52240338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E741-4606-47F4-BFCE-965B5406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CFFD-2FB0-44E0-9D54-6F9D1EB6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D547-EB69-42CD-9180-89E91800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0CB4-154D-48DA-9D3F-30E4BF817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69A5-68DB-44C6-A88D-84A589CD3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2E44-8DDC-4DF1-9FE4-B309B5DB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C43D-7439-4F8E-9EA6-24879B3E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47E1-9963-4640-BD93-55E66D2D4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FF62-0DBA-4B79-9470-CAF35154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FDE-5B2A-45BB-87D3-43F47165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8141-0EC0-492D-AA80-47B6DDB3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F51-D6E4-419E-B106-296F2EECB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33123-9C52-4D56-B18F-93DAAB390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B51C-CCA5-4771-8AAF-A074BE41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D72-2A05-4566-A077-437E54A15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A7F0-64A5-40C6-AF41-56E21DC28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FF00-8D58-45CB-8FC5-5B684FDE4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3FC7-ACA1-4E2E-8F4F-904C79541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75B-3B8D-4C74-BAF9-881C2EBF0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8D68-BDE9-4C53-9737-595881CF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1BEB-4698-4C9B-BDA1-A537F59C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CONTAIN THESE CROW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977760" y="1295280"/>
            <a:ext cx="7188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74760" y="1295280"/>
            <a:ext cx="479448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RE 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733320" y="1295280"/>
            <a:ext cx="7677360" cy="31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 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44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021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  CARIBB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919240" y="1371600"/>
            <a:ext cx="3305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LM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98640" y="1295280"/>
            <a:ext cx="53467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WE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595520" y="1371600"/>
            <a:ext cx="5952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74760" y="1295280"/>
            <a:ext cx="47944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Z–CAR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486080" y="1289160"/>
            <a:ext cx="617220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7196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60560" y="1295280"/>
            <a:ext cx="7022880" cy="357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UMBIA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33320" y="1295280"/>
            <a:ext cx="767736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03680" y="1295280"/>
            <a:ext cx="3536640" cy="35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4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602080" y="1386000"/>
            <a:ext cx="3939840" cy="40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98640" y="1295280"/>
            <a:ext cx="53467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1206360" y="1359000"/>
            <a:ext cx="673128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486080" y="1289160"/>
            <a:ext cx="6172200" cy="351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2T13:25:11Z</dcterms:modified>
  <cp:revision>290</cp:revision>
  <dc:subject/>
  <dc:title>Slide 1</dc:title>
</cp:coreProperties>
</file>