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9A8-D6CA-4DE6-84C3-E4FACCE28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C012-4377-45A4-B5FD-1DEDFE2C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C504-F90F-4F5F-9CCD-073C4BB76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D598-0D6D-48C2-B4E3-745C1580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3658-3338-455D-8309-2245A1C32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DD85-52AB-4421-BA14-6F37617B0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9B3D-47FE-476F-B570-3624CEA4B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AAAF-1403-4133-BCA8-79126C270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730E-27CC-4FC6-B313-40CC05F54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5ACC-87CB-4D93-B1AA-CB43AF533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C6CD-99E6-4112-A750-89FE7892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4D25-6569-4920-81C1-E94A04AF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A09D-6BAA-4205-8C5F-0EBFBE13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370C-DBCA-4520-87BF-4271ED5C1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F793-9A90-4A0A-A773-14965AA4C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E8EC-C188-4001-B2F6-404C0DF7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A7F-1E56-4700-91BF-4339BC63B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03F9-DABE-42D7-BE70-7CD511376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811C-362C-4B69-8F83-063F7787B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8D9-6515-4D8A-9AD3-7ABA670A3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BF13-9AF6-4D88-B1C3-0AC3C3B6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4684-0743-4ED5-BEF3-333932E92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D4ED-5B49-4268-A16E-24F64459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OGOS CONTAIN THESE CROW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77760" y="1295280"/>
            <a:ext cx="71884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81400" y="1295280"/>
            <a:ext cx="43812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174760" y="1295280"/>
            <a:ext cx="479448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RE  KING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33320" y="1295280"/>
            <a:ext cx="767736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WN  ROY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4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021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  CARIB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919240" y="1371600"/>
            <a:ext cx="33055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LM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98640" y="1295280"/>
            <a:ext cx="53467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WEI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595520" y="1371600"/>
            <a:ext cx="5952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74760" y="1295280"/>
            <a:ext cx="479448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Z–CAR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486080" y="1289160"/>
            <a:ext cx="617220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7196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060560" y="1295280"/>
            <a:ext cx="7022880" cy="35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381400" y="1295280"/>
            <a:ext cx="4381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33320" y="1295280"/>
            <a:ext cx="767736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4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602080" y="1386000"/>
            <a:ext cx="39398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898640" y="1295280"/>
            <a:ext cx="5346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06360" y="1359000"/>
            <a:ext cx="67312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86080" y="1289160"/>
            <a:ext cx="6172200" cy="351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2T13:25:11Z</dcterms:modified>
  <cp:revision>290</cp:revision>
  <dc:subject/>
  <dc:title>Slide 1</dc:title>
</cp:coreProperties>
</file>