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B97C-F118-45B1-8929-5691AA2A3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C81C-CD18-4ECB-8BCF-8BE946B59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C703-89B8-4D9E-B8B3-3E0A54B7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20F0-22B8-41E2-BA13-D5917FFA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6B68-0C62-49AC-BC22-3EA10781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4C23-107F-4EA5-9212-53D283C29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F1C5-61D3-40AD-8569-BA976C6F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86C0-E33D-441F-89A1-272B19E5D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EBFA-2419-4FCE-BA7D-8E0246D7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E29F-6714-4F92-98CD-065E92B43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816F-F5C6-4EBB-AB53-469376D5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290D-820C-48FD-9E57-E12074CAA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DF1B-2890-4B7C-AE97-025FEE85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4935-785F-44A5-AC5F-C15C1BC2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F369-A6F6-420F-A887-076A0FD3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FCD2-F749-4872-8BA7-6295360DD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3442-B92E-480E-9FCD-91510B10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905F-5B91-4924-8B07-D263E3E98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F76C-38A1-4E0D-95E0-A381EF013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AE9B-200D-4EFD-B672-C261D855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AB7E-B903-468F-95D8-1FFA50B4D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53F2-FF34-447B-AA33-DDA11D3D5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706F-8773-4537-8C0A-17ECC5403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NTAS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FANTASY SERIES OF ALL TIME, WITH ALMOST HALF A BILLION BOOKS SO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HIT SONG "ROCK AND ROLL FANT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  K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FANTASY FOOTBALL WEB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ARDO  MONTALB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TV'S "FANTASY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  &amp;  YOKO  O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62080" y="762120"/>
            <a:ext cx="681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 RELEASED THE ALBUM "DOUBLE FANTASY" IN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NEY  CRU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UISE LINE OPERATES THE SHIPS "DREAM", "MAGIC", "WONDER" AND "FANT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OSTS THE ANNUAL "FANTASY FEST" STREET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/ SONGWRITER'S ALBUM "FANTASY" MADE IT TO #6 ON THE CHARTS IN 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LIZABETH ARDEN FRAGRANCE "FANTASY" WAS ENDORSED BY WHAT POP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FANTASY FOOTBALL WEB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ID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REBEL YELL" CONTAINING THE CHARTING SINGLE "FLESH FOR FANT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PO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33480" y="762120"/>
            <a:ext cx="7277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FANTASY SERIES OF ALL TIME, WITH ALMOST HALF A BILLION BOOKS S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HIT SONG "ROCK AND ROLL FANTAS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ROURKE ON TV'S "FANTASY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00240" y="762120"/>
            <a:ext cx="674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 RELEASED THE ALBUM "DOUBLE FANTASY" IN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UISE LINE OPERATES THE SHIPS "DREAM", "MAGIC", "WONDER" AND "FANTAS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OSTS THE ANNUAL "FANTASY FEST" STREET PA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/ SONGWRITER'S ALBUM "FANTASY" MADE IT TO #6 ON THE CHARTS IN 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LIZABETH ARDEN FRAGRANCE "FANTASY" WAS ENDORSED BY WHAT POP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LEASED THE ALBUM "REBEL YELL" CONTAINING THE CHARTING SINGLE "FLESH FOR FANTAS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3-07T14:44:32Z</dcterms:modified>
  <cp:revision>350</cp:revision>
  <dc:subject/>
  <dc:title>Slide 1</dc:title>
</cp:coreProperties>
</file>