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8AB0-9CE6-454D-BAD1-5E7C97305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862A-11F2-4348-BC35-E4EF3DF42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4750-1D64-4EBA-B9C1-A11101E97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8724-911D-4687-A6F3-94AE9DED9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6F69-8FC6-4086-B83E-9D1150FC1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7DB4-130C-4E1B-9B77-DDA435F62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013B-F62A-4D87-9DFD-C2B0F95AA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1374-2FFA-4B17-AA79-27B9CAEF4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021C-489D-4F96-823B-271A2A9C8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9098-E607-4460-9655-9B75FDCEC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4803-844E-48FD-8B39-8102A29FD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0292-8C58-4107-A333-BEDDDC889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E063-E2ED-49E5-BABD-EB64D30BC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6305-25BD-4002-B020-5026CBBCB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1F9E-23A0-481E-B926-B6C21F56B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B08E-EBAA-4AE2-AA6F-F58E2EC8D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7021-BE8E-4F8A-8A54-3739FE567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2919-A29D-46FC-87A2-3CA956294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951C-AF89-41B7-9A1E-E9E40AD60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BECC-84B8-4C3B-8D50-13EC597E7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3782-0D27-4F9A-8BAB-87DA5EBB6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55A8-6AEC-46A3-A2B5-3C0023771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B85A-73A2-451F-82C8-0D2A8A59B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FANTASY SERIES OF ALL TIME, WITH ALMOST HALF A BILLION BOOKS SO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371600" y="762120"/>
            <a:ext cx="6400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THE HIT SONG "ROCK AND ROLL FANTAS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FT  K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33520" y="762120"/>
            <a:ext cx="8076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FANTASY FOOTBALL WEBS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ARDO  MONTALB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85800" y="7621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R. ROURKE ON TV'S "FANTASY ISL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LENNON  &amp;  YOKO  O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162080" y="762120"/>
            <a:ext cx="6819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UO RELEASED THE ALBUM "DOUBLE FANTASY" IN 198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SNEY  CRU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5720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UISE LINE OPERATES THE SHIPS "DREAM", "MAGIC", "WONDER" AND "FANTAS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Y  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95320" y="762120"/>
            <a:ext cx="7353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RIDA CITY HOSTS THE ANNUAL "FANTASY FEST" STREET PAR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OLE 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/ SONGWRITER'S ALBUM "FANTASY" MADE IT TO #6 ON THE CHARTS IN 197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TNEY  SP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085760" y="762120"/>
            <a:ext cx="6972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LIZABETH ARDEN FRAGRANCE "FANTASY" WAS ENDORSED BY WHAT POP ST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FANTASY FOOTBALL WEBSI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Y  ID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ELEASED THE ALBUM "REBEL YELL" CONTAINING THE CHARTING SINGLE "FLESH FOR FANTAS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Y  PO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33480" y="762120"/>
            <a:ext cx="72770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FANTASY SERIES OF ALL TIME, WITH ALMOST HALF A BILLION BOOKS SO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D  COMP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143000" y="762120"/>
            <a:ext cx="6858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THE HIT SONG "ROCK AND ROLL FANTAS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R. ROURKE ON TV'S "FANTASY ISL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200240" y="762120"/>
            <a:ext cx="6743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UO RELEASED THE ALBUM "DOUBLE FANTASY" IN 198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UISE LINE OPERATES THE SHIPS "DREAM", "MAGIC", "WONDER" AND "FANTAS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RIDA CITY HOSTS THE ANNUAL "FANTASY FEST" STREET PAR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/ SONGWRITER'S ALBUM "FANTASY" MADE IT TO #6 ON THE CHARTS IN 197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LIZABETH ARDEN FRAGRANCE "FANTASY" WAS ENDORSED BY WHAT POP ST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ELEASED THE ALBUM "REBEL YELL" CONTAINING THE CHARTING SINGLE "FLESH FOR FANTAS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3-07T14:44:32Z</dcterms:modified>
  <cp:revision>350</cp:revision>
  <dc:subject/>
  <dc:title>Slide 1</dc:title>
</cp:coreProperties>
</file>