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C6C2-1A6B-4061-BD30-759876FE0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1381-BD2B-49D8-93FB-1AAC98F82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2F5F-9920-4743-9055-F2EF7E7C4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A6D0-BE04-43DB-B67C-D8896B03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6789-28FC-42DD-A7D0-400BE30EA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0862-0AF1-456F-9473-028A9CADF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E778-A32E-4B93-9373-A8BEA5C0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C53D-5360-43E7-8FF4-4D576BE01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BB2F-29B1-40B5-AA9F-B217D0A7D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1C68-BBD0-4B45-94AF-992FE876F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DC5B-5664-4D80-86E1-8EFDB1AD3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A522-D906-4CA3-9BEC-8628BCD0A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40C3-F444-4F0B-85DB-33CCCB4D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5882-A659-4452-BC21-2CA56A353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0855-145C-46D1-A0CA-C7ACAA12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9DB9-6E25-4FD9-A1D1-3036F6EB3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31A5-7675-45C1-9FCE-AEDBBC464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4EFE-AE10-4910-87C1-6AEA596E1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28DC-A354-4041-8030-2636D0166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F521-057A-4579-A66B-76A63898D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8767-7A0F-4531-BE2D-344E45A5A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B72B-ACF6-4B04-BCF8-7D12C4F70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E22F-1B46-4072-AB4E-BA68EAD84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A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COMES FROM THE GREEK WORD FOR "DRAG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HAD THE NICKNAME "THE 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762120" y="4952880"/>
            <a:ext cx="7619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NDEL  (AND  HIS  MOTH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PIC POEM "BEOWULF", WHO DID BEOWULF KILL BEFORE KILLING A DRAG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81200" y="762120"/>
            <a:ext cx="7581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KOMODO DRAGON,   THE LARGEST SPECIES    OF LIZARD, CAN ONLY BE FOUN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 /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28560" y="76212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NESE CULTURE, WHAT FRACTION OF YEARS ARE KNOWN AS "THE YEAR OF THE 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THERE BE DRAGONS" IS ABOUT THE CIVIL WAR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DRAGON IN THE "HOBBIT"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ENCE  OF  THE  LA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36680" y="76212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RED DRAGON" STARRING ANTHONY HOPKINS IS A PREQUEL TO WHA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CRA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THE FILM "THE GIRL WITH THE DRAGON TATT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PIC POEM "BEOWULF", WHO DID BEOWULF KILL BEFORE KILLING A DRAG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HJ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CONTAINS THESE DRAG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029200" cy="20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COMES FROM THE GREEK WORD FOR "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523880" y="762120"/>
            <a:ext cx="6096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HAD THE NICKNAME "THE 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KOMODO DRAGON,   THE LARGEST SPECIES    OF LIZARD, CAN ONLY BE FOUND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NESE CULTURE, WHAT FRACTION OF YEARS ARE KNOWN AS "THE YEAR OF THE 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THERE BE DRAGONS" IS ABOUT THE CIVIL WAR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DRAGON IN THE "HOBBIT" MOV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RED DRAGON" STARRING ANTHONY HOPKINS IS A PREQUEL TO WHAT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THE FILM "THE GIRL WITH THE DRAGON TATT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CONTAINS THESE DRAG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5029200" cy="201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6-02T12:29:39Z</dcterms:modified>
  <cp:revision>351</cp:revision>
  <dc:subject/>
  <dc:title>Slide 1</dc:title>
</cp:coreProperties>
</file>