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6B22-4157-4847-B4BA-E54398C2D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AAF6-FDDA-426A-8B5A-617076F0D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8337-B903-4CD2-829E-7B9EBD3FE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E4F9-7B3F-43F4-8CEA-46B9DFFF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E398-AFED-46B4-BCF0-48AD7DBE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671F-6C5E-494B-BB72-0F518863D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338F-90CD-49EC-BEF6-7C9808AC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7FFD-F3AD-4E98-AC56-64B28605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D6C7-5669-4F0C-B610-15820EEE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524F-3AC3-41A8-A3B4-F26E8BFAD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15D2-44D2-45D7-95D9-07D94A0E3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FA19-C29B-41F0-AF97-35AD3DCD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2DE6-FF0D-4082-96E3-447FA50CA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69A8-53CB-47AF-BF56-77A356636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8777-CD6A-4D1F-9D14-CCEFA0B50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36B9-038E-4734-AE17-F0730448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9178-36FF-43A0-A07C-6DD8F50F2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4F2D-8FE5-46D9-BB17-264B96A11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9E28-B887-4586-9575-56F864071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1838-1973-42CF-9B60-F34484F5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BEA0-5B1B-42D7-960B-F1346C31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63BE-2A63-4976-8255-E0D238CF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05BB-409F-4E9C-9103-D3EC7EBE4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G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HAD THE NICKNAME "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762120" y="4952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NDEL  (AND  HIS  MOTH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PIC POEM "BEOWULF", WHO DID BEOWULF KILL BEFORE KILLING A DRA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81200" y="762120"/>
            <a:ext cx="7581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OMODO DRAGON,   THE LARGEST SPECIES    OF LIZARD, CAN ONLY BE FOUN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 /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28560" y="76212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 CULTURE, WHAT FRACTION OF YEARS ARE KNOWN AS "THE YEAR OF 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THERE BE DRAGONS" IS ABOUT THE CIVIL WAR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DRAGON IN THE "HOBBIT"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36680" y="76212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RED DRAGON" STARRING ANTHONY HOPKINS IS A PREQUEL TO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CR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FILM "THE GIRL WITH THE DRAGON TATT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EPIC POEM "BEOWULF", WHO DID BEOWULF KILL BEFORE KILLING A DRA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J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CONTAINS THESE DRAG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029200" cy="201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523880" y="762120"/>
            <a:ext cx="609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HAD THE NICKNAME "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OMODO DRAGON,   THE LARGEST SPECIES    OF LIZARD, CAN ONLY BE FOUND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INESE CULTURE, WHAT FRACTION OF YEARS ARE KNOWN AS "THE YEAR OF THE 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THERE BE DRAGONS" IS ABOUT THE CIVIL WAR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DRAGON IN THE "HOBBIT"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RED DRAGON" STARRING ANTHONY HOPKINS IS A PREQUEL TO WHA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FILM "THE GIRL WITH THE DRAGON TATT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CONTAINS THESE DRAG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057400" y="2743200"/>
            <a:ext cx="5029200" cy="2019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02T12:29:39Z</dcterms:modified>
  <cp:revision>351</cp:revision>
  <dc:subject/>
  <dc:title>Slide 1</dc:title>
</cp:coreProperties>
</file>