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43E2F-E416-49AD-8193-894096497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19236-611A-4DED-84C2-2032A002C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899BE-C586-4040-BDE5-1B5C8E2B6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2255D-A23A-4A26-B5A0-4032FCD5A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5C1CB-C14D-44CE-A5E8-E386C4EE6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82E0E-3AE6-478D-B162-A68E30463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96548-D67B-4F05-BBA4-EAF51FE85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2B2AB-9CA3-4DA0-8173-4F7C3F709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7DE37-7879-4735-9227-DB2830AB6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FA608-A190-433A-A9C6-18F9E0ABB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A3CB6-69A8-4042-A2E1-F3B520C71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43EC8-D278-4E5B-BBCE-6A9478A27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FD078-7E02-4879-98AA-6C7C0EE13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0622B-4AEB-41A1-9055-C223D531F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3E12B-8A4A-4219-965B-962899EED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AE494-3D90-412C-B288-617BDBAE6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5B74B-DE0C-45DD-82B6-8B2546E7F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EC612-78DD-44E6-89C6-C0946B6D3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CA3F9-C9B7-4CA7-A94A-FFEE9AE61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15C02-95F5-4B53-AD70-638070A15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D1B98-DE9E-4598-AB2B-ED6833CDA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F8021-297B-4067-9518-D27C80604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53B2E-CF2E-45C1-8B68-1FA3A2908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143000" y="16761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ME THESE MUSICAL INSTRU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1938240" y="1295280"/>
            <a:ext cx="526752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1806480" y="1295280"/>
            <a:ext cx="5531040" cy="354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572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BO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2184480" y="1295280"/>
            <a:ext cx="477504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50292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U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2149560" y="1295280"/>
            <a:ext cx="484488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920" y="49528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ENCH  HO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2792520" y="1295280"/>
            <a:ext cx="3558960" cy="355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MPANI  or  KETTLE  DR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1233360" y="1295280"/>
            <a:ext cx="667728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CCO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1257480" y="1295280"/>
            <a:ext cx="6629400" cy="348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495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XYLOPH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1467000" y="1295280"/>
            <a:ext cx="621000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495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KULE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519120" y="1295280"/>
            <a:ext cx="8105760" cy="30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184480" y="1295280"/>
            <a:ext cx="477504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51000" y="49528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EL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247240" cy="31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PSICH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1938240" y="1295280"/>
            <a:ext cx="526752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T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1806480" y="1295280"/>
            <a:ext cx="5531040" cy="354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149560" y="1295280"/>
            <a:ext cx="484488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792520" y="1295280"/>
            <a:ext cx="3558960" cy="355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233360" y="1295280"/>
            <a:ext cx="667728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1257480" y="1295280"/>
            <a:ext cx="6629400" cy="348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467000" y="1295280"/>
            <a:ext cx="621000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519120" y="1295280"/>
            <a:ext cx="810576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247240" cy="3124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2-04-27T13:55:29Z</dcterms:modified>
  <cp:revision>289</cp:revision>
  <dc:subject/>
  <dc:title>Slide 1</dc:title>
</cp:coreProperties>
</file>