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0777-5260-4949-88F8-1AB21D2CC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B7F2-DDE8-4B3C-8CDF-272D15BA8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1CF7-BF8D-4E6B-98B9-31F9D6B37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4663-2678-4543-96C2-10C1B2C45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CBA2-F28A-46D8-91EB-ECD129935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3DEE-DBC4-45E0-B21B-360F198CA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A6C7-47F3-4FC8-B909-331C3D894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7782-67A6-4E9A-A798-15CA7EACC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34C2-7194-495C-B147-89CFF1AB1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1ACC-F97A-4BB4-A9DA-2170D8D5E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ED78-C4B4-4775-9C13-667F62817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F64C-E2CB-4152-BEDE-4ABC7AC17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EF82-590F-48F6-B05F-5D6D3DB00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90E8-71D6-4ED8-BF7D-9B3C4BC6D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0124-5C2A-4541-93EA-82B8C7051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7BD2-C92E-467F-8364-08D217944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2274-C63C-4D02-9E08-E598D4B3C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103B-C4C0-4D94-95E3-F3B426FCC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F560-723E-4F0D-8E78-8A6D6169B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FC29-C8D6-435D-B44E-F737FDA7D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611E-C708-4482-A774-33E13C90E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F3B1-B91C-4272-A6DC-D987A1542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69DC-C4E6-4AAB-8F9D-DAA5D4FF7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MUSICAL INSTRU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938240" y="1295280"/>
            <a:ext cx="52675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806480" y="1295280"/>
            <a:ext cx="5531040" cy="35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B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184480" y="1295280"/>
            <a:ext cx="47750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149560" y="1295280"/>
            <a:ext cx="48448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NCH  H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792520" y="1295280"/>
            <a:ext cx="3558960" cy="35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PANI  or  KETTLE  D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233360" y="1295280"/>
            <a:ext cx="66772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CCO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257480" y="1295280"/>
            <a:ext cx="6629400" cy="348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XYLO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467000" y="1295280"/>
            <a:ext cx="62100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KUL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519120" y="1295280"/>
            <a:ext cx="810576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184480" y="1295280"/>
            <a:ext cx="47750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5100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4724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PSICH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938240" y="1295280"/>
            <a:ext cx="52675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806480" y="1295280"/>
            <a:ext cx="5531040" cy="354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149560" y="1295280"/>
            <a:ext cx="48448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792520" y="1295280"/>
            <a:ext cx="3558960" cy="35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233360" y="1295280"/>
            <a:ext cx="66772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257480" y="1295280"/>
            <a:ext cx="6629400" cy="34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467000" y="1295280"/>
            <a:ext cx="62100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519120" y="1295280"/>
            <a:ext cx="810576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47240" cy="312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4-27T13:55:29Z</dcterms:modified>
  <cp:revision>289</cp:revision>
  <dc:subject/>
  <dc:title>Slide 1</dc:title>
</cp:coreProperties>
</file>