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D4D9-5D7B-4842-9617-C08D75AE5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2A61-2ED2-4328-81D0-6BB00A8D6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1D46-BF19-4C3C-A226-D98265E62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F8EC-D3F2-4040-957C-25A7C802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5AEB-2B39-46D7-948A-3747B671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EEA9-3854-43E8-A4AA-D05D02552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B5A4-EDBF-41C0-BE83-AE1E19F7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9785-6316-4886-98F6-9E4637531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4004-549A-4178-AE0F-7E4DDC39F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010C-09EE-49D5-AA3C-2067E3595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E5A7-FB27-43BC-8D64-AD4AF76A9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D435-B17C-4546-8680-7AF4A0050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2467-E544-4E1E-93E8-D17C8D1D5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3027-784D-4227-9B4E-1F2721DE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63A1-E727-4E74-8F34-5ADB13B46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DC75-A081-434B-BA3A-E0268A6B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26AC-E9BA-4257-9686-97D7166A1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0B22-DB16-4472-8644-A8F1442CA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C9E93-6702-452A-81F2-03B577E10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4074-290B-4C98-B1B7-818A3F9AA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EDE9-E6F8-4785-A2CF-59D379B02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D442-1F6E-4B08-8EBC-D63AF7D79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5FE8-B451-4772-8972-724621FED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6F03-8F3D-4B6D-8A74-AE7556E2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68200" y="761760"/>
            <a:ext cx="860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THE ACTORS CARROLL O'CONNOR AND JEAN STAPLETON SING DURING THE OPENING CREDITS FOR THE SITCOM "ALL IN THE 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CONSECUTIVE EMMY AWARDS FOR PLAYING ALEX P. KEATING ON THE SITCOM "FAMILY 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68280" y="762120"/>
            <a:ext cx="840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SLY AND THE FAMILY STONE CONTAINED THE LYRICS "DIFFERENT STROKES FOR DIFFERENT FOL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8640" y="762120"/>
            <a:ext cx="7146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S, WHAT IS A SUBDIVISION OF A FAMI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H  MACFAR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20840" y="762120"/>
            <a:ext cx="8278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ANIMATED SERIES "FAMILY GUY", AND DOES THE VOICES FOR PETER, BRIAN, AND STEW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360440" y="762120"/>
            <a:ext cx="642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UGHTER IN "THE ADDAMS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DAW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001880" y="762120"/>
            <a:ext cx="71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HOST OF THE GAME SHOW "FAMILY FE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38280" y="762120"/>
            <a:ext cx="7867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UGHTER IN THE COMIC STRIP "THE FAMILY CIRC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WS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76040" y="762120"/>
            <a:ext cx="879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, THAT THE SERIES "THE PARTRIDGE FAMILY" WAS BASED ON, SANG THE TITLE TRACK TO THE MUSICAL "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STER  S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731880" y="762120"/>
            <a:ext cx="768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SONG "WE ARE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SE  WERE  THE  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THE ACTORS CARROLL O'CONNOR AND JEAN STAPLETON SING DURING THE OPENING CREDITS FOR THE SITCOM "ALL IN THE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.  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CONSECUTIVE EMMY AWARDS FOR PLAYING ALEX P. KEATING ON THE SITCOM "FAMILY 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DAY 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080" y="762120"/>
            <a:ext cx="905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SLY AND THE FAMILY STONE CONTAINED THE LYRICS "DIFFERENT STROKES FOR DIFFERENT FOL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8160" y="762120"/>
            <a:ext cx="7267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TAXONOMIC RANKS, WHAT IS A SUBDIVISION OF A FAMI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ANIMATED SERIES "FAMILY GUY", AND DOES THE VOICES FOR PETER, BRIAN, AND STEW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62160" y="762120"/>
            <a:ext cx="6618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UGHTER IN  "THE ADDAMS FAMI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57320" y="762120"/>
            <a:ext cx="702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HOST OF THE GAME SHOW "FAMILY FE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7120" y="762120"/>
            <a:ext cx="788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AUGHTER IN THE COMIC STRIP "THE FAMILY CIRC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, THAT THE SERIES "THE PARTRIDGE FAMILY" WAS BASED ON, SANG THE TITLE TRACK TO THE MUSICAL "H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6680" y="761760"/>
            <a:ext cx="826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SONG "WE ARE FAMI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11T18:18:57Z</dcterms:modified>
  <cp:revision>380</cp:revision>
  <dc:subject/>
  <dc:title>Slide 1</dc:title>
</cp:coreProperties>
</file>