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016F-7C20-446F-9895-3514F8B43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88E8-20C7-4236-AD9E-11AAFEF2A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8340-1778-4B7D-AC86-516DC8E05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4861-B5B7-47EB-BE7A-EC716076D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1128-191A-4D77-A1EA-4EBF7FC37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4363-D64C-4071-9B3E-473051685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BA05-FE5F-46E7-8ED1-E60E8CD4A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5CD2-9E82-4EA2-85B9-48B9A8FB3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94EE-DC1C-4A2D-9D93-A983C5ECE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3090-3A57-4F78-9F66-DF83B7185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61EB-3FFF-457C-A063-88E532B24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25A3-9829-4328-BA89-DDCC6CF7F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8D08-C4D0-42E4-9CA4-773AF5A79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D4DD-217D-4843-A4F9-4D526DB76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B280-B9BC-4A3B-A624-7CC09BEE8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4FD0-8DFD-4E5A-99E1-DDFED569B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5F31-EF6D-48E6-A576-D494B178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8AE6-7225-454B-8062-52EF2ACAB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CFEE-CBE7-479D-BB26-7F22175C4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0AC7-65EC-40B2-A41E-53E37A028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0ECE-532F-4BFD-8209-287327234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D557-DEC0-4A9C-A378-5E19E9775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3654-49E8-4FCF-A41D-EEFA0E286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FEC7-06D8-46FE-888E-FA44421D5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68200" y="761760"/>
            <a:ext cx="860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THE ACTORS CARROLL O'CONNOR AND JEAN STAPLETON SING DURING THE OPENING CREDITS FOR THE SITCOM "ALL IN THE FAMI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CONSECUTIVE EMMY AWARDS FOR PLAYING ALEX P. KEATING ON THE SITCOM "FAMILY T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68280" y="762120"/>
            <a:ext cx="840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SLY AND THE FAMILY STONE CONTAINED THE LYRICS "DIFFERENT STROKES FOR DIFFERENT FOL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98640" y="762120"/>
            <a:ext cx="7146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TAXONOMIC RANKS, WHAT IS A SUBDIVISION OF A FAMI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H  MACFAR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20840" y="762120"/>
            <a:ext cx="8278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ANIMATED SERIES "FAMILY GUY", AND DOES THE VOICES FOR PETER, BRIAN, AND STEW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360440" y="762120"/>
            <a:ext cx="642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AUGHTER IN "THE ADDAMS 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DAW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001880" y="762120"/>
            <a:ext cx="713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HOST OF THE GAME SHOW "FAMILY FE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38280" y="762120"/>
            <a:ext cx="7867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AUGHTER IN THE COMIC STRIP "THE FAMILY CIRC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WS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76040" y="762120"/>
            <a:ext cx="879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, THAT THE SERIES "THE PARTRIDGE FAMILY" WAS BASED ON, SANG THE TITLE TRACK TO THE MUSICAL "H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STER  S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31880" y="762120"/>
            <a:ext cx="7680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SONG "WE ARE 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SE  WERE  THE  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THE ACTORS CARROLL O'CONNOR AND JEAN STAPLETON SING DURING THE OPENING CREDITS FOR THE SITCOM "ALL IN THE 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. 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CONSECUTIVE EMMY AWARDS FOR PLAYING ALEX P. KEATING ON THE SITCOM "FAMILY T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YDAY 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080" y="762120"/>
            <a:ext cx="905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SLY AND THE FAMILY STONE CONTAINED THE LYRICS "DIFFERENT STROKES FOR DIFFERENT FOL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38160" y="762120"/>
            <a:ext cx="7267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TAXONOMIC RANKS, WHAT IS A SUBDIVISION OF A FAMIL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92200" y="76176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ANIMATED SERIES "FAMILY GUY", AND DOES THE VOICES FOR PETER, BRIAN, AND STEW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62160" y="762120"/>
            <a:ext cx="6618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AUGHTER IN  "THE ADDAMS 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57320" y="762120"/>
            <a:ext cx="702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HOST OF THE GAME SHOW "FAMILY FE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AUGHTER IN THE COMIC STRIP "THE FAMILY CIRC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, THAT THE SERIES "THE PARTRIDGE FAMILY" WAS BASED ON, SANG THE TITLE TRACK TO THE MUSICAL "HAI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6680" y="761760"/>
            <a:ext cx="826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SONG "WE ARE FAMI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9-11T18:18:57Z</dcterms:modified>
  <cp:revision>380</cp:revision>
  <dc:subject/>
  <dc:title>Slide 1</dc:title>
</cp:coreProperties>
</file>