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2EBC-3B78-47C0-9F7F-E2E27EC2A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F708-D104-49FC-97E3-5350DAA5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FFE-4247-423C-9294-287ABECD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4958-69DA-46AE-9DDA-BD971576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B8A1-64AC-4996-990E-F15408A1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90AC-F9DC-407B-B8D3-D0492381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23A-2A52-4E5D-B3E7-D01B13B4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B180-4A4A-42B2-AC9F-1C59815B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F96F-99D8-4B47-81D0-A86CA8E3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F56C-1F0B-4839-AE8D-B1F05911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9BD-86A0-4984-9FBC-9D1054D3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212-A81A-4037-91CD-C6A30B5B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68F1-F407-4656-A8DF-4FAFEA59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F1D-4832-4976-AC5D-F52AC6FF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FF51-5978-4B1F-857B-519E8F839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936-AE7C-46CC-9C68-02D84B8F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F7D-377E-464F-BA84-B436DEDB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C9E-D150-41B3-94CE-D993764F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EE84-0381-40DE-AA64-A9813E72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FBFC-C715-4C66-97AC-FAFC1F69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3015-CC48-475D-BC74-C290D57E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B4A-C675-4F08-81E1-2C1E4205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361-F7CB-448D-A47E-AC1CEF6C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876920"/>
            <a:ext cx="7162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 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  1960, 196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S. 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9056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CH  AND  CH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ZE 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1960, 196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8:39:30Z</dcterms:created>
  <dc:creator>Jennifer Budzinski</dc:creator>
  <dc:description/>
  <dc:language>en-US</dc:language>
  <cp:lastModifiedBy>Erich Friedman</cp:lastModifiedBy>
  <dcterms:modified xsi:type="dcterms:W3CDTF">2020-09-04T13:33:45Z</dcterms:modified>
  <cp:revision>324</cp:revision>
  <dc:subject/>
  <dc:title>Slide 1</dc:title>
</cp:coreProperties>
</file>