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7C82-27BA-492B-9B62-2B737E452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0735-A021-42A0-BF8E-C906ABDED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B220-2081-4D63-9472-99809FD12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D9F4-0757-4ECE-9549-21DEF369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6430-8406-48FD-9935-FBE40DF2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D8D0-8820-4925-B398-698981586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1B11-E633-4221-95F9-30B36C1B6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0398-1D50-4002-B84D-3F576706E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3EB-DBD9-47A2-AAD8-92B38C6E8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4965-A336-48EC-8E71-1DB6A27E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286A-C817-4826-B81A-084A78A73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1BC-77FB-4EBE-AD3D-99CDDCA2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9554-7700-4AD9-8FF2-6413544F1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4DBC-6214-4BDA-B4CA-B1828F1A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38CA-3256-42CD-8E02-A4A45556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A2F8-69C0-4A3E-886B-02382953A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53B7-0F95-4C27-BD6C-CC4F467DB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6497-CC8C-47E4-A3EE-E01FAA68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00C1-4D08-44CD-AC71-BDD52971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EAE0-4A75-460E-8150-9C8C649B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6695-1800-477B-8ADE-93811023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F488-7B9A-4294-9F5E-A8D132FDE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7D12-9289-40A0-802E-6A1C74F20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RCHAEOLOGY, WHAT AGE FOLLOWED THE STONE 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RTIST SAID "EVERY BLOCK OF STONE HAS A STATUE INSIDE IT,    AND IT IS THE TASK OF THE SCULPTOR TO DISCOVER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14400" y="4876920"/>
            <a:ext cx="7162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ARE IN ONE BRITISH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HS 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ALE CALLED THAT MEASURES HARDNESS OF VARIOUS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ASIAN GAME IS PLAYED WITH BLACK AND WHITE PIECES CALLED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RE THE ROLLING STONES FORMED?      1960, 1962, OR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STONES" IN 1971, CONTAINING THE HIT SONG "I AM... I S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ER  S. 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9056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 WAS FIRST KNOWN FOR ITS MUSIC COVERAGE AND ITS POLITICAL REPORTING BY WHAT GONZO JOURNA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CH  AND  CH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ITERATIVE COMEDY DUO WERE FAMOUS FOR BEING OR ACTING STO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ARE IN ONE BRITISH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STONE MOUNTAIN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ONZE  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RCHAEOLOGY, WHAT AGE FOLLOWED THE STONE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ANG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RTIST SAID "EVERY BLOCK OF STONE HAS A STATUE INSIDE IT,    AND IT IS THE TASK OF THE SCULPTOR TO DISCOVER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ALE CALLED THAT MEASURES HARDNESS OF VARIOUS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ASIAN GAME IS PLAYED WITH BLACK AND WHITE PIECES CALLED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RE THE ROLLING STONES FORMED?    1960, 1962, OR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STONES" IN 1971, CONTAINING THE HIT SONG "I AM... I S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 WAS FIRST KNOWN FOR ITS MUSIC COVERAGE AND ITS POLITICAL REPORTING BY WHAT GONZO JOURNAL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ITERATIVE COMEDY DUO WERE FAMOUS FOR BEING OR ACTING STO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STONE MOUNTAIN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18:39:30Z</dcterms:created>
  <dc:creator>Jennifer Budzinski</dc:creator>
  <dc:description/>
  <dc:language>en-US</dc:language>
  <cp:lastModifiedBy>Erich Friedman</cp:lastModifiedBy>
  <dcterms:modified xsi:type="dcterms:W3CDTF">2020-09-04T13:33:45Z</dcterms:modified>
  <cp:revision>324</cp:revision>
  <dc:subject/>
  <dc:title>Slide 1</dc:title>
</cp:coreProperties>
</file>