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73E7-A670-447B-9DCE-A0C24F4AF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E660-3A44-487C-84B3-CD20F3679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B477-5E0A-4AA6-8A9E-1870641C5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0729-CC11-4FDB-94F4-E2DFFFCAE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F2DF-BAE0-42F8-B419-E7E9012BA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6058-55FB-4456-883D-42124B7F6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E4E0-7451-4B77-8214-71814ED5A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FB91-DDE7-4DA4-AA2C-A6722BE94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6674-040D-44CA-B1FF-AB913B2C9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DB749-AB71-4161-8F24-AE18CC0AA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D8A2-B405-45A9-B8D7-9214A488E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A1DA-C94F-4035-8496-420D482BC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5D62-4B57-4C28-BF44-F4D38ED8E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CFC3-29A3-4A35-900C-45D4E4F1A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D2EF-78AD-47B1-8F3E-F99DE1CA0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CB7A-C35D-4496-B781-3F406138A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3E31-5A99-407A-8E00-7A4F5AEB2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2877-13F6-4738-9677-7383D5D92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6831-8B6F-47C7-84B5-6D6C10488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FFF3-0C7C-42C7-BA4C-692E91D6E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B7AA-0976-42C5-8750-9EE120AE7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EF35-E73A-42CD-B8B8-944ECE001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2FB6-4BD4-4241-B918-A9769841C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RCHAEOLOGY, WHAT AGE FOLLOWED THE STONE 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ARTIST SAID "EVERY BLOCK OF STONE HAS A STATUE INSIDE IT,    AND IT IS THE TASK OF THE SCULPTOR TO DISCOVER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14400" y="4876920"/>
            <a:ext cx="7162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UNDS ARE IN ONE BRITISH 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HS 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ALE CALLED THAT MEASURES HARDNESS OF VARIOUS 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CIENT ASIAN GAME IS PLAYED WITH BLACK AND WHITE PIECES CALLED 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ERE THE ROLLING STONES FORMED?      1960, 1962, OR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LEASED THE ALBUM "STONES" IN 1971, CONTAINING THE HIT SONG "I AM... I S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TER  S. 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9056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AZINE WAS FIRST KNOWN FOR ITS MUSIC COVERAGE AND ITS POLITICAL REPORTING BY WHAT GONZO JOURNAL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CH  AND  CH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ITERATIVE COMEDY DUO WERE FAMOUS FOR BEING OR ACTING STO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09800" y="762120"/>
            <a:ext cx="7124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UNDS ARE IN ONE BRITISH 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076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U.S. STATE IS STONE MOUNTAIN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ONZE  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RCHAEOLOGY, WHAT AGE FOLLOWED THE STONE 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ANGE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ARTIST SAID "EVERY BLOCK OF STONE HAS A STATUE INSIDE IT,    AND IT IS THE TASK OF THE SCULPTOR TO DISCOVER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ALE CALLED THAT MEASURES HARDNESS OF VARIOUS 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CIENT ASIAN GAME IS PLAYED WITH BLACK AND WHITE PIECES CALLED 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ERE THE ROLLING STONES FORMED?    1960, 1962, OR 196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LEASED THE ALBUM "STONES" IN 1971, CONTAINING THE HIT SONG "I AM... I S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AZINE WAS FIRST KNOWN FOR ITS MUSIC COVERAGE AND ITS POLITICAL REPORTING BY WHAT GONZO JOURNAL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ITERATIVE COMEDY DUO WERE FAMOUS FOR BEING OR ACTING STO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U.S. STATE IS STONE MOUNTAIN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1T18:39:30Z</dcterms:created>
  <dc:creator>Jennifer Budzinski</dc:creator>
  <dc:description/>
  <dc:language>en-US</dc:language>
  <cp:lastModifiedBy>Erich Friedman</cp:lastModifiedBy>
  <dcterms:modified xsi:type="dcterms:W3CDTF">2020-09-04T13:33:45Z</dcterms:modified>
  <cp:revision>324</cp:revision>
  <dc:subject/>
  <dc:title>Slide 1</dc:title>
</cp:coreProperties>
</file>