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EF44-4C93-45F8-94A2-8285BB72C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94BAD-094D-4765-A120-A2A927621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386F-3AE2-44D6-99FA-CB82C6B46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537A-333C-4596-BD1A-9253D23C5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2171-365C-41E7-9E6E-AF6101518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DFD9-4BD5-4AD7-B4E4-168A6A110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9E5A-4F7A-49F7-AF9F-091B6D3FC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9876-0D8A-432F-BF3B-13BB813DE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69DA-360E-40B8-B763-8C8930456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68A5-860C-429E-8986-A99AA780F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0386-64CF-4C23-8192-63C6ED7BE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25A4-824F-4E7E-BA04-006DDFA43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F5DF-5A4E-454D-878B-C607D61A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3626-99C8-487A-869D-A48939739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086-E0B0-4CD6-9D0B-F102638CE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ACA8-8670-41FE-B3C2-1EC5734F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AA0D-2DC9-486B-ADF3-81850BC7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7AF5-4BDE-4825-9AE1-E4AB82A41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1921-A1AE-4092-A476-5CF827E23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FBAA-E17F-4768-9729-443281E0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1B0-E4F5-4518-BF1B-38180AC01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8DE1-F7BA-41DC-A52B-D6F86E42A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2769-2A38-4D81-82A9-C5043B52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ULL-SIZED SPACE SHUTTLES WERE BU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71600" y="762120"/>
            <a:ext cx="82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DJUSTED FOR INFLATION, THE HIGHEST-GROSSING VIDEO GAME OF ALL TIME IS SPACE INV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731880" y="762120"/>
            <a:ext cx="7680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WHAT YEAR HAS     THE INTERNATIONAL   SPACE STATION BEEN CONTINUOUSLY OCCUPIED? 1995, 2000, OR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311040" y="762120"/>
            <a:ext cx="8521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SEQUENCE OF WHAT SCIENCE FICTION TV SERIES BEGAN WITH THE WORDS "SPACE, THE FINAL FRONTI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84200" y="762120"/>
            <a:ext cx="817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THIS ALBUM TITLED "HOT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ON  MU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38160" y="762120"/>
            <a:ext cx="72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COMPANY "SPACE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PACE NEEDLE IN SEATTLE WAS ONCE THE TALLEST BUILDING IN THE U.S. WEST OF THE MISSISSIPPI RI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60200" y="762120"/>
            <a:ext cx="882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FAMILY PORTRAYED ON THE TV SERIES "LOST IN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SONG "SPACE ODD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90120" y="762120"/>
            <a:ext cx="7761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NCE WHAT YEAR HAS     THE INTERNATIONAL   SPACE STATION BEEN CONTINUOUSLY OCCUPIED? 1995, 2000, OR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5748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LEGEND STARRED IN THE FILM "SPACE J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69880" y="762120"/>
            <a:ext cx="8004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ULL-SIZED SPACE SHUTTLES WERE BU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7304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DJUSTED FOR INFLATION, THE HIGHEST-GROSSING VIDEO GAME OF ALL TIME IS SPACE INVAD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86920" y="761760"/>
            <a:ext cx="8567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TITLE SEQUENCE OF WHAT SCIENCE FICTION TV SERIES BEGAN WITH THE WORDS "SPACE, THE FINAL FRONTI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66560" y="7621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PUT OUT THIS ALBUM TITLED "HOT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62240" y="274320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66880" y="762120"/>
            <a:ext cx="74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COMPANY "SPACE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0280" y="762120"/>
            <a:ext cx="8082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SPACE NEEDLE IN SEATTLE WAS ONCE THE TALLEST BUILDING IN THE U.S. WEST OF THE MISSISSIPPI RI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8520" y="761760"/>
            <a:ext cx="888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LAST NAME OF THE FAMILY PORTRAYED ON THE TV SERIES "LOST IN SP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AND SANG THE SONG "SPACE ODD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220760" y="761760"/>
            <a:ext cx="670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KETBALL LEGEND STARRED IN THE FILM "SPACE J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0T12:48:14Z</dcterms:modified>
  <cp:revision>375</cp:revision>
  <dc:subject/>
  <dc:title>Slide 1</dc:title>
</cp:coreProperties>
</file>