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6549-AF82-4E76-8904-71A7EA159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3FA6-1D50-4590-BF08-45FCE636D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98B6-13E0-4E17-9F4E-D055E86BA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0F6E-B5FC-461D-93B6-6A5D28A84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2ECA-04D6-49BB-BCDF-C5E324710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25FA-8537-47DA-8C1C-04C55FF00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CC9F-CF91-4363-94EF-A6266B27D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4ADC-CF38-4BE8-835A-5FDBB55D6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D605-DA41-4793-A8C2-D7A5CBEF9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3584-4B65-41D1-A131-95B19CEBE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B24D-5612-4EB4-B639-04B333175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B4E3-C547-4453-9D01-926F0B8D9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9D23-A437-41EA-B4CE-EF3208B55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6A08-E3B4-4F79-BFB3-B8B12E163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F75E-8C9D-4069-95A6-BA6636B10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C547-DF50-4C68-AB67-B68352B00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3C12-17FD-409B-9CDA-63424F1F8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D396-4C04-4EEC-94F1-2CE3024A2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1DFA-529D-4554-81A4-51B750A64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DA71-E084-4968-A081-81FED18A2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8ACF-E6F1-4A03-A831-28509FE7E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2087-C74F-474C-9EA4-2E3F142BF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8D0F-AF15-4BDD-9D99-8FE6AEAA5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FULL-SIZED SPACE SHUTTLES WERE BUIL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71600" y="762120"/>
            <a:ext cx="8200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DJUSTED FOR INFLATION, THE HIGHEST-GROSSING VIDEO GAME OF ALL TIME IS SPACE INVAD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731880" y="762120"/>
            <a:ext cx="7680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NCE WHAT YEAR HAS     THE INTERNATIONAL   SPACE STATION BEEN CONTINUOUSLY OCCUPIED? 1995, 2000, OR 200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R  TR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311040" y="762120"/>
            <a:ext cx="85219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ITLE SEQUENCE OF WHAT SCIENCE FICTION TV SERIES BEGAN WITH THE WORDS "SPACE, THE FINAL FRONTI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484200" y="762120"/>
            <a:ext cx="8175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PUT OUT THIS ALBUM TITLED "HOT SPA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3429000" y="26668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ON  MU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938160" y="762120"/>
            <a:ext cx="7267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THE COMPANY "SPACEX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SPACE NEEDLE IN SEATTLE WAS ONCE THE TALLEST BUILDING IN THE U.S. WEST OF THE MISSISSIPPI RI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I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60200" y="762120"/>
            <a:ext cx="8823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E FAMILY PORTRAYED ON THE TV SERIES "LOST IN SPA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  BO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07880" y="762120"/>
            <a:ext cx="8326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AND SANG THE SONG "SPACE ODDI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90120" y="762120"/>
            <a:ext cx="7761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NCE WHAT YEAR HAS     THE INTERNATIONAL   SPACE STATION BEEN CONTINUOUSLY OCCUPIED? 1995, 2000, OR 200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JORD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257480" y="762120"/>
            <a:ext cx="6629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SKETBALL LEGEND STARRED IN THE FILM "SPACE JA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69880" y="762120"/>
            <a:ext cx="80042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FULL-SIZED SPACE SHUTTLES WERE BUIL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47304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DJUSTED FOR INFLATION, THE HIGHEST-GROSSING VIDEO GAME OF ALL TIME IS SPACE INVAD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86920" y="761760"/>
            <a:ext cx="8567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ITLE SEQUENCE OF WHAT SCIENCE FICTION TV SERIES BEGAN WITH THE WORDS "SPACE, THE FINAL FRONTI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66560" y="762120"/>
            <a:ext cx="8209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PUT OUT THIS ALBUM TITLED "HOT SPA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162240" y="274320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66880" y="762120"/>
            <a:ext cx="7410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THE COMPANY "SPACEX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0280" y="762120"/>
            <a:ext cx="8082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SPACE NEEDLE IN SEATTLE WAS ONCE THE TALLEST BUILDING IN THE U.S. WEST OF THE MISSISSIPPI RI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8520" y="761760"/>
            <a:ext cx="888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E FAMILY PORTRAYED ON THE TV SERIES "LOST IN SPA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79440" y="761760"/>
            <a:ext cx="8383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AND SANG THE SONG "SPACE ODDI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220760" y="761760"/>
            <a:ext cx="6702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SKETBALL LEGEND STARRED IN THE FILM "SPACE JA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2-07-10T12:48:14Z</dcterms:modified>
  <cp:revision>375</cp:revision>
  <dc:subject/>
  <dc:title>Slide 1</dc:title>
</cp:coreProperties>
</file>