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FC79-833E-46C5-B21E-3EA684C8A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4E77-EB07-4C58-8C4B-DE4371C27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6842-6747-4C09-AB38-A03D8DE12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53A1-E32C-47BB-8F0F-D100DA272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89F0-9C66-4899-B75D-B6E15644E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7890-5637-45C2-ADC4-4C1BEC2F2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55FA-09C6-426C-8131-1389EBC3F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5A44-A8F6-45C7-B1D5-C489CE56F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84B9-1BDC-4DFA-A88F-25AEFC3D6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55B5-25F2-4463-B583-4B3A1983A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15D6-7093-45BA-AE68-1CCE8F039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DA6A-1FC1-459A-902A-B517F3385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927D-541A-4564-801F-FA2B9182A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9854-87E6-43A6-A22D-099443391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D431-F76D-476B-944E-272E54DE6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1E13-139A-42E6-8274-4121D3614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AF63-748E-42AB-B497-40952478E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2F30-BDF7-44E7-B783-3A91F5E38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0A76-56B4-4FA8-8745-90EF54454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E10F-7FBB-4863-9AE3-95B11A0DE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8D61-2375-4863-A347-1907743B0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7215-EDC8-40D6-B4D7-C13CEB34F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FEF1-D4E0-4792-92AC-C2DD48946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58D2-3F92-4490-A36F-32F44A31D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5920" y="762120"/>
            <a:ext cx="8372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FILM WITH "MAD" IN THE TITLE MADE 300 TIMES WHAT IT COST TO M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2360" y="761760"/>
            <a:ext cx="8639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BAND HAD THEIR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T IN 1982 WITH THE SONG "MAD WORLD", BEFORE IT WAS COVERED IN 2001 BY MICHAEL ANDREWS AND GARY JU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WIFE ON THE 8-SEASON SITCOM "MAD ABOUT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2019240" y="495288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FRED  E.  NEU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262160" y="762120"/>
            <a:ext cx="6618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ASCOT OF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MAD MAGAZ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AN  AND  DI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995400" y="762120"/>
            <a:ext cx="7153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PECTOR GADGET'S MAIN NEMESIS WAS M.A.D.  WHAT DID THIS ACRONYM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–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06200" y="762120"/>
            <a:ext cx="8931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 / R&amp;B SINGER'S 2008 SONG "MAD" REACHED #3 ON BILLBOARD'S RHYTHMIC CH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71360" y="4952880"/>
            <a:ext cx="8801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TUALLY  ASSURED  DE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85640" y="762120"/>
            <a:ext cx="817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ACRONYM M.A.D. MEAN IN THE CONTEXT OF NUCLEAR DETERR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95288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671400" y="762120"/>
            <a:ext cx="7799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EASE'S NAME COMES FROM THE LATIN WORD FOR "MAD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NCER  T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PLAYED THE POLICE CAPTAIN WHO ENDS UP WITH THE MONEY AT THE END OF "IT'S A MAD, MAD, MAD, MAD WOR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HAM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14280" y="762120"/>
            <a:ext cx="8515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WOMANIZING MAIN CHARACTER OF DON DRAPER ON "MAD M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80880" y="49528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  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395280" y="762120"/>
            <a:ext cx="83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FILM WITH "MAD" IN THE TITLE MADE 300 TIMES WHAT IT COST TO M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ARS  FOR  F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380880" y="762120"/>
            <a:ext cx="838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BAND HAD THEIR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T IN 1982 WITH THE SONG "MAD WORLD", BEFORE IT WAS COVERED IN 2001 BY MICHAEL ANDREWS AND GARY JU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EN  H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781200" y="762120"/>
            <a:ext cx="758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WIFE ON THE 8-SEASON SITCOM "MAD ABOUT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46320" y="762120"/>
            <a:ext cx="6651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ASCOT OF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MAD MAGAZ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20240" y="761760"/>
            <a:ext cx="71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PECTOR GADGET'S MAIN NEMESIS WAS M.A.D.  WHAT DID THIS ACRONYM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23840" y="762120"/>
            <a:ext cx="8896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 / R&amp;B SINGER'S 2008 SONG "MAD" REACHED #3 ON BILLBOARD'S RHYTHMIC CH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ACRONYM M.A.D. MEAN IN THE CONTEXT OF NUCLEAR DETERR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19200" y="762120"/>
            <a:ext cx="7905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EASE'S NAME COMES FROM THE LATIN WORD FOR "MADN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44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PLAYED THE POLICE CAPTAIN WHO ENDS UP WITH THE MONEY AT THE END OF "IT'S A MAD, MAD, MAD, MAD WOR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WOMANIZING MAIN CHARACTER OF DON DRAPER ON "MAD M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7-15T14:36:37Z</dcterms:modified>
  <cp:revision>418</cp:revision>
  <dc:subject/>
  <dc:title>Slide 1</dc:title>
</cp:coreProperties>
</file>