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C908-59B2-4DCA-A942-948C9F622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1025-18AE-40C7-995A-7A48836D6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6E8E-EEE4-41B3-BE7E-15F60F4A1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F698-B6DF-4B82-B4F5-2101FD6D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1BB1-92D6-4C85-8DC3-47DD9C52E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0DD3-D1DB-469A-BB48-989A9F8FA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1B56-5CAE-42BE-8E6F-042BF701D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E2E9-D6D2-4067-A497-929A1DF88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2345-0A90-4942-9D79-866A3706D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0392-02D6-425C-BE06-6B8F9826B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226A-F75A-463E-8216-D8DD26EFA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109C-21C3-41C2-9749-53DBC6297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6C8B-27B5-4253-9138-E5CC78E87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9D96-ED82-48FB-8B92-0D7ECFC59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DE49-D6C5-49E9-9E7C-16B44F78A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DC87-0979-4245-A119-83DE1F9EE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4060-622D-4090-A9C0-38A1954C5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CF5B-2337-42CC-985A-4C7BCAF12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5871-FB4B-49E6-BF5E-7936D5551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55B2-A45C-45F7-AC50-ED0E92D17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15B6-5807-4594-AE24-4DF320226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2585-EE13-4780-8F46-68A7D154D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A400-9089-49F2-8FF2-085A9CA48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7C5F-A469-4334-BC2E-79BC163D9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5920" y="762120"/>
            <a:ext cx="8372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FILM WITH "MAD" IN THE TITLE MADE 300 TIMES WHAT IT COST TO M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BAND HAD THEI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IN 1982 WITH THE SONG "MAD WORLD", BEFORE IT WAS COVERED IN 2001 BY MICHAEL ANDREWS AND GARY JU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FE ON THE 8-SEASON SITCOM "MAD ABOU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019240" y="49528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E.  NEU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262160" y="762120"/>
            <a:ext cx="661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SCOT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MAD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AN  AND  DI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95400" y="762120"/>
            <a:ext cx="715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OR GADGET'S MAIN NEMESIS WAS M.A.D.  WHAT DID THIS ACRONYM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–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6200" y="762120"/>
            <a:ext cx="893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/ R&amp;B SINGER'S 2008 SONG "MAD" REACHED #3 ON BILLBOARD'S RHYTHMIC CH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71360" y="4952880"/>
            <a:ext cx="8801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TUALLY  ASSURED  DE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85640" y="762120"/>
            <a:ext cx="817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M.A.D. MEAN IN THE CONTEXT OF NUCLEAR DETERR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952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B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71400" y="762120"/>
            <a:ext cx="779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'S NAME COMES FROM THE LATIN WORD FOR "MAD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POLICE CAPTAIN WHO ENDS UP WITH THE MONEY AT THE END OF "IT'S A MAD, MAD, MAD, MAD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A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14280" y="762120"/>
            <a:ext cx="8515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OMANIZING MAIN CHARACTER OF DON DRAPER ON "MA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  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FILM WITH "MAD" IN THE TITLE MADE 300 TIMES WHAT IT COST TO M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RS  FOR  F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BAND HAD THEI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T IN 1982 WITH THE SONG "MAD WORLD", BEFORE IT WAS COVERED IN 2001 BY MICHAEL ANDREWS AND GARY JU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H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781200" y="762120"/>
            <a:ext cx="758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FE ON THE 8-SEASON SITCOM "MAD ABOU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46320" y="762120"/>
            <a:ext cx="6651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SCOT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MAD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20240" y="761760"/>
            <a:ext cx="71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PECTOR GADGET'S MAIN NEMESIS WAS M.A.D.  WHAT DID THIS ACRONYM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3840" y="762120"/>
            <a:ext cx="889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/ R&amp;B SINGER'S 2008 SONG "MAD" REACHED #3 ON BILLBOARD'S RHYTHMIC CH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M.A.D. MEAN IN THE CONTEXT OF NUCLEAR DETERR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'S NAME COMES FROM THE LATIN WORD FOR "MAD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POLICE CAPTAIN WHO ENDS UP WITH THE MONEY AT THE END OF "IT'S A MAD, MAD, MAD, MAD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OMANIZING MAIN CHARACTER OF DON DRAPER ON "MAD M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7-15T14:36:37Z</dcterms:modified>
  <cp:revision>418</cp:revision>
  <dc:subject/>
  <dc:title>Slide 1</dc:title>
</cp:coreProperties>
</file>