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E78C-0FD5-45D5-9DE7-439E0C8AE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89A3-422E-4A5E-9253-25D1E43FF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A69C-1AF7-4455-912F-10462CE1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96CC-7040-4077-BF73-C53CED71D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125E-4685-4FE7-BF24-94EFCCA63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3484-2E16-4716-942D-D35F4E082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5795-3521-42A6-B723-AC303922D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EE31-BD56-498F-AD2E-97948D9A1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CDD1-D10A-4C38-B894-B945C32B9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561A-DE66-43BB-BAA6-5BD52E105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2D15-4715-4E00-85F2-209FAFEEC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3626-1954-4B6A-86EC-90E646544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4A56-D2FA-49C0-872B-2F1ACB3B8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A4F2-F3DF-4214-BB54-EE613906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7D9E-0055-4517-BB8C-AAF543799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1EE2-1672-4967-913D-9019F4EF3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0437-EA2A-4C65-A2CD-3E9EAE647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7187-D0D8-407E-B167-C6EB14C0B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1C4D-7A19-4759-B927-FC62E708F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AA47-D350-4D12-BFBC-E3174FD47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3925-DEFB-40AF-B95E-10BC455E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D8AE-C50B-4616-B7B5-1074F462F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DC92-A0B4-4A51-AB46-B853AE36D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19040" y="761760"/>
            <a:ext cx="65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NO U.S. PRESIDENT HAS EVER DIED IN M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BORN IN MAY ARE ASSOCIATED WITH WHAT TWO ZODIAC 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14400" y="4952880"/>
            <a:ext cx="7162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762120"/>
            <a:ext cx="73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K JUST BEFORE THERESA 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15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33480" y="723960"/>
            <a:ext cx="7277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GGIE MAY", 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'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ST OF THE 200 GREATEST SONG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JER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212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PE MAY IS THE SOUTHERN-MOST PART OF WHAT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33320" y="762120"/>
            <a:ext cx="7677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IRTHSTONE ASSOCIATED WITH THE MONTH OF 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85960" y="762120"/>
            <a:ext cx="7372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AN MAY WAS THE LEAD GUITARIST FOR WHAT ROCK GROUP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–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RVEL COMICS, "AUNT MAY" WAS THE AUNT OF WHAT SUPERH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OPARD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IM BIALIK NOW SO-HOSTS WHAT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85960" y="762120"/>
            <a:ext cx="7372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K JUST BEFORE THERESA M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W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85640" y="762120"/>
            <a:ext cx="8172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WRITTEN BY LOUISA MAY ALCOTT HAS BEEN ADAPTED INTO 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257480" y="49528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57480" y="76212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NO U.S. PRESIDENT HAS EVER DIED IN 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URUS  &amp;  GEM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BORN IN MAY ARE ASSOCIATED WITH WHAT TWO ZODIAC 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GGIE MAY", 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'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ST OF THE 200 GREATEST SONG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81000" y="762120"/>
            <a:ext cx="718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PE MAY IS THE SOUTHERN-MOST PART OF WHAT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IRTHSTONE ASSOCIATED WITH THE MONTH OF M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AN MAY WAS THE LEAD GUITARIST FOR WHAT ROCK GROUP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05040" y="761760"/>
            <a:ext cx="733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RVEL COMICS, "AUNT MAY" WAS THE AUNT OF WHAT SUPERH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IM BIALIK NOW SO-HOSTS WHAT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1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WRITTEN BY LOUISA MAY ALCOTT HAS BEEN ADAPTED INTO 7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23:05:39Z</dcterms:created>
  <dc:creator>Jennifer Budzinski</dc:creator>
  <dc:description/>
  <dc:language>en-US</dc:language>
  <cp:lastModifiedBy>Erich Friedman</cp:lastModifiedBy>
  <dcterms:modified xsi:type="dcterms:W3CDTF">2022-09-02T23:40:34Z</dcterms:modified>
  <cp:revision>342</cp:revision>
  <dc:subject/>
  <dc:title>Slide 1</dc:title>
</cp:coreProperties>
</file>