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7F7D-C313-428F-904E-2E29D2373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8ED0-3CDA-4394-AB6A-F441DF4A7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A3EF-1E7F-4751-B297-6AB16E74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D287-FAEE-40FF-9B05-4DBA78CF2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D967-536B-4D67-A39F-F70B73DD0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090B-863F-49D9-9D37-D7A81912F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A958-8BF6-4D9A-B3CD-5CB3353C7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7DE9-A412-4229-B291-F673CB082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E93F-F521-4C4F-812F-E0BC148F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3428-20B5-44F5-95AE-9956C286C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6D75-1854-47DA-91B2-3167C9D3A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0987-C84E-4372-8CF5-AC1BBBB11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FE58-54B5-4E0B-B7CE-B9F15966B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22A7-CEDF-4593-ABFE-03335F22B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7212-E73F-48B0-8F37-762F4197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38E9-99A1-4FD4-940C-72378487B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D2C5-0C4F-48A2-80AC-221340803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3610-1634-4498-8BD3-0B06512B6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06C6-D579-46A7-B823-3BBBB66F6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20E2-0CDA-4FE9-8E38-43447F57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02A9-F1F7-48D9-9DCB-1A8933894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1677-B886-4758-9E88-DEE17BFA0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A645-51D3-4035-A2AB-B023F759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19040" y="761760"/>
            <a:ext cx="65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O U.S. PRESIDENT HAS EVER DIED IN M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BORN IN MAY ARE ASSOCIATED WITH WHAT TWO ZODIAC 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14400" y="49528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762120"/>
            <a:ext cx="73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K JUST BEFORE THERESA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15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23960"/>
            <a:ext cx="7277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GIE MAY", 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ST OF THE 200 GREATEST SONG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E MAY IS THE SOUTHERN-MOST PART OF WHAT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33320" y="762120"/>
            <a:ext cx="767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IRTHSTONE ASSOCIATED WITH THE MONTH OF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85960" y="762120"/>
            <a:ext cx="7372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AN MAY WAS THE LEAD GUITARIST FOR WHAT ROCK GROUP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–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VEL COMICS, "AUNT MAY" WAS THE AUNT OF WHAT SUPERH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OPARD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IM BIALIK NOW SO-HOSTS WHAT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85960" y="762120"/>
            <a:ext cx="737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K JUST BEFORE THERESA M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WO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85640" y="762120"/>
            <a:ext cx="8172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WRITTEN BY LOUISA MAY ALCOTT HAS BEEN ADAPTED INTO 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257480" y="4952880"/>
            <a:ext cx="662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57480" y="76212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O U.S. PRESIDENT HAS EVER DIED IN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URUS  &amp;  GEM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BORN IN MAY ARE ASSOCIATED WITH WHAT TWO ZODIAC 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GIE MAY", 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'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ST OF THE 200 GREATEST SONG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81000" y="762120"/>
            <a:ext cx="718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PE MAY IS THE SOUTHERN-MOST PART OF WHAT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IRTHSTONE ASSOCIATED WITH THE MONTH OF M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AN MAY WAS THE LEAD GUITARIST FOR WHAT ROCK GROUP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RVEL COMICS, "AUNT MAY" WAS THE AUNT OF WHAT SUPERH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YIM BIALIK NOW SO-HOSTS WHAT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WRITTEN BY LOUISA MAY ALCOTT HAS BEEN ADAPTED INTO 7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2-09-02T23:40:34Z</dcterms:modified>
  <cp:revision>342</cp:revision>
  <dc:subject/>
  <dc:title>Slide 1</dc:title>
</cp:coreProperties>
</file>