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C253C-2AA3-4A8E-B79C-2B3900DB7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8800D-3D26-48FD-9841-16A353BA4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43F1-D6B1-49DE-ACEA-59B722BD1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D57DB-E6D4-46D3-8A8D-7BFF65D24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4C11A-B25D-4F44-B777-1C0AFF64E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B4598-6135-4841-B6C2-D81368D68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0FEFE-8233-4334-BA00-FB6DB29E7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8832D-E30C-4845-9239-15ED2F8A1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680A0-DE94-4846-A792-ED057EA9F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1699-EFCF-45BF-83F3-C632CD783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FA856-8D77-4F24-BAF8-0DFC1792B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2BDE2-1748-480C-A9C3-4FB7D8B5D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63F54-FCEE-4BBC-96F6-4090E2B5F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95F6F-EB23-4B6C-8618-3F9A730ED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94A58-0C1F-4983-8B9D-C8FDA6E5B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497DA-FD49-49BC-836B-84CDBA62C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67889-84BA-4E20-8C0D-CBF451C00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BFEC-AC4E-4911-B757-EDD5934D4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F10DF-85EA-4479-B9DA-EFC93B09B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C3175-84F9-420B-9BE9-5B5E1DC0B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9F59B-6501-4B88-A03F-B57E0D128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CEF1B-E45D-4FE9-883F-1AFB8EDBE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B13EC-2222-4AE3-88B2-30C84B3D3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43000" y="16761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FAMOUS STAT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1577880" y="1295280"/>
            <a:ext cx="5988240" cy="361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476360" y="1295280"/>
            <a:ext cx="6191280" cy="347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T  THE  REDEE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1828800" y="1295280"/>
            <a:ext cx="54864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ENUS  DE  MI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019240" y="1219320"/>
            <a:ext cx="5105520" cy="366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THIN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2254320" y="1295280"/>
            <a:ext cx="4633920" cy="36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5029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RING  TEMPLE  BUDDH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5333760" cy="356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TUE  OF  LIBE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1193760" y="1295280"/>
            <a:ext cx="67564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AI  ON  EASTER  IS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1828800" y="1295280"/>
            <a:ext cx="54864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MOTHERLAND  CA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1346040" y="1295280"/>
            <a:ext cx="645192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828800" y="1295280"/>
            <a:ext cx="54864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V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774720" y="1295280"/>
            <a:ext cx="7594560" cy="363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57200" y="5029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AT  SPHINX  OF  GIZ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1577880" y="1295280"/>
            <a:ext cx="5988240" cy="361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5029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TUE  OF  UN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476360" y="1295280"/>
            <a:ext cx="6191280" cy="347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019240" y="1219320"/>
            <a:ext cx="5105520" cy="366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254320" y="1295280"/>
            <a:ext cx="4633920" cy="36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5333760" cy="356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1193760" y="1295280"/>
            <a:ext cx="67564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828800" y="1295280"/>
            <a:ext cx="54864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1346040" y="1295280"/>
            <a:ext cx="645192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774720" y="1295280"/>
            <a:ext cx="7594560" cy="3630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2-09-02T23:30:39Z</dcterms:modified>
  <cp:revision>288</cp:revision>
  <dc:subject/>
  <dc:title>Slide 1</dc:title>
</cp:coreProperties>
</file>