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B596-11B0-4D8F-868C-3CDBAEAD5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DCEB-0ED2-4E2E-841D-0C1C77657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7998-C002-49F9-8598-DCA38647D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3D1C-F5EF-401A-80A7-2585346A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4AD1-0619-4A5F-8EEA-933FD30F7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80E2-8717-4E80-A5C3-94AAD1E8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565-C62A-4349-98E3-CE9805738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0FC3-1E7A-438B-B63D-6F1D2FC0F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6BDF-6648-4A35-9E96-D28D0FFED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C71A-ACB1-4FF2-AA7D-BAE5A4DE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B98E-17EF-4A74-BFA1-9C9C89B39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C975-B707-4740-963D-ACB090220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A010-EB48-4610-8361-EFBF80A2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1A7D-7B63-4401-9D66-3A3404E67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F5D1-CA51-45EB-892A-AEA22498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9E2C8-93B2-445F-A298-95E719EF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9EF1-BB50-4A64-BAE1-3AF5A3E8E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2D22-B7D2-465D-B4D6-6F3872B9F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8CF-EE58-442F-B911-A523344E1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573C-5E4C-4E5E-B0FD-E086BCC8F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FFFD-6605-4EC9-A079-E73C9EC68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B41F-E419-4F85-9BB8-06A9337F9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78A3-E8A9-43F1-9A3C-C83012952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STAT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577880" y="1295280"/>
            <a:ext cx="5988240" cy="361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476360" y="1295280"/>
            <a:ext cx="6191280" cy="34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  THE  REDEE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US  DE  MI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19240" y="1219320"/>
            <a:ext cx="510552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HIN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54320" y="1295280"/>
            <a:ext cx="46339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G  TEMPLE  BUDD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6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193760" y="1295280"/>
            <a:ext cx="6756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AI  ON  EASTER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THERLAND  C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45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74720" y="1295280"/>
            <a:ext cx="759456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SPHINX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577880" y="1295280"/>
            <a:ext cx="5988240" cy="361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476360" y="1295280"/>
            <a:ext cx="6191280" cy="347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19240" y="1219320"/>
            <a:ext cx="510552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54320" y="1295280"/>
            <a:ext cx="46339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193760" y="1295280"/>
            <a:ext cx="6756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346040" y="1295280"/>
            <a:ext cx="645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774720" y="1295280"/>
            <a:ext cx="7594560" cy="363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02T23:30:39Z</dcterms:modified>
  <cp:revision>288</cp:revision>
  <dc:subject/>
  <dc:title>Slide 1</dc:title>
</cp:coreProperties>
</file>