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0B6-9C60-494A-B1C7-D175F3E4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B255-664D-41D8-A61F-EAC0E8FC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0EEE-E22F-4C27-B502-02D78795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6F47-AA74-4112-80CC-C155DC72A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27CAB-F372-4381-B7F7-B29845DA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521E-F7AF-4851-8928-C7E693AE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E988-A9D3-49F5-9689-373B9B3D1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9A13-7274-49A9-8260-7CAD44477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78B3-B0CA-484F-9103-F0D994A8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B993-E6EC-41AE-89E7-86CE2751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674-78E4-49A8-9D9C-F60C38BD0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8256-E323-4FB7-9AF9-5FBAD3758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5FAB-A3E6-43E4-B6D9-571DD9B31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2477-225D-40E0-9B32-062477C20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807A-B721-449F-BEBC-CC28ADD7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89DF-D87D-4184-BA1E-E497BDFE4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427C-9A96-44E5-9DC8-F2363599D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327-A8C3-49FD-ADDB-4A9C4CD82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D250-A679-4F09-83FA-04734009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502-7A85-4061-8CC3-3D7E6F581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D1FC-3674-4D73-ADF1-718B9CBD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CE5D-967B-470D-B686-2B72F414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E019-AE9C-4745-AB12-1533EC07F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.S. CURREN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ILLS MINTED IN 2020 WERE $1 BILLS?  2/7, 3/7, OR 4/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8580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U.S. CURRENCY BILL LASTS   HOW LONG IN CIRCULATION?  6, 9, OR 1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69840" y="762120"/>
            <a:ext cx="7202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CURRENCY THAT THE U.S. IS CURRENTLY PR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44480" y="762120"/>
            <a:ext cx="765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ITE HOUSE APPEARS ON THE BACK OF WHAT DENOMINATION OF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5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DENOMINATION OF BILL THAT HAS AN OVERSIZED PORTRAIT O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2680" y="771480"/>
            <a:ext cx="891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U.S. BILLS CONTAIN THEIR NUMERICAL WORTH IN DOLLARS IN ALL 4 CORNERS ON THEIR REVERSE.  WHICH CONTAINS IT ONLY 3 TIMES ON THE RE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LYSSES  S.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789200" y="762120"/>
            <a:ext cx="5565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$50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0,000  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BILL THAT WAS EVER CIRCUL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UST  OVER)  6  I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303200" y="762120"/>
            <a:ext cx="6535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LONG IS A U.S. CURRENCY BILL?  5 ½, 6, OR 6 ½ INCH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82720" y="762120"/>
            <a:ext cx="73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CURRENCY THAT THE U.S. IS CURRENTLY PR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  TR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ARE ALL THE U.S. BILLS IN CIRCULATION WORTH TOTAL?      $2 TRILLION, $20 TRILLION,  OR $200 TR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5000" y="762120"/>
            <a:ext cx="761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BILLS MINTED IN 2020 WERE $1 BILLS?  2/7, 3/7, OR 4/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U.S. CURRENCY BILL LASTS   HOW LONG IN CIRCULATION?  6, 9, OR 12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HITE HOUSE APPEARS ON THE BACK OF WHAT DENOMINATION OF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DENOMINATION OF BILL THAT HAS AN OVERSIZED PORTRAIT O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760" y="762120"/>
            <a:ext cx="898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U.S. BILLS CONTAIN THEIR NUMERICAL WORTH IN DOLLARS IN ALL 4 CORNERS ON THEIR REVERSE.  WHICH CONTAINS IT ONLY 3 TIMES ON THE RE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820880" y="762120"/>
            <a:ext cx="550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$50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59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DENOMINATION OF BILL THAT WAS EVER CIRCUL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14360" y="761760"/>
            <a:ext cx="65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LONG IS A U.S. CURRENCY BILL?  5 ½, 6, OR 6 ½ INCH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1520" y="762120"/>
            <a:ext cx="8218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ARE ALL THE U.S. BILLS IN CIRCULATION WORTH TOTAL?      $2 TRILLION, $20 TRILLION,  OR $200 TR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23T13:43:37Z</dcterms:modified>
  <cp:revision>436</cp:revision>
  <dc:subject/>
  <dc:title>Slide 1</dc:title>
</cp:coreProperties>
</file>