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351-2F47-4ED2-AE29-9EE88D01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B97E-1BF8-43A3-BEDE-1326A825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8A1-62C9-4C5E-A6C1-01E542BA5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497C-F8D4-4157-B1FB-6D397FB22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5290-A5A9-45A1-9A49-A9E65A4F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23E5-DE8C-4C36-866C-2679B0BF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9FE-CA2F-4914-A536-F70FE9D4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3ED5-CA69-4BDD-8218-160063E7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ED0-E0EA-4EDF-B8AE-CD662456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18B3-4B7F-45BA-B017-372D023B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C71F-5D49-44A1-A7D6-11FDFA61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0A49-52C6-4725-82B7-7C62F103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124-F72C-47D6-AD3F-27891CAE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91B0-220C-4133-8696-3CC48C9E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5C0-9F77-43B1-918F-D1428949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60D1-F4E6-4050-8BE3-6AB566339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479C-7053-4EFF-BEBE-51684F27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8839-89DE-42F3-A67B-1A233759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86C5-4371-48ED-B5F0-295922D1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6E0-C891-43EF-AE3A-F067182C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A7A-1D48-4C04-A24D-ACA28463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BB8-E781-42B2-BE70-C1FCFE28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983D-880D-4526-AD50-B9489570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.S. CURR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ILLS MINTED IN 2020 WERE $1 BILLS?  2/7, 3/7, OR 4/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U.S. CURRENCY BILL LASTS   HOW LONG IN CIRCULATION?  6, 9, OR 1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69840" y="762120"/>
            <a:ext cx="720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CURRENCY THAT THE U.S. IS CURRENTLY PR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ITE HOUSE APPEARS ON THE BACK OF WHAT DENOMINATION OF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5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DENOMINATION OF BILL THAT HAS AN OVERSIZED PORTRAIT O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2680" y="771480"/>
            <a:ext cx="891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U.S. BILLS CONTAIN THEIR NUMERICAL WORTH IN DOLLARS IN ALL 4 CORNERS ON THEIR REVERSE.  WHICH CONTAINS IT ONLY 3 TIMES ON THE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LYSSES  S.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9200" y="762120"/>
            <a:ext cx="5565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$50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,00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BILL THAT WAS EVER CIRCUL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UST  OVER)  6  I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03200" y="762120"/>
            <a:ext cx="6535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LONG IS A U.S. CURRENCY BILL?  5 ½, 6, OR 6 ½ IN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2720" y="762120"/>
            <a:ext cx="73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CURRENCY THAT THE U.S. IS CURRENTLY PR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  TR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ARE ALL THE U.S. BILLS IN CIRCULATION WORTH TOTAL?      $2 TRILLION, $20 TRILLION,  OR $200 TR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5000" y="762120"/>
            <a:ext cx="761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ILLS MINTED IN 2020 WERE $1 BILLS?  2/7, 3/7, OR 4/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7640" y="76212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U.S. CURRENCY BILL LASTS   HOW LONG IN CIRCULATION?  6, 9, OR 1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ITE HOUSE APPEARS ON THE BACK OF WHAT DENOMINATION OF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DENOMINATION OF BILL THAT HAS AN OVERSIZED PORTRAIT O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760" y="762120"/>
            <a:ext cx="898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U.S. BILLS CONTAIN THEIR NUMERICAL WORTH IN DOLLARS IN ALL 4 CORNERS ON THEIR REVERSE.  WHICH CONTAINS IT ONLY 3 TIMES ON THE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820880" y="762120"/>
            <a:ext cx="550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$50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BILL THAT WAS EVER CIRCUL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14360" y="761760"/>
            <a:ext cx="65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LONG IS A U.S. CURRENCY BILL?  5 ½, 6, OR 6 ½ INC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1520" y="762120"/>
            <a:ext cx="8218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ARE ALL THE U.S. BILLS IN CIRCULATION WORTH TOTAL?      $2 TRILLION, $20 TRILLION,  OR $200 TR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43:37Z</dcterms:modified>
  <cp:revision>436</cp:revision>
  <dc:subject/>
  <dc:title>Slide 1</dc:title>
</cp:coreProperties>
</file>