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B4A-B89D-4EFE-98C7-281DC4AC5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B5E7-3536-4E1D-B200-B1B871E82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EA73-C16B-4D3D-9F8A-E270B03EA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1002-E893-406F-ACA5-00AF42C0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A1B60-9F33-489C-9189-3C13894D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36CA-90BF-4BCE-9FD9-3DC48A1F3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8B7C-63B4-494E-B6D2-72DD9EBD2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DDAA-3536-488F-A270-FC689E7B3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1353-0DFA-4848-A850-5205B8A9A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4212-6BAE-430A-86B7-250573879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A004-0262-4441-AEBD-B3187BE7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31F2-3A4E-4B7D-8350-A29B4510F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0A09-84AC-4C1B-B93E-FB674D955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405E-3906-4DFD-9AD1-C550EC42E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4095-A89E-4F47-B691-740B67DD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D4BB-ED16-46A0-ABC5-34992A8A6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23A2-6909-4511-985E-08EC7D28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3E16-8674-4B78-8957-8123D3368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5B65-92B8-4569-906D-823C17C1C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E70-2E22-4B81-8130-7D5E8A1A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E826-48CF-4006-AD72-88CC41D4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8150-75CA-48E9-8CDD-AB7644C4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E39E-1A0B-4909-81B8-59834827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57120" y="1523520"/>
            <a:ext cx="6629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UILDING WHOSE TRANSLATION IS "THE CUBE" IS AT THE CENTER OF THE MOST SACRED SITE OF WHAT RELI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GAR CUBES YIELD AN OUNCE OF SUGAR?  4, 8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. W. 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ICE CUBE BECAME AN ACTOR, HE FORMED WHAT RAP GROUP WITH DR. DRE AND EASY 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RUBIK'S CUBE REMAINS THE WORLD'S BEST-SELLING T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14300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480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IS CUBICAL SCULPTUR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38797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ND  or  SIRL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BE STEAK USUALLY COMES FROM WHAT CUT OF BEE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SS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A MODEL CALLED THE C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57480" y="762120"/>
            <a:ext cx="6629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UBE ROOT OF ONE TR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GA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GAME CONTAINS SOMETHING CALLED A DOUBLING CUB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ICE CUBE BECAME AN ACTOR, HE FORMED WHAT RAP GROUP WITH DR. DRE AND EASY 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ILOGRAMS DOES ONE CUBIC METER OF WATER W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UILDING WHOSE TRANSLATION IS "THE CUBE" IS AT THE CENTER OF THE MOST SACRED SITE OF WHAT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GAR CUBES YIELD AN OUNCE OF SUGAR?  4, 8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RUBIK'S CUBE REMAINS THE WORLD'S BEST-SELLING T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8600" y="1143000"/>
            <a:ext cx="43434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IS CUBICAL SCULPTURE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38797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BE STEAK USUALLY COMES FROM WHAT CUT OF BEE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A MODEL CALLED THE C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UBE ROOT OF ONE TR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GAME CONTAINS SOMETHING CALLED A DOUBLING CUB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ILOGRAMS DOES ONE CUBIC METER OF WATER WE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23:43:02Z</dcterms:created>
  <dc:creator>Jennifer Budzinski</dc:creator>
  <dc:description/>
  <dc:language>en-US</dc:language>
  <cp:lastModifiedBy>Erich Friedman</cp:lastModifiedBy>
  <dcterms:modified xsi:type="dcterms:W3CDTF">2022-10-31T17:00:27Z</dcterms:modified>
  <cp:revision>360</cp:revision>
  <dc:subject/>
  <dc:title>Slide 1</dc:title>
</cp:coreProperties>
</file>