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25DF-8B9C-4A2C-90E5-6F80F8AC5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2DCC-791F-47F0-A878-1945EBB6D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5FB6-4369-4C1A-ADBC-C48003AAE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9620-19D5-4426-B0CA-9E76F4AA6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09BF-4CEB-4A69-8DF5-2BC3BD368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888F-3F9B-4119-B01C-50666EFFA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462A-3C4B-4B65-95FE-A70A9E082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AA0D-E159-4232-93C5-D2FEC6148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4BB6-CBA2-4546-BDE2-8BA1892DE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532E-B3D2-46CC-B446-800EC23AA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7A2F-8476-422B-8846-B350E7E13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334D-1AFC-471C-A91E-3ADD50DA5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33D4-B246-480D-8FEC-C0030FF6C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9234-3500-4D4C-AE66-5949E260D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0C76-82C5-48AD-9DE5-70CB193DC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F5F9-3020-4298-BC67-E1DEED2B0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8FAE-8ED4-43DC-8E5A-D328A40BC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D43B-5220-4D3D-898D-A70F48696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7BCC-7293-40E2-ACE8-876AC4FC8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A54E-368F-42E8-978A-9EFDBCFC6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AAE5-4C5A-4B2C-9F6D-AA941E7AB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5838-46B1-4C1E-87A6-78B0A9EAE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7915-F97E-44DA-8DDA-75593D2C2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57120" y="1523520"/>
            <a:ext cx="6629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B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BUILDING WHOSE TRANSLATION IS "THE CUBE" IS AT THE CENTER OF THE MOST SACRED SITE OF WHAT RELIG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066680" y="762120"/>
            <a:ext cx="7010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UGAR CUBES YIELD AN OUNCE OF SUGAR?  4, 8, OR 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. W. 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914400" y="762120"/>
            <a:ext cx="7315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FORE ICE CUBE BECAME AN ACTOR, HE FORMED WHAT RAP GROUP WITH DR. DRE AND EASY 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RUBIK'S CUBE REMAINS THE WORLD'S BEST-SELLING TO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1143000" y="4876920"/>
            <a:ext cx="6781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YORK  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0" y="1143000"/>
            <a:ext cx="4800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ITY IS THIS CUBICAL SCULPTURE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4876920" y="990720"/>
            <a:ext cx="387972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04920" y="4876920"/>
            <a:ext cx="8458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UND  or  SIRLO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219320" y="762120"/>
            <a:ext cx="670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BE STEAK USUALLY COMES FROM WHAT CUT OF BEE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SS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486080" y="762120"/>
            <a:ext cx="6172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R COMPANY MAKES A MODEL CALLED THE CUB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81160" y="4876920"/>
            <a:ext cx="6781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0,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257480" y="762120"/>
            <a:ext cx="66294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UBE ROOT OF ONE TRILL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52280" y="48769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CKGAM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PULAR GAME CONTAINS SOMETHING CALLED A DOUBLING CUB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FORE ICE CUBE BECAME AN ACTOR, HE FORMED WHAT RAP GROUP WITH DR. DRE AND EASY 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066680" y="4876920"/>
            <a:ext cx="701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90720" y="762120"/>
            <a:ext cx="7162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KILOGRAMS DOES ONE CUBIC METER OF WATER WEIG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0288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SL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838080" y="762120"/>
            <a:ext cx="7467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BUILDING WHOSE TRANSLATION IS "THE CUBE" IS AT THE CENTER OF THE MOST SACRED SITE OF WHAT RELIG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952560" y="7621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UGAR CUBES YIELD AN OUNCE OF SUGAR?  4, 8, OR 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RUBIK'S CUBE REMAINS THE WORLD'S BEST-SELLING TO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28600" y="1143000"/>
            <a:ext cx="43434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ITY IS THIS CUBICAL SCULPTURE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4876920" y="990720"/>
            <a:ext cx="387972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BE STEAK USUALLY COMES FROM WHAT CUT OF BEE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57120" y="761760"/>
            <a:ext cx="6629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R COMPANY MAKES A MODEL CALLED THE CUB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UBE ROOT OF ONE TRILL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PULAR GAME CONTAINS SOMETHING CALLED A DOUBLING CUB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KILOGRAMS DOES ONE CUBIC METER OF WATER WEIG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7T23:43:02Z</dcterms:created>
  <dc:creator>Jennifer Budzinski</dc:creator>
  <dc:description/>
  <dc:language>en-US</dc:language>
  <cp:lastModifiedBy>Erich Friedman</cp:lastModifiedBy>
  <dcterms:modified xsi:type="dcterms:W3CDTF">2022-10-31T17:00:27Z</dcterms:modified>
  <cp:revision>360</cp:revision>
  <dc:subject/>
  <dc:title>Slide 1</dc:title>
</cp:coreProperties>
</file>