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B3C1-3AC7-4D78-A0A8-36B578BA7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2182-41CB-40F4-8EC6-E29581B0C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AB46-1E79-4F7E-B9F1-ED55F1F11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530D-D5F6-4107-8A54-43AFA768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2707-2BC0-4AEC-8521-C3D581B60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129E-5F72-40AC-A0C0-87BCEE03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E631-A7EA-4E40-8471-C20BADED6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D7FD-34DD-478E-A048-8A37181E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82E3-F3B2-4CCE-B6DA-FA0672C77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843B-8AB0-4D99-BC9E-7DBCC37E1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22B3-D4D9-44E2-89F6-2EBFC179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4B22-FC47-4B14-BFEC-31AD356B3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37C-0FBE-4FBC-B2CA-7DE0FA4C8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F2A6-C35B-4C45-9C23-F197A1FC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696F-53E9-495F-90EF-F2B78984B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0948-47B6-4174-ABE3-9B06895DF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5CFD-BEC0-4AB0-9A82-D50EF366E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93D4-6CE5-45FA-9EAB-646C6CD2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CF08-DA97-4F93-B9C7-89166F1E2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C5A2-63C0-4250-8CBB-512AFC515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A620-F179-4FA5-97C9-9AEBCFC6B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53B0-2A9E-46A7-95C5-89B74D261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92B-30D5-4A3E-B07A-E02546E6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CK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6760" y="761760"/>
            <a:ext cx="8427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UMB SIGNAL WAS GIVEN BY ROMAN EMPERORS TO CALL FOR THE DEATH OF A GLADIATORIAL CONTES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531800" y="762120"/>
            <a:ext cx="608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"LEAD" IN A LEAD PE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97000" y="762120"/>
            <a:ext cx="8548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WHAT TYPE OF CREATURE IS BOMBAY DUCK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87440" y="762120"/>
            <a:ext cx="8167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 7:2, HOW MANY (OF EACH) SHEEP, COWS AND GOATS WERE TAKEN ONTO NOAH'S 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9120" y="762120"/>
            <a:ext cx="756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EXPORTED THE FIRST TUL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1560" y="762120"/>
            <a:ext cx="740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WERE IN THE BAND CALLED THE THOMPSON TW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38240" y="762120"/>
            <a:ext cx="70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BLACK BOX ON A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6360" y="762120"/>
            <a:ext cx="799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AS CANADIAN CLUB WHISKEY FIRST DISTI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2200" y="762120"/>
            <a:ext cx="795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IS THE MUNICH OKTOBERFEST BEER FESTIVAL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36520" y="762120"/>
            <a:ext cx="867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WHAT TYPE OF CREATURE IS BOMBAY DUCK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81120" y="762120"/>
            <a:ext cx="598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ABIC NUMERALS ORIGINATED IN WHICH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66760" y="49528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MB  UP  (SIGNIFYING  A  SWO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5280" y="762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UMB SIGNAL WAS GIVEN BY ROMAN EMPERORS TO CALL FOR THE DEATH OF A GLADIATORIAL CONTES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68440" y="762120"/>
            <a:ext cx="620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"LEAD" IN A LEAD PE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 7:2, HOW MANY (OF EACH) SHEEP, COWS AND GOATS WERE TAKEN ONTO NOAH'S 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63480" y="762120"/>
            <a:ext cx="781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EXPORTED THE FIRST TUL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WERE IN THE BAND CALLED THE THOMPSON TW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BLACK BOX ON A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AS CANADIAN CLUB WHISKEY FIRST DISTI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IS THE MUNICH OKTOBERFEST BEER FESTIVAL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8920" y="761760"/>
            <a:ext cx="608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ABIC NUMERALS ORIGINATED IN WHICH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11-05T12:14:41Z</dcterms:modified>
  <cp:revision>413</cp:revision>
  <dc:subject/>
  <dc:title>Slide 1</dc:title>
</cp:coreProperties>
</file>