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7197-E5FE-4B0B-AF82-50680A3C3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A22E-80A6-412F-B228-C87B4868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AB60-8610-41AC-93B5-D43812AB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CD8B-7049-4934-B7CC-A761FB63C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0738-3B8A-4678-AE53-96675B91D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9007-9B21-4D1F-AD1A-1FCB0DDDA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FDAC-0218-4678-AC3D-143966567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C231-DAF8-437C-A36C-F897267CA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D062-5E40-4D88-8FCA-1542A865A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8452-E812-4775-AD51-2F1E015BA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1974-576B-44C5-82DE-CD3621FCE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C4A7-1CAC-477D-9420-79FC68136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DB86-C5EB-48BE-AEB1-2ADFBBDF7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732-0F04-44FC-9BFD-98AAC132B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94D5-2C23-4678-8A8B-4254836AA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1309-23F6-4FCB-9273-C90F67885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FB2-51DE-4C61-8762-F945C7CB1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813C-501C-4506-9808-B668BDB47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98D8-4760-4B7E-A7B3-287081463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DF72-CA01-4CEF-A98E-E9ACEE558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315B-4EA3-4612-BBB5-37E126017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CAE1-20D9-40A7-9992-43F722041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964E-2CD9-4D9E-AD96-7EEDE289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CK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6760" y="761760"/>
            <a:ext cx="8427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UMB SIGNAL WAS GIVEN BY ROMAN EMPERORS TO CALL FOR THE DEATH OF A GLADIATORIAL CONTES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531800" y="762120"/>
            <a:ext cx="608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"LEAD" IN A LEAD PE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97000" y="762120"/>
            <a:ext cx="8548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WHAT TYPE OF CREATURE IS BOMBAY DUCK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87440" y="762120"/>
            <a:ext cx="8167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 7:2, HOW MANY (OF EACH) SHEEP, COWS AND GOATS WERE TAKEN ONTO NOAH'S 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9120" y="762120"/>
            <a:ext cx="756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EXPORTED THE FIRST TUL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1560" y="762120"/>
            <a:ext cx="740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WERE IN THE BAND CALLED THE THOMPSON TW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38240" y="762120"/>
            <a:ext cx="70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BLACK BOX ON A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6360" y="762120"/>
            <a:ext cx="799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AS CANADIAN CLUB WHISKEY FIRST DISTI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2200" y="762120"/>
            <a:ext cx="795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IS THE MUNICH OKTOBERFEST BEER FESTIVAL H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36520" y="762120"/>
            <a:ext cx="867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WHAT TYPE OF CREATURE IS BOMBAY DUCK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81120" y="762120"/>
            <a:ext cx="598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ABIC NUMERALS ORIGINATED IN WHICH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66760" y="495288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MB  UP  (SIGNIFYING  A  SWO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5280" y="762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UMB SIGNAL WAS GIVEN BY ROMAN EMPERORS TO CALL FOR THE DEATH OF A GLADIATORIAL CONTES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68440" y="762120"/>
            <a:ext cx="620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"LEAD" IN A LEAD PE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 7:2, HOW MANY (OF EACH) SHEEP, COWS AND GOATS WERE TAKEN ONTO NOAH'S 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63480" y="762120"/>
            <a:ext cx="781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EXPORTED THE FIRST TUL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9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WERE IN THE BAND CALLED THE THOMPSON TW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BLACK BOX ON A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AS CANADIAN CLUB WHISKEY FIRST DISTI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IS THE MUNICH OKTOBERFEST BEER FESTIVAL H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8920" y="761760"/>
            <a:ext cx="608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ABIC NUMERALS ORIGINATED IN WHICH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11-05T12:14:41Z</dcterms:modified>
  <cp:revision>413</cp:revision>
  <dc:subject/>
  <dc:title>Slide 1</dc:title>
</cp:coreProperties>
</file>