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8508-2BF4-4F11-B80B-6F07BA8A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1EDC-B5CB-4065-94DF-679A70A61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A85E-A237-448E-B305-0FBD1328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47C3-2A20-4B13-B71D-CE166CAF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B8C7-3873-4EFC-A7F0-78D34DC5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7FC-703C-4B41-8134-64BB552A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35A9-C312-422A-A9E3-15FF6841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DDBA-239C-4ECE-88BE-E1B06808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3676-DCF9-4C34-9CC2-3A593EB2E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4F78-3279-418D-A1C5-31D75D34F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36A2-BA6A-4633-802E-A7C1B690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C7AD-8B73-429E-8728-BCCFB477A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19B-8F24-4CBA-8264-C171FB304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5829-9C56-4149-9977-3412E223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52BB-A7BF-4056-9434-11D17392C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6F36-9919-4EBA-842A-A7539ABE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D793-0480-4C58-8D49-A7D09F93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6CC-5A94-423D-868F-18A0C6C8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0DD2-1BD7-455D-A31F-935447CD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9D4-C4F7-406E-9F16-419435A1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FE4C-8F25-45E6-9F39-31C8A6C0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491-5E53-409D-9DB6-B9903AD59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8995-9B90-439A-BB8F-4AB394A7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48572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SAYING "HEEEERE'S JOH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FO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ON THE RANCH OF WHAT POP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VER  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762120"/>
            <a:ext cx="8686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, WHO WON THE POPULAR VOTE 3 TIMES, SERVED AS EXECUTIONER TWICE WHEN HE WAS SHERI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K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GENOUS PEOPLE'S NAME TRANSLATES AS "EATERS OF RAW FLE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81160" y="762120"/>
            <a:ext cx="6781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KRUSTY THE CLOWN AND CHANDLER ON "FRIENDS" HAVE AN EXTRA ON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OTH  DEC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NON-CONTAGIOUS DISEAS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09800" y="762120"/>
            <a:ext cx="7124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KNOWN AS "INHERITANCE POW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% OF ALL SHOES ARE MADE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WHEN METAL WAS SCARCE, WHAT WERE OSCAR AWARDS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160" y="762120"/>
            <a:ext cx="8939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, WHO WON THE POPULAR VOTE 3 TIMES, SERVED AS EXECUTIONER TWICE WHEN HE WAS SHERI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2280" y="762120"/>
            <a:ext cx="88394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IS CUT INTO TWO APPROXIMATELY EQUAL HALVES BY THE TROPIC OF CAPRI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  MCMA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SAYING "HEEEERE'S JOH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FO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ON THE RANCH OF WHAT POP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GENOUS PEOPLE'S NAME TRANSLATES AS "EATERS OF RAW FLE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KRUSTY THE CLOWN AND CHANDLER ON "FRIENDS" HAVE AN EXTRA ON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NON-CONTAGIOUS DISEAS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KNOWN AS "INHERITANCE POW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% OF ALL SHOES ARE MADE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WHEN METAL WAS SCARCE, WHAT WERE OSCAR AWARDS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IS CUT INTO TWO APPROXIMATELY EQUAL HALVES BY THE TROPIC OF CAPRI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2-11-13T13:08:51Z</dcterms:modified>
  <cp:revision>356</cp:revision>
  <dc:subject/>
  <dc:title>Slide 1</dc:title>
</cp:coreProperties>
</file>