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65C5-45CD-4D9B-8300-249A60405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2A60-2F21-4DAF-AF7C-963793DFB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048E9-5F45-440B-AB03-3118C0513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7DCF-0E09-499F-8D4D-2FD1958EF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2927-15F9-4CB6-B027-DC435513E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D208-390C-4458-8411-763650E32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10D8-74EF-4FAA-BECA-6AA8F2319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9311-362F-486D-8AF5-DEB2832CBD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B10B-13A6-4379-BBEA-2B85E5E59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5E7E-F43C-43B5-918C-F5745E499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688F-61B6-456D-A166-74C52F5E4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935E-131C-4547-B838-75BCE891F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DA08-7054-457F-837C-EB5F4C672A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B4F0-AA4D-42FF-A963-E81D1F9D0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4B5F-FA58-4641-A717-53A9F2962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FFC7-CE2E-475A-AE7D-F09F8A4EA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1B83-4830-435B-B340-BBB39B5E7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37314-098D-4CF4-8D28-E80DEFB8F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E0BC-19B0-4FF1-83BC-677F6DD76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2206-FAFD-435C-9DD7-D04579B3B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ECBE-6792-4691-A1C2-5354A26A5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D2C1-9DC7-4F3A-95AE-6184BCF03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3F04-F99A-4B6B-A405-124284991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48572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SCELLANEO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61800" y="761760"/>
            <a:ext cx="8420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FAMOUS FOR SAYING "HEEEERE'S JOHNN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IZABETH TAYLOR WAS MARRIED FOR THE 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IME ON THE RANCH OF WHAT POP SIN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OVER  CLEVE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28600" y="762120"/>
            <a:ext cx="8686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PRESIDENT, WHO WON THE POPULAR VOTE 3 TIMES, SERVED AS EXECUTIONER TWICE WHEN HE WAS SHERIF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SKI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DIGENOUS PEOPLE'S NAME TRANSLATES AS "EATERS OF RAW FLES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P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181160" y="762120"/>
            <a:ext cx="6781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KRUSTY THE CLOWN AND CHANDLER ON "FRIENDS" HAVE AN EXTRA ONE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OTH  DEC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43040" y="762120"/>
            <a:ext cx="765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NON-CONTAGIOUS DISEASE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8088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SEN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09800" y="762120"/>
            <a:ext cx="7124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, WHAT WAS KNOWN AS "INHERITANCE POWD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0% OF ALL SHOES ARE MADE IN WHAT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WWII, WHEN METAL WAS SCARCE, WHAT WERE OSCAR AWARDS MADE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01160" y="762120"/>
            <a:ext cx="8939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PRESIDENT, WHO WON THE POPULAR VOTE 3 TIMES, SERVED AS EXECUTIONER TWICE WHEN HE WAS SHERIF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790640" y="4876920"/>
            <a:ext cx="5562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52280" y="762120"/>
            <a:ext cx="88394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TINENT IS CUT INTO TWO APPROXIMATELY EQUAL HALVES BY THE TROPIC OF CAPRICOR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  MCMAH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380880" y="762120"/>
            <a:ext cx="83822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FAMOUS FOR SAYING "HEEEERE'S JOHNN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JACK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IZABETH TAYLOR WAS MARRIED FOR THE 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IME ON THE RANCH OF WHAT POP SIN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DIGENOUS PEOPLE'S NAME TRANSLATES AS "EATERS OF RAW FLES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219320" y="762120"/>
            <a:ext cx="6705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KRUSTY THE CLOWN AND CHANDLER ON "FRIENDS" HAVE AN EXTRA ONE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04880" y="762120"/>
            <a:ext cx="7734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NON-CONTAGIOUS DISEASE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33480" y="761760"/>
            <a:ext cx="7277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1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Y, WHAT WAS KNOWN AS "INHERITANCE POWD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80% OF ALL SHOES ARE MADE IN WHAT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WWII, WHEN METAL WAS SCARCE, WHAT WERE OSCAR AWARDS MADE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839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TINENT IS CUT INTO TWO APPROXIMATELY EQUAL HALVES BY THE TROPIC OF CAPRICOR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8T19:29:26Z</dcterms:created>
  <dc:creator>Jennifer Budzinski</dc:creator>
  <dc:description/>
  <dc:language>en-US</dc:language>
  <cp:lastModifiedBy>Erich Friedman</cp:lastModifiedBy>
  <dcterms:modified xsi:type="dcterms:W3CDTF">2022-11-13T13:08:51Z</dcterms:modified>
  <cp:revision>356</cp:revision>
  <dc:subject/>
  <dc:title>Slide 1</dc:title>
</cp:coreProperties>
</file>