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EAA-4DA8-4FC8-B72C-E0FB984B4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76AC-17C2-473A-B5FE-F228F780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2BF8-CA90-473F-9D14-093E26B50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4365-B86C-4F2C-B433-DAB1E4DCD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A72-CDAB-4CA4-97A0-6945ADC6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9388-AC31-41A7-95CA-9B1CBA9DC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4797-034A-460E-AF7B-60F8DE47A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73E1-8E5C-48CA-8E0C-4F797CA8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1689-42FD-4378-A291-F3A5528B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2636-FB31-4C74-80DA-3BB9216D0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BD6A-9C6F-447F-8693-94301629F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6B0F-E42F-4A7A-A317-7207A8FCD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B603-1CD8-4C55-9C46-A2CD1F5A6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B8EF-F722-4358-BBF9-FE57A77B0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71F3-17CF-44E1-9039-DCD38DC7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A603-5DF5-4DA0-B09C-CE3E6975C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4DC-A732-4895-94DE-E7C2805FB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B98-D6A4-4973-AA1B-A0A878022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F4D7-87A1-4020-B885-C32BE5816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F048-E800-4549-B900-970A146F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08D5-4BFC-4864-BC68-D655D9CB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23A-6C70-4791-B43B-BD84E80B1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39C0-408D-42B2-83D0-3B48048A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PAINTERS OF THESE WOMEN (THANKS B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770200" y="1295280"/>
            <a:ext cx="360360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57560" y="1347840"/>
            <a:ext cx="2828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VERM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04776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  KAH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3114720" y="1371600"/>
            <a:ext cx="291456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333600" y="1320840"/>
            <a:ext cx="2476800" cy="36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VAN  GO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244680" y="1332000"/>
            <a:ext cx="265464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O  BOTTIC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639040" cy="35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262320" y="1295280"/>
            <a:ext cx="2619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CNEIL  WHIS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502000" y="1295280"/>
            <a:ext cx="414000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8120" y="1371600"/>
            <a:ext cx="30477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111480" y="1295280"/>
            <a:ext cx="2921040" cy="36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WARH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770200" y="1295280"/>
            <a:ext cx="360360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CHAG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57560" y="1347840"/>
            <a:ext cx="2828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14720" y="1371600"/>
            <a:ext cx="291456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33600" y="1320840"/>
            <a:ext cx="2476800" cy="36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44680" y="1332000"/>
            <a:ext cx="26546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639040" cy="35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262320" y="1295280"/>
            <a:ext cx="2619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02000" y="1295280"/>
            <a:ext cx="414000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11480" y="1295280"/>
            <a:ext cx="2921040" cy="367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1-13T13:18:35Z</dcterms:modified>
  <cp:revision>291</cp:revision>
  <dc:subject/>
  <dc:title>Slide 1</dc:title>
</cp:coreProperties>
</file>