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A96FC-45CC-41ED-8B49-EED153081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B05B4-B777-4B79-AE0A-4CC86D420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5346F-5F07-480F-8964-132C8A903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3F2E-75BC-4194-8A08-FF15F2C6E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D1F74-E09E-4306-8742-735231BCD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8B41F-4BC1-47A0-B1F6-1B36D300D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3264A-60A4-4F37-9959-F7C59BEB7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21C01-A0C9-4AFB-B48B-152FC6CF1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DF9EB-2233-421A-876B-F9B23689A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C18B1-4D96-40F8-BAEA-C092FC90A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0420F-880B-4997-B646-DEE1BEBEF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57702-9C4C-4650-83DC-C6B91AA23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295BF-5E9E-476E-ADAF-1E184FFE3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C364D-3963-4E14-8BAF-8DB980737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BCD02-44D5-4BC4-A09C-8F9A59393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79A96-0CB2-4BA8-9CFB-BD6D5E287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21783-0E90-48F0-9F35-B4AA444C0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4700-5AF2-4D2B-99D4-B6E5447A1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09D7-97CA-4BD0-A1CB-1A516897F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690AD-86A3-43A4-BC63-EE20AAB31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751FB-82C1-4EDE-B334-55B7D76C8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D83F8-0A80-4F71-A5A8-F457F74B6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431F9-AE38-4F3D-8F7E-AD3CB9936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38080" y="1371240"/>
            <a:ext cx="74678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 PAINTERS OF THESE WOMEN (THANKS BE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770200" y="1295280"/>
            <a:ext cx="3603600" cy="358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3157560" y="1347840"/>
            <a:ext cx="282888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ANNES  VERME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3048120" y="1371600"/>
            <a:ext cx="3047760" cy="358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IDA  KAH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3114720" y="1371600"/>
            <a:ext cx="2914560" cy="355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ONARDO  DA  VIN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3333600" y="1320840"/>
            <a:ext cx="2476800" cy="369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INCENT  VAN  GO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3244680" y="1332000"/>
            <a:ext cx="2654640" cy="350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NDRO  BOTTICEL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1752480" y="1371600"/>
            <a:ext cx="5639040" cy="357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BLO  PICASS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3262320" y="1295280"/>
            <a:ext cx="261936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MCNEIL  WHIST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2502000" y="1295280"/>
            <a:ext cx="4140000" cy="368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3048120" y="1371600"/>
            <a:ext cx="3047760" cy="358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AUDE  MO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3111480" y="1295280"/>
            <a:ext cx="2921040" cy="367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57200" y="5029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DY  WARHO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2770200" y="1295280"/>
            <a:ext cx="3603600" cy="358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C  CHAG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3157560" y="1347840"/>
            <a:ext cx="282888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114720" y="1371600"/>
            <a:ext cx="2914560" cy="355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3333600" y="1320840"/>
            <a:ext cx="2476800" cy="369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3244680" y="1332000"/>
            <a:ext cx="2654640" cy="35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752480" y="1371600"/>
            <a:ext cx="5639040" cy="357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3262320" y="1295280"/>
            <a:ext cx="26193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502000" y="1295280"/>
            <a:ext cx="4140000" cy="368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3111480" y="1295280"/>
            <a:ext cx="2921040" cy="3675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2-11-13T13:18:35Z</dcterms:modified>
  <cp:revision>291</cp:revision>
  <dc:subject/>
  <dc:title>Slide 1</dc:title>
</cp:coreProperties>
</file>