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D9B2-95CA-4343-8AFE-82CC8CA2B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78AA-6917-41D3-95AA-BCAD92CA3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4168-88F1-425A-B8E9-C47FA2265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F4A2-9724-4925-A3D1-0B880D02C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2369-FDAD-4135-971D-4D0840D5E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49FF-BDB9-4912-9BBA-4FCB739E7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D1F3-D4BA-4C82-8414-397293AD3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308A-63E7-4ACD-B5CB-BADACB1F1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BA76-2F22-44A5-8206-FA9519485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E34A-7945-4574-AB30-CDCE6C2C9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47D7-7603-44BE-9553-1F7740A9D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9800-0953-467B-979E-FF1A9EF0C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D1EB-3273-42A8-997B-BB3E65321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B002-F051-4284-AAB8-D2D5CA0B5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72AB-2512-4DA1-82BD-CD90C5747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C927-D19E-46F9-BFE5-058CC53ED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BC91-D2CA-4C49-82DA-F16A1B9D6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E45A-26C9-40BC-9605-DBE1B3E17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A16D-6F1A-4A24-9E43-E3F71CC83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F652-0964-446D-A32A-12DEBE885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293B-CB8C-4FD6-88F0-EAF385DB5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4A3F-E064-455A-9DD8-258F254CB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D002-2315-48CC-A84C-BD9C29B1D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L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3760" y="762120"/>
            <a:ext cx="729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FOR THE BAND "WILD CHER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19200" y="762120"/>
            <a:ext cx="790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SCAR WILDE'S MOST FAMOUS NOVEL, ABOUT A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ESE  WITHER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38160" y="762120"/>
            <a:ext cx="7265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HIKER PROTAGONIST IN THE 2014 FILM "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REMY  "THIRTEEN"  HAD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414440" y="762120"/>
            <a:ext cx="6315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OLIVIA WILDE PLAY ON THE TV SHOW "HO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57080" y="774720"/>
            <a:ext cx="7628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NHL TEAM "THE WILD" PLAY THEIR HOME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  PAIR:  ACES  AND  8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09760" y="762120"/>
            <a:ext cx="81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D BILL HICKOK WAS KILLED WHILE HE WAS PLAYING POKER.  WHAT HAND DID     HE HAVE, NOW KNOWN AS      THE "DEAD MAN'S H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D TURKEY BOURBON IS DISTILLED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SMITH  &amp;  KEVIN  K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252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99 FILM "WILD WILD WEST", WHAT 2 ACTORS PLAYED THE SECRET SERVICE AGENTS WHO PROTECT PRESIDENT G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RO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471680" y="762120"/>
            <a:ext cx="620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WILD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040" y="7621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HIKER PROTAGONIST IN THE 2014 FILM "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IN  PER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3680" y="762120"/>
            <a:ext cx="82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1963-1985 DOCUMENTARY TV SERIES "WILD KINGD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  THAT  FUNKY 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43000" y="762120"/>
            <a:ext cx="6858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FOR THE BAND "WILD CHER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ICTURE  OF  DORIAN  G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28560" y="762120"/>
            <a:ext cx="7886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SCAR WILDE'S MOST FAMOUS NOVEL, ABOUT A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OLIVIA WILDE PLAY ON THE TV SHOW "HO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95240" y="762120"/>
            <a:ext cx="7551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NHL TEAM "THE WILD" PLAY THEIR HOME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D BILL HICKOK WAS KILLED WHILE HE WAS PLAYING POKER.  WHAT HAND DID     HE HAVE, NOW KNOWN AS      THE "DEAD MAN'S H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D TURKEY BOURBON IS DISTILLED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99 FILM "WILD WILD WEST", WHAT 2 ACTORS PLAYED THE SECRET SERVICE AGENTS WHO PROTECT PRESIDENT GR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62240" y="761760"/>
            <a:ext cx="6419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WILD 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1963-1985 DOCUMENTARY TV SERIES "WILD KINGD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11-13T13:27:26Z</dcterms:modified>
  <cp:revision>362</cp:revision>
  <dc:subject/>
  <dc:title>Slide 1</dc:title>
</cp:coreProperties>
</file>