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6F6-76C5-4777-B0B4-72B926AA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32A1-449D-44E2-B430-2DD427E0A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6158-2225-427A-AC6B-D8A2B357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42BF-45F5-439F-B5CD-4E3002B5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5205-0B07-4E6A-8A4F-E13F00A26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1A97-8E20-4889-97D9-C8C849DC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1577-DED6-40E0-9D41-7657F5B65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CEE-AA40-43BC-A77B-1B4BB2BD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02F6-6FFA-481E-A74B-EE55F5A6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C8AF-F46D-4A84-BD4C-6E37241FB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933-78DF-476E-B701-B0C3406F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13D2-AEB4-4984-B454-AB48C958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F213-5F0A-44F8-91FC-6F855D943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A387-CC74-4DE5-9F41-6F0F38B20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D46D-70D9-4D43-8825-53AD164D7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2A44-8FC8-4738-98B3-27FBC673C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586-9B95-49F0-9E4B-373D89279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7BAC-FB9B-4973-A099-310512B59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9EB9-DFC5-482D-B019-6D11C5DD4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D4BB-2FAE-40DB-BF77-8CE8AD47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230E-45C3-4C76-AC23-E43713A2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F65-B680-4A86-BED3-EBE92A09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E70E-3EB2-46E6-B57A-48C14F32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FOR THE BAND "WILD CHER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9200" y="762120"/>
            <a:ext cx="790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SCAR WILDE'S MOST FAMOUS NOVEL, ABOUT A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8160" y="762120"/>
            <a:ext cx="7265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HIKER PROTAGONIST IN THE 2014 FILM "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REMY  "THIRTEEN"  HAD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414440" y="762120"/>
            <a:ext cx="6315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OLIVIA WILDE PLAY ON THE TV SHOW "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57080" y="774720"/>
            <a:ext cx="7628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NHL TEAM "THE WILD" PLAY THEIR HOME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 PAIR:  ACES  AND  8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09760" y="762120"/>
            <a:ext cx="81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D BILL HICKOK WAS KILLED WHILE HE WAS PLAYING POKER.  WHAT HAND DID     HE HAVE, NOW KNOWN AS      THE "DEAD MAN'S H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D TURKEY BOURBON IS DISTILL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SMITH  &amp;  KEVIN  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252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99 FILM "WILD WILD WEST", WHAT 2 ACTORS PLAYED THE SECRET SERVICE AGENTS WHO PROTECT PRESIDENT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O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471680" y="762120"/>
            <a:ext cx="620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WILD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HIKER PROTAGONIST IN THE 2014 FILM "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IN  PER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3680" y="762120"/>
            <a:ext cx="82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1963-1985 DOCUMENTARY TV SERIES "WILD KINGD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  THAT  FUNKY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43000" y="762120"/>
            <a:ext cx="68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FOR THE BAND "WILD CHER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CTURE  OF  DORIAN  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28560" y="762120"/>
            <a:ext cx="788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SCAR WILDE'S MOST FAMOUS NOVEL, ABOUT A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OLIVIA WILDE PLAY ON THE TV SHOW "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5240" y="762120"/>
            <a:ext cx="755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NHL TEAM "THE WILD" PLAY THEIR HOME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D BILL HICKOK WAS KILLED WHILE HE WAS PLAYING POKER.  WHAT HAND DID     HE HAVE, NOW KNOWN AS      THE "DEAD MAN'S H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D TURKEY BOURBON IS DISTILLED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99 FILM "WILD WILD WEST", WHAT 2 ACTORS PLAYED THE SECRET SERVICE AGENTS WHO PROTECT PRESIDENT G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62240" y="761760"/>
            <a:ext cx="641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WILD 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1963-1985 DOCUMENTARY TV SERIES "WILD KINGD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13T13:27:26Z</dcterms:modified>
  <cp:revision>362</cp:revision>
  <dc:subject/>
  <dc:title>Slide 1</dc:title>
</cp:coreProperties>
</file>