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7BC7-8C48-48B8-A96E-1502D1279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6204-F0C5-45A7-A359-C60BA8B6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6B3C-45D4-4132-AF32-FF2A1206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1CB7-7602-4C68-BCDC-15B7921C3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B34B-CD34-4D7C-8991-0973B955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AF9D-9E7D-47B4-AECF-1EE6027A9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C52F-216D-4363-A0FD-1B89E3B37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C7EC-4064-4F5C-8142-53F988620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ECA9-D620-41FA-81D7-BF7FB4951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F084-7368-4A98-B99D-A3EC35229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3AD2-9182-4A59-B022-38EB8AB70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FED8-7FE0-4D95-9DE5-E372E7DD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5E3E-6DE9-4686-9C3A-7BA7CC0B2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3797-C61A-4627-893C-AF1831016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8EC4-8BCF-4406-B3D3-9DB829CFC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A0C1-08DC-4F47-A541-7DF814C4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6E99-D776-43DB-89DD-BAD7CDB9A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E5F7-1B88-444E-B2E8-1FEE7F5AC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D853-1BAA-4EA0-8DF8-45430C122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DBA4-9AA4-465B-AC51-9DD0569B1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C8CA-221F-45D7-952A-759738EA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6044-D4A9-4217-9DA7-0FA4F9916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6B6B-8F4F-40A5-A958-795B283AE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T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MATCH", A 2013 FILM STARRING ROBERT DE NIRO AND SYLVESTER STALLONE, IS ABOUT WHAT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MAIN CHEMICALS ON A MATCH HEAD ARE POTASSIUM CHLORATE, SULFU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TCHES ARE THERE IN A TYPICAL MATCH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827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LIFIC AND CONTROVERSIAL DIRECTOR DIRECTED THE 2005 FILM "MATCH POI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MATCH.COM FOUNDED?  1990, 1995, OR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C  BALD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MATCH GAME", A REMAKE OF THE 1973-1982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NUMBER OF POINTS YOU NEED TO WIN (WITHOUT A RESIGNATION) IN ORDER TO WIN A MEN'S TENNIS MATCH AT WIMBLE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UTHOR OF "JANE          EYRE", WROTE "LIFE IS SO CONSTRUCTED THAT THE EVENT DOES NOT, CANNOT, WILL NOT MATCH THE EXPECTATIO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95280" y="762120"/>
            <a:ext cx="6553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TCHES ARE THERE IN A TYPICAL MATCH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DLER  ON  THE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5564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DOES THE SONG "MATCHMAKER" COME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UDGE MATCH", A 2013 FILM STARRING ROBERT DE NIRO AND SYLVESTER STALLONE, IS ABOUT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SPHO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19320" y="762120"/>
            <a:ext cx="6705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MAIN CHEMICALS ON A MATCH HEAD ARE POTASSIUM CHLORATE, SULFU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OLIFIC AND CONTROVERSIAL DIRECTOR DIRECTED THE 2005 FILM "MATCH POI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MATCH.COM FOUNDED?  1990, 1995, OR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MATCHBOX TWEN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MATCH GAME", A REMAKE OF THE 1973-1982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NUMBER OF POINTS YOU NEED TO WIN (WITHOUT A RESIGNATION) IN ORDER TO WIN A MEN'S TENNIS MATCH AT WIMBLE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UTHOR OF "JANE       EYRE", WROTE "LIFE IS SO CONSTRUCTED THAT THE EVENT DOES NOT, CANNOT, WILL NOT MATCH THE EXPECTATIO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DOES THE SONG "MATCHMAKER" COME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6T16:20:58Z</dcterms:created>
  <dc:creator>Jennifer Budzinski</dc:creator>
  <dc:description/>
  <dc:language>en-US</dc:language>
  <cp:lastModifiedBy>Erich Friedman</cp:lastModifiedBy>
  <dcterms:modified xsi:type="dcterms:W3CDTF">2020-09-04T13:41:42Z</dcterms:modified>
  <cp:revision>325</cp:revision>
  <dc:subject/>
  <dc:title>Slide 1</dc:title>
</cp:coreProperties>
</file>