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3B01-8172-4EC2-9A55-5A4BF273B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9B8B-34F3-4BAF-AB93-D7FEF17EE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BC20-1060-4141-BB71-79D428F24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66F2-402B-4AB8-85FB-F92FD6E57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D2A2-8814-46D5-B80F-B4847F9B1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4317-6FBD-4AE0-8E02-8348494DD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2301-DD59-44C9-92AA-651BA05E3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7D18-3ED3-4AE4-8C5A-6EED6C978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305E-4C4A-40FA-AD7A-D51A94068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D68D-BE03-4F58-B2B1-84A670371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E835-C134-41F8-A1CB-C13C55635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0730-CD98-4D6E-BD2B-6D59E0A40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DAB2-FC83-42DC-B3C2-F8F871D31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5D21-48A3-4CDC-BFDF-39B3978CD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4441-242D-4283-AD60-3D36B05B4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B748-EE73-47F1-A9AB-2D0486667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F783-1DF7-45AD-B5F8-1A5C40A3B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63C0-FDFF-4869-A9AA-C34F3B808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B966-FEDD-4ADE-8C57-AD3757A63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EEEC-7B1E-4A72-AD57-C5124FAE4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1D6D-B8B5-44A7-B2C3-73DDC8899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C43D-204A-4909-BD71-8EB6C5C30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6895-3CD8-4326-A429-43F65829A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RUDGE MATCH", A 2013 FILM STARRING ROBERT DE NIRO AND SYLVESTER STALLONE, IS ABOUT WHAT SPO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143000" y="762120"/>
            <a:ext cx="6858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3 MAIN CHEMICALS ON A MATCH HEAD ARE POTASSIUM CHLORATE, SULFUR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19320" y="762120"/>
            <a:ext cx="67053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ATCHES ARE THERE IN A TYPICAL MATCHBOO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Y  A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827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ROLIFIC AND CONTROVERSIAL DIRECTOR DIRECTED THE 2005 FILM "MATCH POI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WAS MATCH.COM FOUNDED?  1990, 1995, OR 20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  THO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43000" y="76212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SINGER OF MATCHBOX TWEN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C  BALDW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URRENTLY HOSTS "MATCH GAME", A REMAKE OF THE 1973-1982 GAME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43080" y="762120"/>
            <a:ext cx="8458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INIMUM NUMBER OF POINTS YOU NEED TO WIN (WITHOUT A RESIGNATION) IN ORDER TO WIN A MEN'S TENNIS MATCH AT WIMBLED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OTTE  BRONT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19040" y="762120"/>
            <a:ext cx="83059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UTHOR OF "JANE          EYRE", WROTE "LIFE IS SO CONSTRUCTED THAT THE EVENT DOES NOT, CANNOT, WILL NOT MATCH THE EXPECTATION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95280" y="762120"/>
            <a:ext cx="6553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ATCHES ARE THERE IN A TYPICAL MATCHBOO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DDLER  ON  THE  RO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55640"/>
            <a:ext cx="7238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DOES THE SONG "MATCHMAKER" COME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X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RUDGE MATCH", A 2013 FILM STARRING ROBERT DE NIRO AND SYLVESTER STALLONE, IS ABOUT WHAT S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SP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219320" y="762120"/>
            <a:ext cx="67053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3 MAIN CHEMICALS ON A MATCH HEAD ARE POTASSIUM CHLORATE, SULFUR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ROLIFIC AND CONTROVERSIAL DIRECTOR DIRECTED THE 2005 FILM "MATCH POIN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19320" y="76212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WAS MATCH.COM FOUNDED?  1990, 1995, OR 20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SINGER OF MATCHBOX TWEN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URRENTLY HOSTS "MATCH GAME", A REMAKE OF THE 1973-1982 GAME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INIMUM NUMBER OF POINTS YOU NEED TO WIN (WITHOUT A RESIGNATION) IN ORDER TO WIN A MEN'S TENNIS MATCH AT WIMBLED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UTHOR OF "JANE       EYRE", WROTE "LIFE IS SO CONSTRUCTED THAT THE EVENT DOES NOT, CANNOT, WILL NOT MATCH THE EXPECTATION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DOES THE SONG "MATCHMAKER" COME FR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6T16:20:58Z</dcterms:created>
  <dc:creator>Jennifer Budzinski</dc:creator>
  <dc:description/>
  <dc:language>en-US</dc:language>
  <cp:lastModifiedBy>Erich Friedman</cp:lastModifiedBy>
  <dcterms:modified xsi:type="dcterms:W3CDTF">2020-09-04T13:41:42Z</dcterms:modified>
  <cp:revision>325</cp:revision>
  <dc:subject/>
  <dc:title>Slide 1</dc:title>
</cp:coreProperties>
</file>