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AB1-58FC-4D22-A701-12F02AAA4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6BCD-D37A-4274-8B3C-BCCFA7CF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FE5D-5812-469E-A753-3D074F80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0203-607F-4F30-BC4C-34C5AC61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F312-5C90-47C6-8F6C-7B052161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178-2354-4C16-9B67-D0D59271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194-BF41-4701-B5DA-976B209C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E856-B276-45B4-91EF-FEA4C148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8E56-BEBF-4B99-B73C-0ECDE5F2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5EAA-8F0A-4F1D-BD3E-D71FCD17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C234-E1C6-418B-8818-3B951785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574D-F918-40D5-9E8F-D7727D9D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09F2-FB6F-429C-8507-C748DADA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9F69-4670-433B-9323-2BC8CEA5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CDB2-9937-47BC-A015-E733C40A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1557-25E5-4F49-9E52-64E2C9FCF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BE7F-61DE-410D-AF6B-C324E47E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AA4-6BE5-4293-A825-7058551D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EAE4-2629-45C9-9D21-14378258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C7B0-D97F-439F-B4E8-CB74DA79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F42D-B532-4F49-ADA3-1F9E3971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CBC2-8D69-4BBC-AF56-9E25E885F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37F5-3AB3-4C35-A02E-363DF3F9E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MATCH", A 2013 FILM STARRING ROBERT DE NIRO AND SYLVESTER STALLONE, IS ABOUT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MAIN CHEMICALS ON A MATCH HEAD ARE POTASSIUM CHLORATE, SULFU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TCHES ARE THERE IN A TYPICAL MATCH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827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LIFIC AND CONTROVERSIAL DIRECTOR DIRECTED THE 2005 FILM "MATCH PO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MATCH.COM FOUNDED?  1990, 1995, OR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MATCH GAME", A REMAKE OF THE 1973-1982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NUMBER OF POINTS YOU NEED TO WIN (WITHOUT A RESIGNATION) IN ORDER TO WIN A MEN'S TENNIS MATCH AT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OF "JANE          EYRE", WROTE "LIFE IS SO CONSTRUCTED THAT THE EVENT DOES NOT, CANNOT, WILL NOT MATCH THE EXPECTATIO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TCHES ARE THERE IN A TYPICAL MATCH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R  ON  THE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5564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OES THE SONG "MATCHMAKER"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MATCH", A 2013 FILM STARRING ROBERT DE NIRO AND SYLVESTER STALLONE, IS ABOUT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19320" y="762120"/>
            <a:ext cx="67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MAIN CHEMICALS ON A MATCH HEAD ARE POTASSIUM CHLORATE, SULFU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LIFIC AND CONTROVERSIAL DIRECTOR DIRECTED THE 2005 FILM "MATCH POI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MATCH.COM FOUNDED?  1990, 1995, OR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MATCH GAME", A REMAKE OF THE 1973-1982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NUMBER OF POINTS YOU NEED TO WIN (WITHOUT A RESIGNATION) IN ORDER TO WIN A MEN'S TENNIS MATCH AT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OF "JANE       EYRE", WROTE "LIFE IS SO CONSTRUCTED THAT THE EVENT DOES NOT, CANNOT, WILL NOT MATCH THE EXPECTATIO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OES THE SONG "MATCHMAKER"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6T16:20:58Z</dcterms:created>
  <dc:creator>Jennifer Budzinski</dc:creator>
  <dc:description/>
  <dc:language>en-US</dc:language>
  <cp:lastModifiedBy>Erich Friedman</cp:lastModifiedBy>
  <dcterms:modified xsi:type="dcterms:W3CDTF">2020-09-04T13:41:42Z</dcterms:modified>
  <cp:revision>325</cp:revision>
  <dc:subject/>
  <dc:title>Slide 1</dc:title>
</cp:coreProperties>
</file>