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DC73-B747-473D-AD05-B60147608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D2D5-FA54-4033-A057-9A22EA368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04DE-DBE6-4598-94E7-6348852AA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AB07-921D-42FB-AE9A-E191E31D4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1D3D-4E5A-491E-9222-C5CD9F10E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15D4-184F-485A-9B17-D0CD2862F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51D1-FDD6-40D5-BF73-CF8538D22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C507-D520-40F4-80F0-81D71EC1D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A72D-8811-43A0-9E63-5EA65EAE7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CF84-AE66-4F71-A7B5-CAB17B0F7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1199-90CA-4640-94E3-601A34DB4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AE4D-0679-4324-8D22-8F8CFE8F9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B26C-D297-4794-BDB8-589E3B703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0737-7353-4EC8-9CED-65F7FEC3B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ECA4-676D-4A97-9131-7B5B55BC3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01B0-6DDA-453D-A70F-618B1610D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F459-C0A0-4D8B-BE88-44B9EEE4B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F45D-DCD3-4FCF-A0E2-85C5ECDB8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DA63-FF22-4014-B945-AB7EC7A41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2CD6-359B-49BF-8EEB-884E54635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0407-97D4-4012-B0CE-D739887E2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D032-220A-46D3-9BC6-5E0ACB9D3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18B5-E64B-45BC-9040-850536CD9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SYCH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SYCHOLOGIST IS RESPONSIBLE FOR THE CONCEPTS OF "THE COLLECTIVE UNCONSCIOUS" AND "ARCHETYP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990720" y="762120"/>
            <a:ext cx="7162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STANDARD TEST OF PSYCHOPATHOLOGY IS CALLED THE MMPI.  WHAT DOES MMPI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RSCHACH 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47640" y="762120"/>
            <a:ext cx="7848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ORT OF TEST DOES A SUBJECT DESCRIBE WHAT INKBLOTS LOOK L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EPH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266760" y="762120"/>
            <a:ext cx="86104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IS MOST COMMONLY ASSOCIATED WITH HAVING A GOOD MEM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305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YEWITNESS  MIS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33520" y="770040"/>
            <a:ext cx="8076960" cy="33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SOCIAL SCIENTISTS, WHAT ACCOUNTS FOR 45% OF WRONGFUL CONVIC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STERS  AND  JOH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SEARCHERS WERE MOST INFLUENTIAL IN THEIR STUDY OF HUMAN SEXUAL BEHAVIOR AND RESPON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533520" y="49528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TCH  T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2004 STUDY SHOWED THAT CHILDREN WERE MORE LIKELY TO DEVELOP ADHD IF FROM 1-3 YEARS OLD THEY DID WHAT EXCESSIVE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GMUND  FRE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562040" y="762120"/>
            <a:ext cx="6019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KNOWN AS THE FATHER OF PSYCHOANALYS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TELLIGENCE  or  I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23960" y="762120"/>
            <a:ext cx="769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STANFORD-BINET TEST MEAS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ORT OF TEST  DOES A SUBJECT DESCRIBE WHAT INKBLOTS LOOK LIK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SLOW'S  HIERARCHY  OF 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HEORY DID ABRAHAM MASLOW DESCRIBE IN HIS BOOK "MOTIVATION AND PERSONALI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RL  J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SYCHOLOGIST IS RESPONSIBLE FOR THE CONCEPTS OF "THE COLLECTIVE UNCONSCIOUS" AND "ARCHETYP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495680"/>
            <a:ext cx="82296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NESOTA  MULTIPHASIC  PERSONALITY 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028880" y="7621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STANDARD TEST OF PSYCHOPATHOLOGY IS CALLED THE MMPI.  WHAT DOES MMPI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IS MOST COMMONLY ASSOCIATED WITH HAVING A GOOD MEM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SOCIAL SCIENTISTS, WHAT ACCOUNTS FOR 45% OF WRONGFUL CONVIC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SEARCHERS WERE MOST INFLUENTIAL IN THEIR STUDY OF HUMAN SEXUAL BEHAVIOR AND RESPON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2004 STUDY SHOWED THAT CHILDREN WERE MORE LIKELY TO DEVELOP ADHD IF FROM 1-3 YEARS OLD THEY DID WHAT EXCESSIVE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600200" y="761760"/>
            <a:ext cx="5943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KNOWN AS THE FATHER OF PSYCHOANALYS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STANFORD-BINET TEST MEAS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HEORY DID ABRAHAM MASLOW DESCRIBE IN HIS BOOK "MOTIVATION AND PERSONALI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8T13:42:13Z</dcterms:created>
  <dc:creator>Jennifer Budzinski</dc:creator>
  <dc:description/>
  <dc:language>en-US</dc:language>
  <cp:lastModifiedBy>Erich Friedman</cp:lastModifiedBy>
  <dcterms:modified xsi:type="dcterms:W3CDTF">2022-11-22T10:01:54Z</dcterms:modified>
  <cp:revision>335</cp:revision>
  <dc:subject/>
  <dc:title>Slide 1</dc:title>
</cp:coreProperties>
</file>