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A7752-3F83-4E83-8EAC-72F05A65D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E2F9-9B83-4C90-B839-096F34E33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09AA-9E1E-46E4-B4C2-322176904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B66E-86C6-449D-B856-0A601D37E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01A16-14FC-458A-B94E-42F3543A8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E9A1-DA3A-4D92-9E28-DDD3E6BE7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30AF-A648-4264-8552-26A44D92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EB2E-D96C-4235-91D1-B7D05F26A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F7CF-59E2-4E64-8A50-70FFAED9A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7E04-67CF-4645-B92A-F0618582F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DCC1-1F90-40DC-BC87-90FE5B4DA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E034-C419-4EAF-9DFA-7BC085594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ED86-5F12-4446-97D0-2EC12EAAA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02A0-7652-4DBA-9F09-13C8895A6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9847-9F61-4FD0-AD48-F228858F1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E97F-73FB-49D6-B339-521B8319C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522D-BB70-4D47-A8F5-3F02F89F1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2DFF-9998-46D3-BB88-6712BE236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6CF7-A05A-43F3-A6E6-BFE0E6347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C882-9201-4AA7-8B6B-3A38EBC3B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C42D-EFD2-40FD-8E1C-6933B8853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3366-F24E-4152-8685-42BCC8965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AEF2-D2E2-450A-ADA5-703175440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SYCH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IS RESPONSIBLE FOR THE CONCEPTS OF "THE COLLECTIVE UNCONSCIOUS" AND "ARCHETYP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STANDARD TEST OF PSYCHOPATHOLOGY IS CALLED THE MMPI.  WHAT DOES MMPI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RSCHACH 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47640" y="762120"/>
            <a:ext cx="7848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TEST DOES A SUBJECT DESCRIBE WHAT INKBLOTS LOOK L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PH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66760" y="762120"/>
            <a:ext cx="86104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MOST COMMONLY ASSOCIATED WITH HAVING A GOOD MEM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YEWITNESS  MIS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533520" y="770040"/>
            <a:ext cx="8076960" cy="33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SOCIAL SCIENTISTS, WHAT ACCOUNTS FOR 45% OF WRONGFUL CONVI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S  AND  JOH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EARCHERS WERE MOST INFLUENTIAL IN THEIR STUDY OF HUMAN SEXUAL BEHAVIOR AND RESPON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CH  T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2004 STUDY SHOWED THAT CHILDREN WERE MORE LIKELY TO DEVELOP ADHD IF FROM 1-3 YEARS OLD THEY DID WHAT EXCESSIVE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MUND 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562040" y="762120"/>
            <a:ext cx="6019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KNOWN AS THE FATHER OF PSYCHOANALY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LLIGENCE  or  I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TANFORD-BINET TEST MEAS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ORT OF TEST  DOES A SUBJECT DESCRIBE WHAT INKBLOTS LOOK LIK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LOW'S  HIERARCHY  OF 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Y DID ABRAHAM MASLOW DESCRIBE IN HIS BOOK "MOTIVATION AND PERSONAL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RL  J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SYCHOLOGIST IS RESPONSIBLE FOR THE CONCEPTS OF "THE COLLECTIVE UNCONSCIOUS" AND "ARCHETYP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49568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  MULTIPHASIC  PERSONALITY 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28880" y="762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E STANDARD TEST OF PSYCHOPATHOLOGY IS CALLED THE MMPI.  WHAT DOES MMPI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IS MOST COMMONLY ASSOCIATED WITH HAVING A GOOD MEM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SOCIAL SCIENTISTS, WHAT ACCOUNTS FOR 45% OF WRONGFUL CONVI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SEARCHERS WERE MOST INFLUENTIAL IN THEIR STUDY OF HUMAN SEXUAL BEHAVIOR AND RESPON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2004 STUDY SHOWED THAT CHILDREN WERE MORE LIKELY TO DEVELOP ADHD IF FROM 1-3 YEARS OLD THEY DID WHAT EXCESSIVE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KNOWN AS THE FATHER OF PSYCHOANALYS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STANFORD-BINET TEST MEAS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HEORY DID ABRAHAM MASLOW DESCRIBE IN HIS BOOK "MOTIVATION AND PERSONAL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8T13:42:13Z</dcterms:created>
  <dc:creator>Jennifer Budzinski</dc:creator>
  <dc:description/>
  <dc:language>en-US</dc:language>
  <cp:lastModifiedBy>Erich Friedman</cp:lastModifiedBy>
  <dcterms:modified xsi:type="dcterms:W3CDTF">2022-11-22T10:01:54Z</dcterms:modified>
  <cp:revision>335</cp:revision>
  <dc:subject/>
  <dc:title>Slide 1</dc:title>
</cp:coreProperties>
</file>