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C8D9-ED2F-4CC1-83F6-E7ECADCC7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27FD-3CB3-412C-9923-F0F6FDB0D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3B6F-5369-42BA-A68B-89AFCF357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C4DA-AF15-4F3B-951D-E54AE291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683B-B680-425A-A73C-E74BA7953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63BF-31EA-4E16-8597-B90D8295E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C7CF-249B-419B-B7CA-B82696C7F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0453-2244-4ED3-8570-4EE0FE12B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D4EA-9AD0-4742-A4A2-B4CE13E3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DE6B-3BCE-4B36-8F7D-E0ECD9CC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D8AC-AEB0-43C1-8F78-FF02B435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9F8C-08D7-435B-9125-263759415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2128-C18A-4918-A9BC-DB8993C17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A8EE-E220-40D6-B178-EEBDFBD7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9B4A-130A-400B-B6A7-FC719139B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149E-AAD2-46D0-AA90-444032E5D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DCDB-ABA3-4AFB-A54C-A968C7814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04AB-786D-4C00-A4F6-B21CA24F3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A5DF-D15D-404C-BA3B-44094021D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B88F-2BB4-40C6-82A6-1D97979B6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5333-729F-4C81-8EEF-0107F28D6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3EF1-D10F-40BA-BC90-1A14FE59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24F9-B19D-4684-925D-2D5B95CA6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ORIGIN OF THE TERM "SOUPED UP" FOR VEHICLES COMES FROM THE WORD "SUPERCHARG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P COMPANY OWNS THE "PEPPERIDGE FARMS" AND "V8 JUICE" BR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INGREDIENT IN THE EASTERN EUROPEAN SOUP BORSC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WARH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ARTIST IS FAMOUS FOR HIS PAINTINGS OF SOUP C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NO  SOUP  FOR  YOU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LINE FROM THE "SEINFELD" EPISODE ENTITLED "THE SOUP NAZ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  ON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LY STARTED IN "THE  PRIMORDIAL SO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'S  MY  L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968-1975, WHAT GAME SHOW WAS SOUPY SALES A REGULAR PANELIST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READY  TO  EA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LLS BETTER IN THE UNITED STATES, CONDENSED SOUP OR "READY TO EAT" S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IT SONG OF THE MUSICAL GROUP BOWLING FOR S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INGREDIENT IN THE EASTERN EUROPEAN SOUP BORSC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700'S  (18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ENTU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CENTURY DID THE FIRST MODERN SOUP KITCHENS TO FEED THE HUNGRY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ORIGIN OF THE TERM "SOUPED UP" FOR VEHICLES COMES FROM THE WORD "SUPERCHARG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PBELL  S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P COMPANY OWNS THE "PEPPERIDGE FARMS" AND "V8 JUICE" BR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ARTIST IS FAMOUS FOR HIS PAINTINGS OF SOUP C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LINE FROM THE "SEINFELD" EPISODE ENTITLED "THE SOUP NAZ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LY STARTED IN "THE  PRIMORDIAL SOU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968-1975, WHAT GAME SHOW WAS SOUPY SALES A REGULAR PANELIST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LLS BETTER IN THE UNITED STATES, CONDENSED SOUP OR "READY TO EAT" S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IT SONG OF THE MUSICAL GROUP BOWLING FOR S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CENTURY DID THE FIRST MODERN SOUP KITCHENS TO FEED THE HUNGRY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6:37:55Z</dcterms:created>
  <dc:creator>Jennifer Budzinski</dc:creator>
  <dc:description/>
  <dc:language>en-US</dc:language>
  <cp:lastModifiedBy>Erich Friedman</cp:lastModifiedBy>
  <dcterms:modified xsi:type="dcterms:W3CDTF">2020-09-04T13:55:49Z</dcterms:modified>
  <cp:revision>332</cp:revision>
  <dc:subject/>
  <dc:title>Slide 1</dc:title>
</cp:coreProperties>
</file>