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BACCA-D406-472E-A3AA-BDF4A83A7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4CAB7-1DB3-4275-8723-B4F8E6873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3A130-CD9E-420B-BA26-328929E18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F2DD2-99A0-4EEE-8D24-ABCE6C354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EEC66-FCDE-4198-A18E-ECBC0C01D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22890-C3DD-454C-886B-053E17D9F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8503D-C78F-444A-A9DA-16F7CBF88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0AF56-2768-434F-B867-199A55ADA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0E56A-BF27-49F1-8AB9-F878D630D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54C12-1F98-41F2-896A-AF4C8666B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F037D-5ACA-47C5-9A20-763A84396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FF06B-5897-4C29-BEED-41949330A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E3716-79E3-4335-AC3E-5064E9383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9F106-8C54-4CD8-951B-1DE5687C1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D52DF-B892-4022-AB9B-9610917C1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9992E-6A59-4638-A489-C0FC8D276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F8F40-CE2B-4589-8433-525740630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B3359-CA20-4140-B5F8-E6094661C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EA419-1B46-4648-82CF-D9CCACFB9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CF1C1-A1AF-4AFB-823A-C5BAF1386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B45DB-CE3F-405B-B284-FB262ECB4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3DCF0-A2F0-4971-B5ED-922CF2872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6E629-1595-44F2-A06A-3CB176102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U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ORIGIN OF THE TERM "SOUPED UP" FOR VEHICLES COMES FROM THE WORD "SUPERCHARGE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UP COMPANY OWNS THE "PEPPERIDGE FARMS" AND "V8 JUICE" BRAN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71680" y="762120"/>
            <a:ext cx="8001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AIN INGREDIENT IN THE EASTERN EUROPEAN SOUP BORSCH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DY  WARH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00280" y="762120"/>
            <a:ext cx="75438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P ARTIST IS FAMOUS FOR HIS PAINTINGS OF SOUP CA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"NO  SOUP  FOR  YOU!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0028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FAMOUS LINE FROM THE "SEINFELD" EPISODE ENTITLED "THE SOUP NAZI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FE  ON  EAR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PPOSEDLY STARTED IN "THE  PRIMORDIAL SOUP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5335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AT'S  MY  LIN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ROM 1968-1975, WHAT GAME SHOW WAS SOUPY SALES A REGULAR PANELIST 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"READY  TO  EAT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38080" y="762120"/>
            <a:ext cx="746784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SELLS BETTER IN THE UNITED STATES, CONDENSED SOUP OR "READY TO EAT" SO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8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HIT SONG OF THE MUSICAL GROUP BOWLING FOR SOU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AIN INGREDIENT IN THE EASTERN EUROPEAN SOUP BORSCH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876920"/>
            <a:ext cx="80769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700'S  (18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CENTUR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19040" y="762120"/>
            <a:ext cx="8305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RING WHAT CENTURY DID THE FIRST MODERN SOUP KITCHENS TO FEED THE HUNGRY APP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80880" y="762120"/>
            <a:ext cx="83822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ORIGIN OF THE TERM "SOUPED UP" FOR VEHICLES COMES FROM THE WORD "SUPERCHARGE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MPBELL  S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UP COMPANY OWNS THE "PEPPERIDGE FARMS" AND "V8 JUICE" BRAN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P ARTIST IS FAMOUS FOR HIS PAINTINGS OF SOUP CA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FAMOUS LINE FROM THE "SEINFELD" EPISODE ENTITLED "THE SOUP NAZI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PPOSEDLY STARTED IN "THE  PRIMORDIAL SOUP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ROM 1968-1975, WHAT GAME SHOW WAS SOUPY SALES A REGULAR PANELIST 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SELLS BETTER IN THE UNITED STATES, CONDENSED SOUP OR "READY TO EAT" SOU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76280" y="761760"/>
            <a:ext cx="81914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HIT SONG OF THE MUSICAL GROUP BOWLING FOR SOU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RING WHAT CENTURY DID THE FIRST MODERN SOUP KITCHENS TO FEED THE HUNGRY APPE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5T16:37:55Z</dcterms:created>
  <dc:creator>Jennifer Budzinski</dc:creator>
  <dc:description/>
  <dc:language>en-US</dc:language>
  <cp:lastModifiedBy>Erich Friedman</cp:lastModifiedBy>
  <dcterms:modified xsi:type="dcterms:W3CDTF">2020-09-04T13:55:49Z</dcterms:modified>
  <cp:revision>332</cp:revision>
  <dc:subject/>
  <dc:title>Slide 1</dc:title>
</cp:coreProperties>
</file>