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B264C-BB69-479D-BBF2-D10CB4C34D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7949C-913A-4442-B64E-8DBA2F942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45E5-475B-4DA4-8929-6C752287B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3C2DA-D79B-49EE-9D79-474F9F85A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959AA-88E9-4F28-9139-7B4A08C3A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A2D25-E22D-4F26-A2ED-B7950A38D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9D9E3-55DB-4102-AE1D-B175B4BDB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D079D-2FA7-46BF-9C91-CEC99018C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CD351-6983-4E24-99C6-FCA132951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951FD-F20B-4C77-A795-A702ADC2C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0351-0F51-426C-90AE-DF926FB64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2154A-B27B-42EB-96F1-4E47F8565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A64C2-0FED-4588-ACF4-57E124BA1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68B23-8F7B-437C-8EF2-C50CE0526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037D9-22D8-4DDF-9E09-7E8DD39D5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D9B88-906D-4BBE-85E5-2210A9636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F9B6B-79CF-4B22-87C4-376EE1AD0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92C9-FB57-49F1-8FC8-A20D1780F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199B8-C12D-48A0-BBD1-C085CD3F7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05FB7-B557-4DF6-93A0-2D72284EE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74F2A-0DFB-45FA-9CC9-20731DB6C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4F397-B393-41BF-AA9C-D87F26911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A9E53-1050-497E-BA10-12A12E35E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OA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352520" y="761760"/>
            <a:ext cx="6438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BOAT ON TV'S "GILLIGAN'S ISLA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228600" y="762120"/>
            <a:ext cx="8686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WHAT 1951 FILM, NAMED AFTER THE BOAT IN THE FILM, DID HUMPHREY BOGART WIN HIS ONLY OSC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ÑA,  PINTA  &amp;  SANTA  MAR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257480" y="762120"/>
            <a:ext cx="6629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RE THE 3 SHIPS THAT CHRISTOPHER COLUMBUS LED TO  THE NEW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VIN  MACLE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52560" y="762120"/>
            <a:ext cx="7238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CAPTAIN OF "THE LOVE BOA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YFL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HIP TRANSPORTED ENGLISH SEPARATISTS AND PURITANS TO AMERICA IN 162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9528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SS  CON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HIP WITH NICKNAME "OLD IRONSIDES" WAS THE LONGEST-SERVING WARSHIP IN HISTO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19040" y="4952880"/>
            <a:ext cx="8305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SMAR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RMAN BATTLESHIP WAS SUNK IN 1941, BUT WAS FOUND AT THE BOTTOM OF THE OCEAN IN 198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FULL  H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409760" y="800280"/>
            <a:ext cx="63244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"BOAT" SLANG FOR IN POK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52280" y="4952880"/>
            <a:ext cx="8839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FESAV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00280" y="762120"/>
            <a:ext cx="7543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RD CANDY WAS INTRODUCED THE SAME YEAR THAT THE TITANIC SAN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257120" y="762120"/>
            <a:ext cx="6629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RE THE 3 SHIPS THAT CHRISTOPHER COLUMBUS LED TO  THE NEW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0" y="495288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SS  MONITOR  &amp;  CSS  MERRIM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76280" y="762120"/>
            <a:ext cx="819144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RE THE FIRST 2 SHIPS MADE PREDOMINANTLY OF IRON WHICH ENGAGED EACH OTHER IN BATTLE (BOTH BEGIN WITH THE LETTER "M"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371600" y="495288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S  MIN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371600" y="762120"/>
            <a:ext cx="6400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BOAT ON TV'S "GILLIGAN'S ISLA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AFRICAN  QU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14440" y="762120"/>
            <a:ext cx="81151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WHAT 1951 FILM, NAMED AFTER THE BOAT IN THE FILM, DID HUMPHREY BOGART   WIN HIS ONLY OSC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CAPTAIN OF "THE LOVE BOA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66680" y="762120"/>
            <a:ext cx="7010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HIP TRANSPORTED ENGLISH SEPARATISTS AND PURITANS TO AMERICA IN 162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HIP WITH NICKNAME "OLD IRONSIDES" WAS THE LONGEST-SERVING WARSHIP IN HISTO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RMAN BATTLESHIP WAS SUNK IN 1941, BUT WAS FOUND AT THE BOTTOM OF THE OCEAN IN 1989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333440" y="761760"/>
            <a:ext cx="6477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"BOAT" SLANG FOR IN POK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RD CANDY WAS INTRODUCED THE SAME YEAR THAT THE TITANIC SAN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RE THE FIRST 2 SHIPS MADE PREDOMINANTLY OF IRON WHICH ENGAGED EACH OTHER IN BATTLE (BOTH BEGIN WITH THE LETTER "M"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6T19:39:50Z</dcterms:created>
  <dc:creator>Jennifer Budzinski</dc:creator>
  <dc:description/>
  <dc:language>en-US</dc:language>
  <cp:lastModifiedBy>Erich Friedman</cp:lastModifiedBy>
  <dcterms:modified xsi:type="dcterms:W3CDTF">2020-09-04T14:37:11Z</dcterms:modified>
  <cp:revision>349</cp:revision>
  <dc:subject/>
  <dc:title>Slide 1</dc:title>
</cp:coreProperties>
</file>