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854-7AE8-45E3-9081-88FDDF06A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0F34-AFC7-4DDF-A01C-FC49AF6B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8397-1F7C-4737-A7FF-E4029D32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1AAE-2A96-49C0-8558-D5A72EF1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283B-DA0C-438C-96E7-C1A9866C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FA0B-9114-42EF-BC14-93DD98ABA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F29B-DA21-4CA6-835C-F8EA55B1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6358-8815-4E38-AA8D-BAB1D687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DAA4-9116-4D12-9F81-B54D1AD87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88E8-6F5E-437C-98DA-3A460DABA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E669-B1F1-46FC-883C-CCD87526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51F5-8F80-432E-9ED7-D74A9247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8A42-68BA-43FD-9006-385CC1703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F9BC-69F2-4E57-B8AE-4E71BA15F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A7E0-7A58-4E75-8221-BB1D868D0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60FD-BB9B-4E99-A32A-F5040566B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BD3E-3CE0-4256-8974-8B6873D71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EF37-9B33-4B7A-88A0-AA59A6773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B1EA-75B4-4AA5-AC62-0B64B72C4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77FF-D198-4F71-A321-3910FF1E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0BFC-6623-4B9C-A02C-4C7841ED4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749C-8020-43B0-8955-EB9908880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C50-AD07-414F-9B3F-9FBD74562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OAT ON TV'S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51 FILM, NAMED AFTER THE BOAT IN THE FILM, DID HUMPHREY BOGART WIN HIS ONLY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ÑA,  PINTA  &amp;  SANTA  MAR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3 SHIPS THAT CHRISTOPHER COLUMBUS LED TO  THE NEW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VIN  MACLE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APTAIN OF "THE LOVE BO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ENGLISH SEPARATISTS AND PURITANS TO AMERICA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CON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WITH NICKNAME "OLD IRONSIDES" WAS THE LONGEST-SERVING WARSHIP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SMAR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TTLESHIP WAS SUNK IN 1941, BUT WAS FOUND AT THE BOTTOM OF THE OCEAN IN 19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800280"/>
            <a:ext cx="6324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BOAT" SLANG FOR IN PO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S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WAS INTRODUCED THE SAME YEAR THAT THE TITANIC SA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3 SHIPS THAT CHRISTOPHER COLUMBUS LED TO  THE NEW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0" y="4952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SS  MONITOR  &amp;  CSS  MERRIM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2 SHIPS MADE PREDOMINANTLY OF IRON WHICH ENGAGED EACH OTHER IN BATTLE (BOTH BEGIN WITH THE LETTER "M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71600" y="495288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S  MIN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BOAT ON TV'S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FRICAN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51 FILM, NAMED AFTER THE BOAT IN THE FILM, DID HUMPHREY BOGART   WIN HIS ONLY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APTAIN OF "THE LOVE BO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TRANSPORTED ENGLISH SEPARATISTS AND PURITANS TO AMERICA IN 162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IP WITH NICKNAME "OLD IRONSIDES" WAS THE LONGEST-SERVING WARSHIP IN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BATTLESHIP WAS SUNK IN 1941, BUT WAS FOUND AT THE BOTTOM OF THE OCEAN IN 19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"BOAT" SLANG FOR IN PO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WAS INTRODUCED THE SAME YEAR THAT THE TITANIC SA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2 SHIPS MADE PREDOMINANTLY OF IRON WHICH ENGAGED EACH OTHER IN BATTLE (BOTH BEGIN WITH THE LETTER "M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6T19:39:50Z</dcterms:created>
  <dc:creator>Jennifer Budzinski</dc:creator>
  <dc:description/>
  <dc:language>en-US</dc:language>
  <cp:lastModifiedBy>Erich Friedman</cp:lastModifiedBy>
  <dcterms:modified xsi:type="dcterms:W3CDTF">2020-09-04T14:37:11Z</dcterms:modified>
  <cp:revision>349</cp:revision>
  <dc:subject/>
  <dc:title>Slide 1</dc:title>
</cp:coreProperties>
</file>