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451E-0E75-4862-80B7-9E748B534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477C-9FC1-4F8B-89BA-8CE226DE4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07F-699B-45A0-AD9E-C0EDE03D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D115-E70F-47FF-B68F-2C4F9451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10F3-0467-4810-9643-0AF1F470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16A-31A0-4409-BC9B-9E7D2680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1711-DCFE-486C-AFDC-976BB161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E8D2-BBF6-4702-A64D-9039BE3D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9C4-6629-4D31-87C0-7EE4C140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3812-5CC5-49B4-9134-B8BB1D7E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C522-7CD9-42A4-AA52-321F15485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21C4-97D8-4BD1-A392-2E086762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1943-7B87-4A86-AAC5-79BAE258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84C0-6B93-426D-AFF8-84ED7B6C6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8DB-9224-4BDC-9B41-10C58BC45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B9F-CB9D-453D-984A-943953D6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0247-B42A-4178-AD2B-28E240E7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7036-15AA-49CA-AEC2-AB60A5A1A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1104-7B6F-41CA-ABA0-9813A3B9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CBE-E629-421A-A116-3635A0FA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67CD-77F9-4C5E-AB22-CF9BDD15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037A-011A-4218-A2F6-F132D06B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FEA-7E93-4F8C-9427-7D8AA25B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OAT ON TV'S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51 FILM, NAMED AFTER THE BOAT IN THE FILM, DID HUMPHREY BOGART WIN HIS ONLY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ÑA,  PINTA  &amp;  SANTA  MA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3 SHIPS THAT CHRISTOPHER COLUMBUS LED TO  THE NEW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VIN  MACLE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APTAIN OF "THE LOVE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ENGLISH SEPARATISTS AND PURITANS TO AMERICA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CO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WITH NICKNAME "OLD IRONSIDES" WAS THE LONGEST-SERVING WARSHIP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TTLESHIP WAS SUNK IN 1941, BUT WAS FOUND AT THE BOTTOM OF THE OCEAN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800280"/>
            <a:ext cx="6324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BOAT" SLANG FOR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S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WAS INTRODUCED THE SAME YEAR THAT THE TITANIC SA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3 SHIPS THAT CHRISTOPHER COLUMBUS LED TO  THE NEW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952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MONITOR  &amp;  CSS  MERRIM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2 SHIPS MADE PREDOMINANTLY OF IRON WHICH ENGAGED EACH OTHER IN BATTLE (BOTH BEGIN WITH THE LETTER "M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71600" y="4952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S  MIN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OAT ON TV'S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FRICAN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51 FILM, NAMED AFTER THE BOAT IN THE FILM, DID HUMPHREY BOGART   WIN HIS ONLY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APTAIN OF "THE LOVE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ENGLISH SEPARATISTS AND PURITANS TO AMERICA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WITH NICKNAME "OLD IRONSIDES" WAS THE LONGEST-SERVING WARSHIP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TTLESHIP WAS SUNK IN 1941, BUT WAS FOUND AT THE BOTTOM OF THE OCEAN IN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BOAT" SLANG FOR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WAS INTRODUCED THE SAME YEAR THAT THE TITANIC SA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2 SHIPS MADE PREDOMINANTLY OF IRON WHICH ENGAGED EACH OTHER IN BATTLE (BOTH BEGIN WITH THE LETTER "M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6T19:39:50Z</dcterms:created>
  <dc:creator>Jennifer Budzinski</dc:creator>
  <dc:description/>
  <dc:language>en-US</dc:language>
  <cp:lastModifiedBy>Erich Friedman</cp:lastModifiedBy>
  <dcterms:modified xsi:type="dcterms:W3CDTF">2020-09-04T14:37:11Z</dcterms:modified>
  <cp:revision>349</cp:revision>
  <dc:subject/>
  <dc:title>Slide 1</dc:title>
</cp:coreProperties>
</file>