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DBE0-D558-4CE6-B872-6C33895CF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B46-CBCF-49E5-99A2-021AC7FE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82B-3305-403A-BAC0-F9F3F69C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8DF8-24FE-41F1-8F40-61481A08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E107-518F-4FCC-9361-C0918A209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9DF-F094-467C-8FC7-384A1FDC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AF6-1490-4C39-A5A3-03B0F39B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9A8B-0B16-4018-8F14-C161A089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6E5-8218-478C-9A42-5BE8285F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F4CB-A2B3-4133-9488-248FEF49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0CF2-257D-4F4C-90C3-4BC33745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D32-4CB3-44BC-8439-91D164E2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6DBC-64CC-4B4C-9D80-E7FCD91CD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F491-5D88-4AF2-92CA-8781F0EA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E2F-40A4-41E0-9E0B-8FBA3128C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9BD8-3267-4367-8B26-B9910E8B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6AD7-D328-45D5-83B2-56ADEBB8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D75-9414-4E53-9E00-EB4430D5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B56-7CAB-4461-83CD-0044675B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0B0-10CE-429F-BF87-1AA6C7F5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2987-3DE8-413C-8839-28D5B7E0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AF1B-C239-4660-A0C9-749F98D8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18B-B67C-44BD-B020-C270E729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HUND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DULT AMERICANS WEIGH MORE THAN 300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SMALLEST POSSIBLE SCORE ON WHAT SORT OF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98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MAXIMUM 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OF SK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300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R GAME IS OFTEN PLAYED TO 1 MORE THAN 300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HIO CITY CONTAINS APPROXIMATELY 300,000 PEOPLE?  COLUMBUS, CLEVELAND, OR CINCINNA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AT APPROXIMATELY 300,000,000 METERS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300" IS ABOUT 300 SPARTAN SOLDIERS WHO SUPPOSEDLY FOUGHT AND BEAT ONE MILLION SOLDIERS FROM WHAT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827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THRIVED IN THE YEAR 300 A.D., THE MAYANS, AZTECS, OR IN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MAXIMUM SCORE IN WHAT GAME OF SK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THE CROW FLIES, WHICH CITY IS APPROXIMATELY 300 MILES FROM DE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LANTA GA, KEY WEST FL,   OR CHARLESTON S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DULT AMERICANS WEIGH MORE THAN 300 POUNDS?              1%, 2%, OR 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DIT  R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SMALLEST POSSIBLE SCORE ON WHAT SORT OF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300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R GAME IS OFTEN PLAYED TO 1 MORE THAN 300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HIO CITY CONTAINS APPROXIMATELY 300,000 PEOPLE?  COLUMBUS, CLEVELAND, OR CINCINNA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AT SPPROXIMATELY 300,000,000 METERS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300" IS ABOUT 300 SPARTAN SOLDIERS WHO SUPPOSEDLY FOUGHT AND BEAT ONE MILLION SOLDIERS FROM WHAT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THRIVED IN THE YEAR 300 A.D., THE MAYANS, AZTECS, OR INC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THE CROW FLIES, WHICH CITY IS APPROXIMATELY 300 MILES FROM DELAND, ATLANTA GA, KEY WEST FL, OR CHARLESTON S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9:22:26Z</dcterms:created>
  <dc:creator>Jennifer Budzinski</dc:creator>
  <dc:description/>
  <dc:language>en-US</dc:language>
  <cp:lastModifiedBy>Erich Friedman</cp:lastModifiedBy>
  <dcterms:modified xsi:type="dcterms:W3CDTF">2020-08-28T22:24:02Z</dcterms:modified>
  <cp:revision>292</cp:revision>
  <dc:subject/>
  <dc:title>Slide 1</dc:title>
</cp:coreProperties>
</file>