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D659-235B-4C74-A5E1-1749BBA67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B21F-7E09-422B-A97E-0B1A88F59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F8BB-42AF-449A-BE80-B5CC3DC69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1432-77FA-4E00-8B70-2F016BF01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9DD4-3683-4571-9828-1AE4E0D2F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2CE9-8D71-47BD-8A72-DDCB89246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0471-DBBE-4877-9ACC-DAC5347E2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B57F-A601-4368-9CC1-6BFD1E634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BEEC-D8AE-4404-BF77-B3828DF71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7496-9512-4D4B-A696-7B3AADE8C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43B7-250E-480C-9727-E8FE16BCF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95C3-686E-4371-AA5C-C030D3139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750A0-3117-4050-B043-E9EBBAD41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7A23-1D5B-4DF1-85C3-B4B66464D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1B3D-5FA6-4CD0-8ADE-5E480F57E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BC9B-97E5-4AFF-B02C-367636712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66AB-9FAE-43BE-AAAE-27C0A63B6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5656-1198-4D07-8137-9C0671CCC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7B26-6376-47A7-9D80-10CB4D902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4D81-5655-411B-AC1E-A3AE38812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245C-DBFD-4FF5-8132-6FEBE21A7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7CBF-7E02-4EF0-BBFE-0E491CEB9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563E-0040-4AAD-BDEE-22905A6CC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REE HUND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DULT AMERICANS WEIGH MORE THAN 300 POU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 IS THE SMALLEST POSSIBLE SCORE ON WHAT SORT OF R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698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 IS THE MAXIMUM SC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GAME OF SK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C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WRITE 300 IN ROMAN NUMERA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R GAME IS OFTEN PLAYED TO 1 MORE THAN 300 PO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CINNA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HIO CITY CONTAINS APPROXIMATELY 300,000 PEOPLE?  COLUMBUS, CLEVELAND, OR CINCINNA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VELS AT APPROXIMATELY 300,000,000 METERS PER SECO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S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300" IS ABOUT 300 SPARTAN SOLDIERS WHO SUPPOSEDLY FOUGHT AND BEAT ONE MILLION SOLDIERS FROM WHAT ARM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8276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THRIVED IN THE YEAR 300 A.D., THE MAYANS, AZTECS, OR IN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 IS THE MAXIMUM SCORE IN WHAT GAME OF SK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Y  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THE CROW FLIES, WHICH CITY IS APPROXIMATELY 300 MILES FROM DELAND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LANTA GA, KEY WEST FL,   OR CHARLESTON S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ADULT AMERICANS WEIGH MORE THAN 300 POUNDS?              1%, 2%, OR 5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DIT  R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300 IS THE SMALLEST POSSIBLE SCORE ON WHAT SORT OF R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DO YOU WRITE 300 IN ROMAN NUMERA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R GAME IS OFTEN PLAYED TO 1 MORE THAN 300 POI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HIO CITY CONTAINS APPROXIMATELY 300,000 PEOPLE?  COLUMBUS, CLEVELAND, OR CINCINNA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AVELS AT SPPROXIMATELY 300,000,000 METERS PER SECO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LM "300" IS ABOUT 300 SPARTAN SOLDIERS WHO SUPPOSEDLY FOUGHT AND BEAT ONE MILLION SOLDIERS FROM WHAT ARM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IVILIZATION THRIVED IN THE YEAR 300 A.D., THE MAYANS, AZTECS, OR INC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 THE CROW FLIES, WHICH CITY IS APPROXIMATELY 300 MILES FROM DELAND, ATLANTA GA, KEY WEST FL, OR CHARLESTON S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19:22:26Z</dcterms:created>
  <dc:creator>Jennifer Budzinski</dc:creator>
  <dc:description/>
  <dc:language>en-US</dc:language>
  <cp:lastModifiedBy>Erich Friedman</cp:lastModifiedBy>
  <dcterms:modified xsi:type="dcterms:W3CDTF">2020-08-28T22:24:02Z</dcterms:modified>
  <cp:revision>292</cp:revision>
  <dc:subject/>
  <dc:title>Slide 1</dc:title>
</cp:coreProperties>
</file>