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B6EA-3146-400F-A134-DF2F5434D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BF6E-84AE-418B-8C01-591B01A0D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CC0B-F2C6-48A1-A0DD-7EA283476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627C-CC58-4F99-AE95-EF55CDBFA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8AE5-D5C9-48C3-B023-5F6276703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2250-103C-41C6-B92B-C2EA79301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5285-635D-497C-B600-4B6123FCF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0DA4-214F-4163-BB90-7AA8B159A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390E-CEBD-41C2-8371-13917C626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9544-E9D4-4A23-AB94-FF127676B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5F1E-7BA6-4A10-A5EA-6F083B0B5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AD74-F9CC-40A8-919F-9C4B76D3D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009C-AE48-456F-BFA5-98E46B747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321B-EA00-4BEE-A019-5EB672451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3E8F-F978-431A-8226-11B31B50F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B109-AD86-40D9-81C3-D95AB3B46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A6DB-5D85-45F3-8FC6-C6EB2F225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DF91-C202-4C85-8A0D-943C4F0EE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6012-71EA-4DE4-91E8-1BBA58A5C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9D3A-13CD-4AD6-85C9-BBF6928D0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6D02-31D8-49DE-AA75-E701645C0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FC2B-1B7E-4B54-9918-E436C46D7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DDC3-E827-4C6A-BC75-6733FBFCA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REE HUNDR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 OF ADULT AMERICANS WEIGH MORE THAN 300 POU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00 IS THE SMALLEST POSSIBLE SCORE ON WHAT SORT OF RA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698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W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00 IS THE MAXIMUM SC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GAME OF SKI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C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YOU WRITE 300 IN ROMAN NUMER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808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R GAME IS OFTEN PLAYED TO 1 MORE THAN 300 POI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NCINNA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HIO CITY CONTAINS APPROXIMATELY 300,000 PEOPLE?  COLUMBUS, CLEVELAND, OR CINCINNAT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VELS AT APPROXIMATELY 300,000,000 METERS PER SECO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S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LM "300" IS ABOUT 300 SPARTAN SOLDIERS WHO SUPPOSEDLY FOUGHT AND BEAT ONE MILLION SOLDIERS FROM WHAT ARM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8276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Y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 THRIVED IN THE YEAR 300 A.D., THE MAYANS, AZTECS, OR INC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00 IS THE MAXIMUM SCORE IN WHAT GAME OF SKI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Y  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THE CROW FLIES, WHICH CITY IS APPROXIMATELY 300 MILES FROM DELA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LANTA GA, KEY WEST FL,   OR CHARLESTON S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 OF ADULT AMERICANS WEIGH MORE THAN 300 POUNDS?              1%, 2%, OR 5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EDIT  R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00 IS THE SMALLEST POSSIBLE SCORE ON WHAT SORT OF RA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YOU WRITE 300 IN ROMAN NUMER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R GAME IS OFTEN PLAYED TO 1 MORE THAN 300 POI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HIO CITY CONTAINS APPROXIMATELY 300,000 PEOPLE?  COLUMBUS, CLEVELAND, OR CINCINNAT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VELS AT SPPROXIMATELY 300,000,000 METERS PER SECO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LM "300" IS ABOUT 300 SPARTAN SOLDIERS WHO SUPPOSEDLY FOUGHT AND BEAT ONE MILLION SOLDIERS FROM WHAT ARM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 THRIVED IN THE YEAR 300 A.D., THE MAYANS, AZTECS, OR INC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2396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THE CROW FLIES, WHICH CITY IS APPROXIMATELY 300 MILES FROM DELAND, ATLANTA GA, KEY WEST FL, OR CHARLESTON S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2T19:22:26Z</dcterms:created>
  <dc:creator>Jennifer Budzinski</dc:creator>
  <dc:description/>
  <dc:language>en-US</dc:language>
  <cp:lastModifiedBy>Erich Friedman</cp:lastModifiedBy>
  <dcterms:modified xsi:type="dcterms:W3CDTF">2020-08-28T22:24:02Z</dcterms:modified>
  <cp:revision>292</cp:revision>
  <dc:subject/>
  <dc:title>Slide 1</dc:title>
</cp:coreProperties>
</file>