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CEF-016A-4698-9021-4696C5B7A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2A4-BEDC-4668-8A87-4C21D479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418-6BB7-4016-80FD-CAAAA4E8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087E-16DD-4EC6-B6BE-7DC2D2F1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962E-65E9-400D-9B6A-4F31283D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1913-C481-4977-8A6A-129CAD718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9F51-1BF5-4723-B697-1B9EE0126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7012-CD18-4A4E-A77F-94488C8A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4F6-0C4D-4DF4-AC48-CA847F0D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9DA0-1433-4264-A8BD-15C6008F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FEA-66F4-454B-95AE-677BB413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7A00-92C3-4B53-80BE-A610D769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330-A7DA-49C3-9A9A-EC468132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E405-0D88-4C1A-BAEC-CDE9D1378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6DA5-36DD-4B97-A94F-1B01B8DB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C7FB-6FB5-4A66-BA75-8E717F85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CFA-8790-47FE-A4B3-A650417E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A8F-2595-4153-BD71-783CF01A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89FF-6336-449E-9A74-D70D43E5D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5F5D-150C-4E0F-A934-4EEA6480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261-3FA4-4482-BF02-43DE149E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372C-7DAA-4664-96CC-5034EEEDC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32BB-A96B-47F4-9AD1-6B4050B8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SIGNED THE DECLARATION OF INDEPENDENCE IN 17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57320" y="762120"/>
            <a:ext cx="88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ARE ALLOWED ON AN NFL ROSTER DURING THE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9160" y="762120"/>
            <a:ext cx="710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ITE KEYS ARE THERE ON A PI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9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30360" y="762120"/>
            <a:ext cx="78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BER OF THE STREET CORRESPONDING TO THE BRIDGE IN A FAMOUS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57160" y="74448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24000" y="76212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XIMUM SPEED LIMIT (IN MPH) ALLOWED 1974-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APPEARS ON ALL CONTAINERS    OF HEINZ KETCH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DS COME IN A STANDARD DECK    OF PLAYING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TESTANTS ARE THERE IN THE MISS AMERICA PAGE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ITE KEYS ARE THERE ON A PI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SCORE EVER IN AN 18-HOLE ROUND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6212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SIGNED THE DECLARATION OF INDEPENDENCE IN 17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360" y="762120"/>
            <a:ext cx="8853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ARE ALLOWED ON AN NFL ROSTER DURING THE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1720" y="761760"/>
            <a:ext cx="8080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BER OF THE STREET CORRESPONDING TO THE BRIDGE IN A FAMOUS SIMON &amp; GARFUNKE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XIMUM SPEED LIMIT (IN MPH) ALLOWED 1974-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APPEARS ON ALL CONTAINERS    OF HEINZ KETCH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DS COME IN A STANDARD DECK    OF PLAYING C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TESTANTS ARE THERE IN THE MISS AMERICA PAGE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SCORE EVER IN AN 18-HOLE ROUND ON THE PGA T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8:11Z</dcterms:modified>
  <cp:revision>377</cp:revision>
  <dc:subject/>
  <dc:title>Slide 1</dc:title>
</cp:coreProperties>
</file>