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769F-B4D0-4E4C-B028-8EDD4A6DE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1459-1549-4CF5-99FC-F48EAB0F9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9F34-1BF9-462C-89A1-3642E3201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FE45-A1D7-48C0-8524-01ACED4FF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8A8A-99AD-42EE-AD90-4515E21CD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E615-A455-45B8-81A4-EC83A415A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58B9-B11F-4E9A-B31D-2286C4793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B083-1E39-40F5-B707-4539ACA0D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DA98-B5F8-4425-9165-931B43D21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E94D-001A-473B-8246-0C6F1504A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B463-3733-48F3-BE9E-5B00A3308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AB2A-34EA-46EF-A620-35C14409E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06EB-9D09-49D0-A21B-AB3D29500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8604-CCD7-4AA0-AF6F-0A5C59D7C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AB91-ACC7-42B0-A4B1-26FFCFC4C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4ABD-D8B5-48F4-BBC2-9E9FBFB63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57A5-8E71-4850-896E-74D9E35C9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C01C-9122-4B94-8D09-9BB782036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9F66-0AF7-41C2-A6B1-37CFA4CF9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7320-99AC-41BA-9FCD-31CD16928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A5F5-0493-4909-8201-66A8B54B5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E77A-38F0-4144-BF5F-58377C6AF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9A61-C9B5-4B80-86D2-CC79EBDE7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905120" y="838080"/>
            <a:ext cx="5333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0-SOMETHING (EACH ANSWER IS DIFFEREN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3560" y="761760"/>
            <a:ext cx="815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EOPLE SIGNED THE DECLARATION OF INDEPENDENCE IN 177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57320" y="762120"/>
            <a:ext cx="8829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LAYERS ARE ALLOWED ON AN NFL ROSTER DURING THE REGULAR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19160" y="762120"/>
            <a:ext cx="7105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WHITE KEYS ARE THERE ON A PIAN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9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30360" y="762120"/>
            <a:ext cx="7881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UMBER OF THE STREET CORRESPONDING TO THE BRIDGE IN A FAMOUS SIMON &amp; GARFUNKEL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57160" y="74448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TOMIC NUMBER OF T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24000" y="762120"/>
            <a:ext cx="6694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AXIMUM SPEED LIMIT (IN MPH) ALLOWED 1974-198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33640" y="762120"/>
            <a:ext cx="6876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APPEARS ON ALL CONTAINERS    OF HEINZ KETCH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47600" y="762120"/>
            <a:ext cx="7048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ARDS COME IN A STANDARD DECK    OF PLAYING C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90560" y="762120"/>
            <a:ext cx="7562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ONTESTANTS ARE THERE IN THE MISS AMERICA PAGE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61920" y="762120"/>
            <a:ext cx="7220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WHITE KEYS ARE THERE ON A PIAN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81200" y="762120"/>
            <a:ext cx="7581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ST SCORE EVER IN AN 18-HOLE ROUND ON THE PGA TO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71600" y="762120"/>
            <a:ext cx="82008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EOPLE SIGNED THE DECLARATION OF INDEPENDENCE IN 177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44360" y="762120"/>
            <a:ext cx="8853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LAYERS ARE ALLOWED ON AN NFL ROSTER DURING THE REGULAR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1720" y="761760"/>
            <a:ext cx="8080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UMBER OF THE STREET CORRESPONDING TO THE BRIDGE IN A FAMOUS SIMON &amp; GARFUNKEL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5400" y="7621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TOMIC NUMBER OF T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AXIMUM SPEED LIMIT (IN MPH) ALLOWED 1974-198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52360" y="762120"/>
            <a:ext cx="6839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APPEARS ON ALL CONTAINERS    OF HEINZ KETCH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66960" y="761760"/>
            <a:ext cx="7210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ARDS COME IN A STANDARD DECK    OF PLAYING C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ONTESTANTS ARE THERE IN THE MISS AMERICA PAGE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57080" y="761760"/>
            <a:ext cx="7629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ST SCORE EVER IN AN 18-HOLE ROUND ON THE PGA TOU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8T22:38:11Z</dcterms:modified>
  <cp:revision>377</cp:revision>
  <dc:subject/>
  <dc:title>Slide 1</dc:title>
</cp:coreProperties>
</file>