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7417-EDB0-47D8-BFE3-2D2709473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3F22-6475-423F-A5AC-342DCA0A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449C-5494-4531-9E1E-529E15474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C132-157E-4DDB-A662-C5EF7CEA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BC3C-1091-461C-99DC-7A36A2880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F7C53-904B-4161-B662-7B8E4B13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2D77-6CE1-4832-9A3A-8740ECD2C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D0C-87F3-40BD-9B7B-AE89DA8C7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D722-6958-4FB4-BBE5-3CD2D3F43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5BCD-5FF3-46E6-B921-4FD7F8F61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E0F-34AA-4759-A89F-A5AF55A0B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4244-2B95-4C54-BA2B-43E4845BB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3D48-BA54-433F-9604-D93668EBA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B476-D2CC-47F0-AE07-334CF462B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DB06-30F9-4E78-94EA-EFA4BEEC2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B96E-BD51-47FF-B7FD-E0B09B604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3633-2582-4483-899B-B1E7D4A70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C9A8-4E02-47EC-8A72-6DF937D56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A07C-F407-499D-BD02-507C193F3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A56-F211-4183-94A3-D1D1D1EB5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466D-2501-4CDF-97E5-35DE96FA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2FCD-373A-4DFD-9AC9-A9A7CE359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9865-6970-4743-8C48-6EEA46CF1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57320" y="762120"/>
            <a:ext cx="882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19160" y="762120"/>
            <a:ext cx="7105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9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30360" y="762120"/>
            <a:ext cx="7881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57160" y="74448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24000" y="76212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47600" y="762120"/>
            <a:ext cx="70488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90560" y="762120"/>
            <a:ext cx="7562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WHITE KEYS ARE THERE ON A PIAN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81200" y="762120"/>
            <a:ext cx="7581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6212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EOPLE SIGNED THE DECLARATION OF INDEPENDENCE IN 177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360" y="762120"/>
            <a:ext cx="8853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LAYERS ARE ALLOWED ON AN NFL ROSTER DURING THE REGULAR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UMBER OF THE STREET CORRESPONDING TO THE BRIDGE IN A FAMOUS SIMON &amp; GARFUNKE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5400" y="762120"/>
            <a:ext cx="769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AXIMUM SPEED LIMIT (IN MPH) ALLOWED 1974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APPEARS ON ALL CONTAINERS    OF HEINZ KETCH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RDS COME IN A STANDARD DECK    OF PLAYING C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ONTESTANTS ARE THERE IN THE MISS AMERICA PAGE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57080" y="761760"/>
            <a:ext cx="7629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WEST SCORE EVER IN AN 18-HOLE ROUND ON THE PGA TOU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8:11Z</dcterms:modified>
  <cp:revision>377</cp:revision>
  <dc:subject/>
  <dc:title>Slide 1</dc:title>
</cp:coreProperties>
</file>