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7B2D-4BF3-48C8-BD66-28E95C6E2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DB50-018C-4DA2-9B23-0FF00E06A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CCAC-AA00-4D24-BFC9-74AA7239B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15776-D526-4564-B77C-A97156462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8D33-8C8E-4088-8371-77FDBF209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2442-5C3D-4458-8BEA-27DE54ABF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3D72-0F68-48CF-AB9F-C6B3125B7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3539-AA36-45DC-BE6A-289505614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F400-942F-4254-A136-16C7BF880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09C5-7A1B-4A32-AF6B-B3A774CCE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7A6E-C053-4B02-B1DE-4CE0A1D01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BABD-CA02-40C4-8B78-64653DD7F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773A-41EC-42FB-BD9E-7A3E2546D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6309-55EA-44B4-A80E-8EE250D1F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4AEF-440E-4E41-9585-36471254A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9DA1-3A3B-494B-9183-DF010C01A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286E-9E79-4474-8F49-720673EA6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DBE1-B163-4190-BDF6-640B48291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69306-E83B-461C-A663-C744E5695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84A3-E54C-486F-AA75-EFA338E57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A60E-7A0B-45B4-B0CD-6007208BC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ED55-0B76-4E30-86C6-EA276DF71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AE6A-67EC-4D31-99E4-593A1984B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66680" y="2133360"/>
            <a:ext cx="701064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MANY DIGIT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IGITS ARE THERE IN THE HEIGHT OF MOUNT EVEREST ABOVE SEA LEVEL, IN METERS?      4, 5, OR 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IGITS ARE IN THE U.S. NATIONAL DEBT IN DOLLARS?  12, 14, OR 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76240" y="762120"/>
            <a:ext cx="7391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IGITS ARE IN THE NUMBER OF MEN WHO WALKED ON THE MOON?        1, 2, OR 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104840" y="762120"/>
            <a:ext cx="69343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IGITS ARE IN THE SPEED OF SOUND IN AIR, MEASURED IN MPH?  3, 4, OR 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95288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IGITS ARE IN THE WEIGHT IN POUNDS OF AN ADULT BLUE WHALE?    5, 6, OR 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IGITS ARE IN THE NUMBER OF HAIRS ON AN AVERAGE FEMALE HE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5, 6, OR 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IGITS ARE IN THE NUMBER OF MILES FROM THE EARTH TO THE SUN?      8, 9, OR 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IGITS ARE IN THE AGE OF THE OLDEST TREE IN YEARS?  2, 3, OR 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228600" y="762120"/>
            <a:ext cx="8686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IGITS ARE THERE IN THE AVERAGE HUMAN LIFETIME,  IN SECONDS?  8, 9, OR 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IGITS ARE IN THE NUMBER OF MEN WHO WALKED ON THE MOON?        1, 2, OR 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IGITS ARE THERE IN THE MAXIMUM NUMBER    OF PEOPLE WHO CAN STAND ON A FOOTBALL FIELD?                 4, 5, OR 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IGITS ARE THERE IN THE HEIGHT OF MOUNT EVEREST ABOVE SEA LEVEL, IN METERS?      4, 5, OR 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62120" y="762120"/>
            <a:ext cx="76197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IGITS ARE IN THE U.S. NATIONAL DEBT IN DOLLARS?  12, 14, OR 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IGITS ARE IN THE SPEED OF SOUND IN AIR, MEASURED IN MPH?  3, 4, OR 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19000" y="762120"/>
            <a:ext cx="7506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IGITS ARE IN THE WEIGHT IN POUNDS OF AN ADULT BLUE WHALE?  5, 6, OR 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IGITS ARE IN THE NUMBER OF HAIRS ON AN AVERAGE FEMALE HEAD?        5, 6, OR 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09480" y="723960"/>
            <a:ext cx="79250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IGITS ARE IN THE NUMBER OF MILES FROM THE EARTH TO THE SUN?     8, 9, OR 1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66720" y="761760"/>
            <a:ext cx="7810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IGITS ARE IN THE AGE OF THE OLDEST TREE, IN YEARS?  2, 3, OR 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IGITS ARE THERE IN THE AVERAGE HUMAN LIFETIME,  IN SECONDS?  8, 9, OR 1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DIGITS ARE THERE IN THE MAXIMUM NUMBER OF PEOPLE WHO CAN STAND ON A FOOTBALL FIELD?                 4, 5, OR 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7T16:49:00Z</dcterms:created>
  <dc:creator>Jennifer Budzinski</dc:creator>
  <dc:description/>
  <dc:language>en-US</dc:language>
  <cp:lastModifiedBy>Erich Friedman</cp:lastModifiedBy>
  <dcterms:modified xsi:type="dcterms:W3CDTF">2020-09-04T18:07:00Z</dcterms:modified>
  <cp:revision>336</cp:revision>
  <dc:subject/>
  <dc:title>Slide 1</dc:title>
</cp:coreProperties>
</file>