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C125-0500-4E86-8357-0E42BAF7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8A8-27D3-4628-8363-021C2585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8B6-9BCA-43E9-A15E-80E27190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9F8-6701-4A79-BC30-16DF4593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40C-20A3-4525-ABB4-FE808367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9A0-F077-4A0E-AB95-1BED344D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108B-B71F-4A95-8A33-6FD3B9EA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6DEB-1C39-4A3D-9527-951CE5DC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C6D5-7069-4527-88AD-7106919B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2E5-083C-4FF1-AF5F-429E4972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C05B-12D9-4938-A143-0807AAEB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59B-2E4C-419E-BAF9-CF4C6015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499-AEAD-475E-AF4D-32AA6A5E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D40-431C-4DC3-9253-93D90115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6D96-0455-47C1-9E99-57C4977F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25C-2082-4515-836E-8A58F845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16D0-74B7-45EB-9AFB-B7CA8CF2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4FE-1198-4237-8924-4E77B7F7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E75-A1AC-498A-9133-64ACB143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8DB-D32B-4D52-818F-1CD0295A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AD4-32BF-44B2-8E2A-147BDEA3B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4E5-7656-4E57-A37D-DEC9DB61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788-5CF4-4617-AD18-91EF3CA1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DIG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HEIGHT OF MOUNT EVEREST ABOVE SEA LEVEL, IN METERS?      4, 5, OR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U.S. NATIONAL DEBT IN DOLLARS?  12, 14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EN WHO WALKED ON THE MOON?        1, 2, OR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SPEED OF SOUND IN AIR, MEASURED IN MPH?  3, 4, OR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WEIGHT IN POUNDS OF AN ADULT BLUE WHALE?    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HAIRS ON AN AVERAGE FEMALE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ILES FROM THE EARTH TO THE SUN?      8, 9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AGE OF THE OLDEST TREE IN YEARS?  2, 3, OR 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AVERAGE HUMAN LIFETIME,  IN SECONDS?  8, 9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EN WHO WALKED ON THE MOON?        1, 2, OR 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MAXIMUM NUMBER    OF PEOPLE WHO CAN STAND ON A FOOTBALL FIELD?                 4, 5, OR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HEIGHT OF MOUNT EVEREST ABOVE SEA LEVEL, IN METERS?      4, 5, OR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U.S. NATIONAL DEBT IN DOLLARS?  12, 14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SPEED OF SOUND IN AIR, MEASURED IN MPH?  3, 4, OR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WEIGHT IN POUNDS OF AN ADULT BLUE WHALE?  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HAIRS ON AN AVERAGE FEMALE HEAD?        5, 6, OR 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2396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ILES FROM THE EARTH TO THE SUN?     8, 9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AGE OF THE OLDEST TREE, IN YEARS?  2, 3, OR 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AVERAGE HUMAN LIFETIME,  IN SECONDS?  8, 9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MAXIMUM NUMBER OF PEOPLE WHO CAN STAND ON A FOOTBALL FIELD?                 4, 5, OR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6:49:00Z</dcterms:created>
  <dc:creator>Jennifer Budzinski</dc:creator>
  <dc:description/>
  <dc:language>en-US</dc:language>
  <cp:lastModifiedBy>Erich Friedman</cp:lastModifiedBy>
  <dcterms:modified xsi:type="dcterms:W3CDTF">2020-09-04T18:07:00Z</dcterms:modified>
  <cp:revision>336</cp:revision>
  <dc:subject/>
  <dc:title>Slide 1</dc:title>
</cp:coreProperties>
</file>