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F006-10B7-49F3-95A6-B5D7754FB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9617-E330-4DCB-BA82-6729BDEFB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9265-0380-46F9-8F99-A6ADCB91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F085-745C-4A96-8589-6090F77B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8E74-D8C3-40C9-A37B-31499948B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ABEE-9F2B-444A-BC23-F09C65AEE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8A6-6A72-4F27-87E6-C6C50C7D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F668-C205-4955-9488-0E3384B99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2F8C-0955-40BE-BFE3-23985079B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CF3-4372-47AB-8CB2-03949E20F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73E-5E20-49A7-813A-AA60D2CF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A0E3-EABB-4810-B680-2AFF8AB98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838-EDB2-4F80-9F4B-40B3A3672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E175-A412-42DB-8C6C-76132E589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CEB5-9B80-4134-9227-A4C57DEAC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5B56-7DE3-4934-B14A-B2F73F3CD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CF5E-5632-4B76-BF0E-F31772B46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B94C-5418-49B6-9AC5-BF8932913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E0F9-E450-467D-98C2-D07AC714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B19E-157F-4B35-8D72-EE34D7CAC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53A4-C748-4BF3-8B21-8D27DD88C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EE7C-B105-48D9-9DAA-3B1F1BCD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51CD-8625-4C63-8DFB-DC04927E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 FLAGS AMUSEMENT PARKS WERE NAMED FOR THE NUMBER OF FLAGS THAT WHAT STATE HAS BEEN UN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43040" y="762120"/>
            <a:ext cx="7657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 (= 1+2+4+7+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66840" y="762120"/>
            <a:ext cx="840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IS CALLED A PERFECT NUMBER SINCE IT IS THE SUM OF ITS SMALLER FACTORS (6=1+2+3).  WHAT IS THE    NEXT PERFEC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19000" y="762120"/>
            <a:ext cx="7506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"SIXPENCE NONE THE RICHER" MADE IT TO #2 ON THE CHARTS AND EARNED THEM A GRAMMY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GEESE  A–LA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ENT WAS GIVEN O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AY OF CHRISTMAS IN THE SONG "THE 12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WILSON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05040" y="762120"/>
            <a:ext cx="73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6 LETTERS IN HIS FIRST, MIDDLE AND LA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6 SYMBOLIC FOODS ON THE SEDER PLATE DURING WHAT JEWISH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52280" y="914400"/>
            <a:ext cx="5220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CONTAINING 6 CARBON AND 6 HYDROGEN ATOMS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24560" y="1206360"/>
            <a:ext cx="3147840" cy="314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KEY  &amp;  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R SPORTS WHICH ALLOW 6 PLAYERS P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 IS CALLED A PERFECT NUMBER SINCE IT IS THE SUM OF ITS SMALLER FACTORS (6=1+2+3).  WHAT IS THE  NEXT PERFEC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7628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ON THE "6" BUTTON OF MOST PH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3984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X FLAGS AMUSEMENT PARKS WERE NAMED FOR THE NUMBER OF FLAGS THAT WHAT STATE HAS BEEN UN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.  NIGHT  SHYAM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 "THE SIXTH S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"SIXPENCE NONE THE RICHER" MADE IT TO #2 ON THE CHARTS AND EARNED THEM A GRAMMY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ENT WAS GIVEN ON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AY OF CHRISTMAS IN THE SONG "THE 12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HAD 6 LETTERS IN HIS FIRST, MIDDLE AND LA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6 SYMBOLIC FOODS ON THE SEDER PLATE DURING WHAT JEWISH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5143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ECULE CONTAINING 6 CARBON AND 6 HYDROGEN ATOMS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524560" y="1206360"/>
            <a:ext cx="3147840" cy="314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MOST POPULAR SPORTS WHICH ALLOW 6 PLAYERS P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S ARE ON THE "6" BUTTON OF MOST PH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2:49Z</dcterms:modified>
  <cp:revision>348</cp:revision>
  <dc:subject/>
  <dc:title>Slide 1</dc:title>
</cp:coreProperties>
</file>