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A9DF-853E-49FE-A8AC-10C40E46F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4C26-F45C-4BAC-8D24-B1E31CF69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6BF2-8B51-4285-B0C4-29D65F2D6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3824-02FD-44EF-84CF-D0D3F7604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3D4B-570E-487B-B9DE-4FB66BF56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933B-89CD-47CB-AD93-5ABCB8A71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8F05-2E56-4E2B-8748-F1E20BC70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91AA-03AE-4EC8-B38D-CB3D1296C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26F6-E97E-4C4B-8F25-ADE29E3EF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F913-992A-4B23-8A54-BD5E9ED0D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ECDD-C642-432A-A76F-C7BBF2AA4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C974-6E9E-4061-9084-44CA62BB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EBAB-E67A-4C59-B954-96628B92B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0164-3225-492F-8DFE-816E692F7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099C-E9C4-4F92-AEA9-D361BA7DA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A76F-7715-4C4A-BA1D-E932C1762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23FB-0B88-468C-A41A-C1E8B640C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D5B9-AB02-4F4F-9923-4161E8FCF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6D06-160C-472F-9535-7EE9A40D2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8CF6-E13A-4EFD-9FA0-AD75C25E8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4531-C63F-41FF-A785-431245186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FE7A-546F-43C4-9029-3218B6CC4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720F-85B1-4117-A821-F4A2F13FF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 FLAGS AMUSEMENT PARKS WERE NAMED FOR THE NUMBER OF FLAGS THAT WHAT STATE HAS BEEN U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43040" y="762120"/>
            <a:ext cx="7657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FILM "THE SIXTH SEN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8 (= 1+2+4+7+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66840" y="762120"/>
            <a:ext cx="840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 IS CALLED A PERFECT NUMBER SINCE IT IS THE SUM OF ITS SMALLER FACTORS (6=1+2+3).  WHAT IS THE    NEXT PERFECT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819000" y="762120"/>
            <a:ext cx="750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"SIXPENCE NONE THE RICHER" MADE IT TO #2 ON THE CHARTS AND EARNED THEM A GRAMMY NOMI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  GEESE  A–L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04720" y="762120"/>
            <a:ext cx="813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ENT WAS GIVEN ON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AY OF CHRISTMAS IN THE SONG "THE 12 DAYS OF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ALD  WILSON  RE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05040" y="762120"/>
            <a:ext cx="733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HAD 6 LETTERS IN HIS FIRST, MIDDLE AND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S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6 SYMBOLIC FOODS ON THE SEDER PLATE DURING WHAT JEWISH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Z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52280" y="914400"/>
            <a:ext cx="5220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LECULE CONTAINING 6 CARBON AND 6 HYDROGEN ATOMS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524560" y="1206360"/>
            <a:ext cx="3147840" cy="31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KEY  &amp;  VOLLEY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MOST POPULAR SPORTS WHICH ALLOW 6 PLAYERS PER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 IS CALLED A PERFECT NUMBER SINCE IT IS THE SUM OF ITS SMALLER FACTORS (6=1+2+3).  WHAT IS THE  NEXT PERFECT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7628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71600" y="762120"/>
            <a:ext cx="82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S ARE ON THE "6" BUTTON OF MOST PH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39840" y="7621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 FLAGS AMUSEMENT PARKS WERE NAMED FOR THE NUMBER OF FLAGS THAT WHAT STATE HAS BEEN U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.  NIGHT  SHYAM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FILM "THE SIXTH SEN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"SIXPENCE NONE THE RICHER" MADE IT TO #2 ON THE CHARTS AND EARNED THEM A GRAMMY NOMIN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04720" y="762120"/>
            <a:ext cx="813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ENT WAS GIVEN ON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AY OF CHRISTMAS IN THE SONG "THE 12 DAYS OF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HAD 6 LETTERS IN HIS FIRST, MIDDLE AND LA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6 SYMBOLIC FOODS ON THE SEDER PLATE DURING WHAT JEWISH HOLI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5143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LECULE CONTAINING 6 CARBON AND 6 HYDROGEN ATOMS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524560" y="1206360"/>
            <a:ext cx="3147840" cy="31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MOST POPULAR SPORTS WHICH ALLOW 6 PLAYERS PER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S ARE ON THE "6" BUTTON OF MOST PH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12-16T14:02:49Z</dcterms:modified>
  <cp:revision>348</cp:revision>
  <dc:subject/>
  <dc:title>Slide 1</dc:title>
</cp:coreProperties>
</file>