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6AB8-B2B9-48DD-957B-409C8CDF2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2B2A-90AE-4A67-9FF4-AF1F1532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7A991-8DFB-4FE2-8D01-BF847D44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5047-29DD-4E97-BAC1-C39C04A9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2334-4C27-4F5F-83B4-1D060442D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C87E-F30A-44FD-8815-6DFD317CE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FEE7-E0D2-4B07-BD0F-F8A2B9DC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DEF6-64AF-426A-84D4-1C5FF532D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D189-DF17-481A-ACF4-E083CD592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E241-0C35-4548-B341-EF46DD4C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3377-C63C-49DA-999C-35ABCC073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C95-9BA2-41DB-8435-4439F7341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09F-6E9F-4596-B85C-30614E8E5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14A-2C71-40EE-8F9D-001DE1E8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65C4-C30C-4CD6-A210-94873A129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9DAE-93BF-4E9F-87EE-04A966D28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F1B5-33E5-454F-A0BD-3D71E969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25D-3C8E-4EBD-825B-DEB7BC0C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ED9A-A881-46EF-8415-A3F862A3F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FA76-6107-4C5A-80FD-1B3FA9F0A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D68-1239-4776-A048-1C6983C3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CF64-54FC-4D28-BBA4-2FD72715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172B-13EE-47F6-A001-90672EAC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6, 77, OR 88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NUMBER, WHEN MULTIPLIED BY ITSELF, GIVES A NUMBER OF THE FORM XXY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ROUTE IS KNOWN AS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EYS ARE ON A FULL-SIZED PI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SPEL OF LUKE LISTS HOW MANY GENERATIONS FROM ADAM TO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OFFICIAL" CONSTELLATIONS ARE THERE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ERMAN CARD GAME SIMILAR TO PINOCH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  (SUNSET  STRI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UMERICAL PART OF THE NAME OF A POPULAR 1958-1964 TV SERIES STARRING EFREM ZIMBALIST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0600" y="762120"/>
            <a:ext cx="8362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ACK TO THE FUTURE", HOW MANY MPH DID THE DELOREAN HAVE TO GO IN ORDER TO TRAVEL THROUG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ALKING HEAD'S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KEYS ARE   ON A FULL-SIZED PI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 COMMON NEO-NAZI TATT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8  (8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= 774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DIGIT NUMBER, WHEN MULTIPLIED BY ITSELF, GIVES A NUMBER OF THE FORM XXY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ROUTE IS KNOWN AS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SPEL OF LUKE LISTS HOW MANY GENERATIONS FROM ADAM TO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OFFICIAL" CONSTELLATIONS ARE THERE IN TH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GERMAN CARD GAME SIMILAR TO PINOCH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UMERICAL PART OF THE NAME OF A POPULAR 1958-1964 TV SERIES STARRING EFREM ZIMBALIST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BACK TO THE FUTURE", HOW MANY MPH DID THE DELOREAN HAVE TO GO IN ORDER TO TRAVEL THROUG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ALKING HEAD'S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A COMMON NEO-NAZI TATTO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1T19:12:33Z</dcterms:created>
  <dc:creator>Jennifer Budzinski</dc:creator>
  <dc:description/>
  <dc:language>en-US</dc:language>
  <cp:lastModifiedBy>Erich Friedman</cp:lastModifiedBy>
  <dcterms:modified xsi:type="dcterms:W3CDTF">2021-09-21T16:14:47Z</dcterms:modified>
  <cp:revision>353</cp:revision>
  <dc:subject/>
  <dc:title>Slide 1</dc:title>
</cp:coreProperties>
</file>