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398C4-C357-4F58-A82E-DCE197B5A8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7CAFA-D282-4847-BA1D-D387098891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269FE-272D-4593-B370-4C69B4405F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4102F-CD5A-451C-BDE7-F30FC90AF6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A54AB-5C28-4E3C-BC75-078D69BD64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72143-6853-43E7-BBA8-4A05B0340C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6D2BF-6CBD-4041-B443-AD7243A6E9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D84D6-CEE7-427E-80DA-8F6613371A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FA908-5E00-4DDA-8482-ACC37DF97F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FE7E8-EB85-46C3-81EB-547F41FE7B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65BA8-320B-4206-8D1A-2732A632FF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BF779-D9B4-4E45-B5B1-6974FA6283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0987E-D016-44E0-9123-2E9986A2AA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C862F-D738-4722-AF12-E7266DFD90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673E2-FD5F-4641-8BA0-B38240AE90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2DC32-784E-4D26-9C0A-29CDD724EF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9D5C3-52B7-4196-9A04-9B58DBBA8B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25510-F802-4E68-B5F0-F7269CED6D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CF705-832A-4A48-AC2E-FE711D6866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D18A5-C75F-47EE-8F3E-A72D86154C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C2C36-5F37-46C6-8EE2-A340E7E0EE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51B0A-C35C-4553-A721-7919898672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C4A38-D53B-4981-9B03-69EDC79D10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447920" y="1523880"/>
            <a:ext cx="62481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66, 77, OR 88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-DIGIT NUMBER, WHEN MULTIPLIED BY ITSELF, GIVES A NUMBER OF THE FORM XXY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647640" y="762120"/>
            <a:ext cx="78487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U.S. ROUTE IS KNOWN AS "THE MOTHER ROA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1066680" y="4952880"/>
            <a:ext cx="70106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8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1181160" y="762120"/>
            <a:ext cx="67816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KEYS ARE ON A FULL-SIZED PIAN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7200" y="4952880"/>
            <a:ext cx="82296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7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495360" y="762120"/>
            <a:ext cx="81532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GOSPEL OF LUKE LISTS HOW MANY GENERATIONS FROM ADAM TO JESU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8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609480" y="762120"/>
            <a:ext cx="7925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"OFFICIAL" CONSTELLATIONS ARE THERE IN THE SK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6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571680" y="762120"/>
            <a:ext cx="800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A GERMAN CARD GAME SIMILAR TO PINOCH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77  (SUNSET  STRIP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723960" y="762120"/>
            <a:ext cx="76960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UMERICAL PART OF THE NAME OF A POPULAR 1958-1964 TV SERIES STARRING EFREM ZIMBALIST JR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8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390600" y="762120"/>
            <a:ext cx="83628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"BACK TO THE FUTURE", HOW MANY MPH DID THE DELOREAN HAVE TO GO IN ORDER TO TRAVEL THROUGH TI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952880"/>
            <a:ext cx="68580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7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304920" y="762120"/>
            <a:ext cx="85341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TALKING HEAD'S FIRST ALBU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143000" y="762120"/>
            <a:ext cx="6858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KEYS ARE   ON A FULL-SIZED PIAN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8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800280" y="762120"/>
            <a:ext cx="75438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UMBER IS A COMMON NEO-NAZI TATTO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88  (88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= 7744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990720" y="762120"/>
            <a:ext cx="716256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-DIGIT NUMBER, WHEN MULTIPLIED BY ITSELF, GIVES A NUMBER OF THE FORM XXY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6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800280" y="762120"/>
            <a:ext cx="75438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U.S. ROUTE IS KNOWN AS "THE MOTHER ROA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GOSPEL OF LUKE LISTS HOW MANY GENERATIONS FROM ADAM TO JESU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609480" y="762120"/>
            <a:ext cx="7925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"OFFICIAL" CONSTELLATIONS ARE THERE IN THE SK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A GERMAN CARD GAME SIMILAR TO PINOCH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723960" y="723960"/>
            <a:ext cx="76960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UMERICAL PART OF THE NAME OF A POPULAR 1958-1964 TV SERIES STARRING EFREM ZIMBALIST JR.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80880" y="7617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"BACK TO THE FUTURE", HOW MANY MPH DID THE DELOREAN HAVE TO GO IN ORDER TO TRAVEL THROUGH TI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66760" y="761760"/>
            <a:ext cx="86104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TALKING HEAD'S FIRST ALBU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UMBER IS A COMMON NEO-NAZI TATTO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1T19:12:33Z</dcterms:created>
  <dc:creator>Jennifer Budzinski</dc:creator>
  <dc:description/>
  <dc:language>en-US</dc:language>
  <cp:lastModifiedBy>Erich Friedman</cp:lastModifiedBy>
  <dcterms:modified xsi:type="dcterms:W3CDTF">2021-09-21T16:14:47Z</dcterms:modified>
  <cp:revision>353</cp:revision>
  <dc:subject/>
  <dc:title>Slide 1</dc:title>
</cp:coreProperties>
</file>