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73D-984F-415E-A091-784B4F48E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CD37-9763-4187-9CEC-045DF53C3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BA41-46DC-40C6-B0FC-0D043637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AA3D-B42A-49C7-BCF0-249CD9DDC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03BC-992E-4386-8EE2-327CEC15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EF23-25CD-4FD1-97AF-F7820421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822-26D6-4A98-BC1D-BE7A4780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173-B58D-4E60-B10E-14103E817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33E0-16FA-4EB2-935E-DE3D9F62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025C-A305-4220-92FD-8A400999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A261-EE4A-4DD2-B174-B2892B354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4AB-8D93-452C-A58A-CF51E3FC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8702-4853-4DE1-94C0-E63B70F2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8A56-B354-446A-9143-F8B19B3A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8E83-3D51-48C7-9912-CBA77BB9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A645-852A-4A8E-8744-11E55800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56A1-E9FF-44F4-A77F-A60FB95D1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68B-A991-483E-B494-721C5C8A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A04A-1963-4995-9908-AA16E503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897-CB75-49A5-B3B1-50A9E2B3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614E-8B23-4E6A-BEDB-422D4B37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3D8D-8E90-4D78-A1B4-86EA994F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B7BF-48F7-40AC-BF95-0B29DB3F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IS BIGG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DISTANCE A KANGAROO CAN JUMP, OR THE WIDTH OF A SOCCER GO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THE HEAVIEST TANK EVER BUILT,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09800" y="762120"/>
            <a:ext cx="712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OULD WEIGH MORE?  THE FORTUNE OF BILL GATES IN $100 BILLS, OR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MS TITAN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LE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LENGTH OF THE NILE RIVER, OR THE RADIUS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LARGER AREA?  NORTH KOREA OR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TERRANEAN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AINS MORE WATER?  THE GREENLAND ICECAP, OR THE MEDITERRANEAN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4952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TSBURGH  &amp;  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FARTHER APART?  THE INTERNATIONAL SPACE STATION AND EARTH, OR PITTSBURGH AND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R?  COLORADO OR WYO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ACT  DI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38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?  A TYPICAL MARBLE OR A COMPACT DISC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OULD WEIGH MORE?  THE FORTUNE OF BILL GATES IN $100 BILLS, OR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MS TITAN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.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UNTRY CONTAINS MORE PEOPLE?  THE U.K. OR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GAROO  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838080"/>
            <a:ext cx="739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DISTANCE A KANGAROO CAN JUMP, OR THE WIDTH OF A SOCCER GO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THE HEAVIEST TANK EVER BUILT,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LENGTH OF THE NILE RIVER, OR THE RADIUS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LARGER AREA?  NORTH KOREA OR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AINS MORE WATER?  THE GREENLAND ICECAP, OR THE MEDITERRANEAN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FARTHER APART?  THE INTERNATIONAL SPACE STATION AND EARTH, OR PITTSBURGH AND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R?  COLORADO OR WYO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?  A TYPICAL MARBLE OR A COMPACT DIS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UNTRY CONTAINS MORE PEOPLE?  THE U.K. OR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17:30:08Z</dcterms:created>
  <dc:creator>Jennifer Budzinski</dc:creator>
  <dc:description/>
  <dc:language>en-US</dc:language>
  <cp:lastModifiedBy>Erich Friedman</cp:lastModifiedBy>
  <dcterms:modified xsi:type="dcterms:W3CDTF">2021-03-31T17:07:07Z</dcterms:modified>
  <cp:revision>332</cp:revision>
  <dc:subject/>
  <dc:title>Slide 1</dc:title>
</cp:coreProperties>
</file>