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21FA-3EC9-4E6A-8BD3-DC5E2B9E8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CB18-3352-4058-87E2-DAC993959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A22F-26FF-412C-8167-97494AE66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6FAD-FB3A-4275-900B-424CAA896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5464-CD99-49EC-A8E8-7DC8F6F1B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7225-92B9-4843-9266-9050BE54E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3BE3-A821-45DD-BB5C-4BE9C5CDF1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5C8C1-4490-4D56-9605-9F7E2099B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9EF0-D72B-4E7F-B2A8-49E5BD10F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37D4-A3DF-4D80-9C34-7687F73DF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90E9C-07A7-489E-B169-815997C61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8C75-1D4C-4E76-A3A3-37C33A073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0ED2-6CE0-4065-B463-4383DEFE6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4A46-6B02-4287-864A-EF35E6542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0BA8-CF97-414F-81FF-6F3FB0E17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6A38-5BB3-4B95-A88A-023436CA3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8419-3341-4C0B-ACA0-4958E247A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5B88-B7D9-4048-AF0F-5EA02826E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CFAC-D0A1-4479-B8E8-CA1E59BD2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46A8-8935-4548-BA89-EDE595E95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6602-8F86-474D-B353-3346EB6B5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B79A-3296-46C8-BA0F-608CB93B1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8F56-A3F1-4292-9EF2-A7615FD0D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IS BIGGE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LONGER?  THE DISTANCE A KANGAROO CAN JUMP, OR THE WIDTH OF A SOCCER GO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IGHS MORE, THE HEAVIEST TANK EVER BUILT, OR THE STATUE OF LIBE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009800" y="762120"/>
            <a:ext cx="7124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OULD WEIGH MORE?  THE FORTUNE OF BILL GATES IN $100 BILLS, OR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MS TITANI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LE  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0440" y="762120"/>
            <a:ext cx="8763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LONGER?  THE LENGTH OF THE NILE RIVER, OR THE RADIUS OF THE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19040" y="495288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KO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LARGER AREA?  NORTH KOREA OR SOU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DITERRANEAN 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NTAINS MORE WATER?  THE GREENLAND ICECAP, OR THE MEDITERRANEAN S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4952880"/>
            <a:ext cx="91440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TTSBURGH  &amp;  NEW  YORK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RE FARTHER APART?  THE INTERNATIONAL SPACE STATION AND EARTH, OR PITTSBURGH AND NEW YORK C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O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76240" y="76212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BIGGER?  COLORADO OR WYOM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PACT  DIS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523880" y="762120"/>
            <a:ext cx="6096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IGHS MORE?  A TYPICAL MARBLE OR A COMPACT DISC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OULD WEIGH MORE?  THE FORTUNE OF BILL GATES IN $100 BILLS, OR THE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MS TITANIC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U.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52560" y="762120"/>
            <a:ext cx="7238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UNTRY CONTAINS MORE PEOPLE?  THE U.K. OR FR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GAROO  J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838080"/>
            <a:ext cx="73915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LONGER?  THE DISTANCE A KANGAROO CAN JUMP, OR THE WIDTH OF A SOCCER GO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UE  OF  LIBER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09480" y="762120"/>
            <a:ext cx="7925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IGHS MORE, THE HEAVIEST TANK EVER BUILT, OR THE STATUE OF LIBER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LONGER?  THE LENGTH OF THE NILE RIVER, OR THE RADIUS OF THE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LARGER AREA?  NORTH KOREA OR SOUTH KOR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NTAINS MORE WATER?  THE GREENLAND ICECAP, OR THE MEDITERRANEAN S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RE FARTHER APART?  THE INTERNATIONAL SPACE STATION AND EARTH, OR PITTSBURGH AND NEW YORK C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IS BIGGER?  COLORADO OR WYOM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94920" y="761760"/>
            <a:ext cx="6629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WEIGHS MORE?  A TYPICAL MARBLE OR A COMPACT DISC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COUNTRY CONTAINS MORE PEOPLE?  THE U.K. OR FR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7T17:30:08Z</dcterms:created>
  <dc:creator>Jennifer Budzinski</dc:creator>
  <dc:description/>
  <dc:language>en-US</dc:language>
  <cp:lastModifiedBy>Erich Friedman</cp:lastModifiedBy>
  <dcterms:modified xsi:type="dcterms:W3CDTF">2021-03-31T17:07:07Z</dcterms:modified>
  <cp:revision>332</cp:revision>
  <dc:subject/>
  <dc:title>Slide 1</dc:title>
</cp:coreProperties>
</file>