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21E0-306B-4A77-A425-7229B0139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0250-6BF0-4407-91FC-C4366BE40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266A-7D16-40F1-A0C2-DE816603D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0EC8-9C3F-4618-A0C4-B6601B6D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C5A8-830F-414A-82F5-CC5956497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0D19-13ED-4F7D-BB57-18B6CF6EA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50FE-18E2-447A-8E65-6DDD905B2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C752-6A7F-4848-9F21-A9091A0D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7D2C-25D4-4744-ACB0-8892BBB56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CE10-8C2F-4F50-8F70-FD13ED47E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D9D9-125F-4F57-B9AB-4026F69E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CF17-05C6-45D9-9988-051B74568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7C29-3D91-41C5-9DCE-4CD0064FB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0C5B-CA07-4490-A791-10C1FA5D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7F0D-ADDC-44BD-BBB5-E071FDA10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2FA8-3036-4218-9B67-6F1C7F5D2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1299-948B-4B5E-9E47-E0DA29C6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56A4-0A05-46B1-9E59-29376269D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18BC-EB49-47E3-A9CE-4888AF956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D6B1-5634-422C-83EE-F6F4EF2CB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C4E1-5EA9-4CCF-BA3A-00ADC6726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DD49-CE14-4AD1-94E6-A46C71B7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E96B-D2E5-4A55-9DEA-4AF80FCA0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-SOMET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8000" y="761760"/>
            <a:ext cx="712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UNDS MAKE UP A BRITISH LONG HUNDREDWE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0000" y="914400"/>
            <a:ext cx="41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OLES DOES A CHINESE CHECKERS BOARD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83240" y="91440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47760" y="762120"/>
            <a:ext cx="6648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ITCHES DOES A MAJOR LEAGUE BASEBALL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76360" y="762120"/>
            <a:ext cx="799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GULAR SEASON GAMES DOES EACH MLB TEAM PLAY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ITEMS ARE IN A G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382760" y="762120"/>
            <a:ext cx="63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5 FACTO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HEMICAL ELEMENTS HAVE BEEN DISCOVERED OR MANUFACTU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362240" y="762120"/>
            <a:ext cx="641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Q IS REQUIRED TO BECOME A MEMBER OF MEN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28880" y="68580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DID THE "HUNDRED YEARS WAR" BETWEEN ENGLAND AND FRANCE ACTUALLY 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ITCHES DOES A MAJOR LEAGUE BASEBALL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838080"/>
            <a:ext cx="8229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OUNCES ARE THERE IN A GALL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36800" y="762120"/>
            <a:ext cx="7070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UNDS MAKE UP A BRITISH LONG HUNDREDWE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52280" y="88272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OLES DOES A CHINESE CHECKERS BOARD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4683240" y="91440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66640" y="761760"/>
            <a:ext cx="8010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GULAR SEASON GAMES DOES EACH MLB TEAM PLAY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62200" y="762120"/>
            <a:ext cx="561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ITEMS ARE IN A G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00040" y="762120"/>
            <a:ext cx="6343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5 FACTO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HEMICAL ELEMENTS HAVE BEEN DISCOVERED OR MANUFACTU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90600" y="761760"/>
            <a:ext cx="6562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Q IS REQUIRED TO BECOME A MEMBER OF MEN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DID THE "HUNDRED YEARS WAR" BETWEEN ENGLAND AND FRANCE ACTUALLY L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OUNCES ARE THERE IN A GALL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3-24T12:04:01Z</dcterms:modified>
  <cp:revision>372</cp:revision>
  <dc:subject/>
  <dc:title>Slide 1</dc:title>
</cp:coreProperties>
</file>