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933C-8A21-49BF-B3D3-553D11E3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B28-39B8-433D-98FE-09F18DBD7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BE34-34C9-4CDF-84BC-18399AB8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4C26-BA29-4887-A2E8-920822A9C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8FD8-6277-4E26-B480-FB26A6B58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8489-577C-4B08-9D93-817FB2A1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7B2-45E8-4071-BC3D-EB1D02FBA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3D3-E7F2-4516-9DCF-E929930E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DEF5-804C-46D2-A976-B75CCD67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0F3-1CBA-4AC0-A50A-1FD3439B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02B8-4F76-4274-A3AA-5CE86086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AE17-5C96-4327-8D3F-24C111B1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931-2A6D-4113-8325-3B5574C60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E608-BF91-4A5A-A7D6-8DA2CA08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176-E484-4C58-B516-770FDFBB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CFC5-7494-4AB8-B833-339E458D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E42D-DA4E-4CC3-9A3F-4528898EA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9272-B5B9-49B9-9F06-33BF4114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3565-2B16-4E32-A4C9-7E0610325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659D-B1F9-4000-8997-EAAE9CBD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CFE7-568C-46F5-BB40-81792CAE4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1E76-8489-4631-9A6D-59112AC8A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12DD-02F7-41B7-AD0B-898642A6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-SOME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8000" y="761760"/>
            <a:ext cx="712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MAKE UP A BRITISH LONG HUNDREDWE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0000" y="914400"/>
            <a:ext cx="41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LES DOES A CHINESE CHECKERS BOARD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83240" y="91440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47760" y="762120"/>
            <a:ext cx="6648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ITCHES DOES A MAJOR LEAGUE BASEBALL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76360" y="762120"/>
            <a:ext cx="799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 SEASON GAMES DOES EACH MLB TEAM PLAY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ARE IN A G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382760" y="762120"/>
            <a:ext cx="63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5 FACTO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HEMICAL ELEMENTS HAVE BEEN DISCOVERED OR MANUFACTU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362240" y="762120"/>
            <a:ext cx="641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Q IS REQUIRED TO BECOME A MEMBER OF MEN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28880" y="68580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DID THE "HUNDRED YEARS WAR" BETWEEN ENGLAND AND FRANCE ACTUALLY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ITCHES DOES A MAJOR LEAGUE BASEBALL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8380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OUNCES ARE THERE IN A GALL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36800" y="762120"/>
            <a:ext cx="7070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MAKE UP A BRITISH LONG HUNDREDWE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52280" y="88272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LES DOES A CHINESE CHECKERS BOARD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683240" y="91440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66640" y="761760"/>
            <a:ext cx="8010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 SEASON GAMES DOES EACH MLB TEAM PLAY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62200" y="762120"/>
            <a:ext cx="561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ARE IN A G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00040" y="762120"/>
            <a:ext cx="634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5 FACTO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HEMICAL ELEMENTS HAVE BEEN DISCOVERED OR MANUFACTU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90600" y="761760"/>
            <a:ext cx="6562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Q IS REQUIRED TO BECOME A MEMBER OF MEN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DID THE "HUNDRED YEARS WAR" BETWEEN ENGLAND AND FRANCE ACTUALLY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OUNCES ARE THERE IN A GALL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3-24T12:04:01Z</dcterms:modified>
  <cp:revision>372</cp:revision>
  <dc:subject/>
  <dc:title>Slide 1</dc:title>
</cp:coreProperties>
</file>