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CBDF-AF3D-4496-B994-4C0DE13FB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EEF3-9941-462F-8CBB-5020441BD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6420-F65B-4DA0-B51D-3AA70440A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925C-16F5-4FCD-8FF9-873740EF3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6263-B96D-4C7F-8E18-96946B47C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DBB7-E055-49E5-9687-7C5C1F5F9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8422-5385-4A48-9FAE-DB04B09D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AEDE-C197-45E8-8BB3-B52E51AEA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7986-29A6-4EA0-937A-8CBA11C8B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5631-3640-4F56-808F-90D550A1F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FC33-D984-4E31-AA1F-E84B6CA82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86A6-6E14-4AFE-8FB9-28956A12F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7E21-65F3-4103-9AE2-E4D6CFC7F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F9EF-FD9A-4317-94E5-8EA44641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963E-2611-439C-9974-533CB1A4E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C73C-B8B7-4047-8433-5FE42CEDB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11A0-BA5B-454E-848F-F30A6B617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7E90-EBB2-4295-BE8B-9A75B67B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F49E-6A4A-42B3-8D2F-3B6059D4A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9CF58-880B-4930-894A-A94D51676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EE75-D2A1-4E1E-93A4-C61B6640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5A06-FEF0-486B-AFD4-B4C4BB9A6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1F83-ED74-4D20-8E6D-BE6002E41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33640" y="1523880"/>
            <a:ext cx="68767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N YOU NAME ALL 8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8 HARRY POTTE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604880" y="762120"/>
            <a:ext cx="593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BLOOD GROU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95320" y="3809880"/>
            <a:ext cx="7353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, VENUS, EARTH, MARS, JUPITER, SATURN, URANUS, NEPTU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2160" y="762120"/>
            <a:ext cx="7159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PLANETS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480" y="3809880"/>
            <a:ext cx="8915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LAND, MASSACHUSETTS, MICHIGAN, MINNESOTA, MAINE, MISSISSIPPI, MISSOURI,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77840" y="762120"/>
            <a:ext cx="6988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STATES WHOSE NAMES BEGIN WITH THE LETTER "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38098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YEAR'S, MLK, PRESIDENT'S, MEMORIAL, INDEPENDENCE, LABOR, COLUMBUS, VETERA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3000" y="762120"/>
            <a:ext cx="86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U.S. FEDERAL HOLIDAYS BESIDES CHRISTMAS AND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380988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OR, MOURNERS, MEEK, HUNGRY, MERCIFUL, PURE OF HEART, PEACEMAKERS, PERSECU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GROUPS OF PEOPLE ARE BLESSED IN THE BEATITUDES OF MATTHEW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3809880"/>
            <a:ext cx="8229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TS,  CELERY,  CARROTS, LETTUCE,  PARSLEY,  TOMATO, WATERCRESS,  SPIN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VEGETABLES ARE USED TO MAKE V8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80880" y="4343400"/>
            <a:ext cx="83822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LAND,  INDIA,  INDONESIA,  IRAN,  IRAQ, IRELAND,  ISRAEL,  ITAL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COUNTRIES WHOSE NAMES BEGIN WITH THE LETTER "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74840" y="3809880"/>
            <a:ext cx="8191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. HARRISON,  TAYLOR,  LINCOLN, GARFIELD,  MCKINLEY,  HARDING, F. ROOSEVELT,  KENNED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49200" y="762120"/>
            <a:ext cx="66438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U.S. PRESIDENTS DIED IN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01880" y="762120"/>
            <a:ext cx="7140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PLANETS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43080" y="37339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,  COLUMBIA,  CORNELL, DARTMOUTH,  HARVARD,  YALE, PENNSYLVANIA,  PRINCET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5240" y="762120"/>
            <a:ext cx="7013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IVY LEAGUE SCHO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04920" y="2743200"/>
            <a:ext cx="85341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RCERER'S STONE, CHAMBER OF SECRETS, PRISONER OF AZKABAN, GOBLET OF FIRE,  ORDER OF THE PHOENIX,  HALF–BLOOD PRINCE, DEATHLY HALLOWS PARTS 1 &amp;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8 HARRY POTTE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+, A-, B+, B-, AB+, AB-, O+, O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690560" y="762120"/>
            <a:ext cx="5762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BLOOD GROU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1560" y="761760"/>
            <a:ext cx="739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STATES WHOSE NAMES BEGIN WITH THE LETTER "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920" y="762120"/>
            <a:ext cx="896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U.S. FEDERAL HOLIDAYS BESIDES CHRISTMAS AND THANKSGI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GROUPS OF PEOPLE ARE BLESSED IN THE BEATITUDES OF MATTHEW 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36800" y="761760"/>
            <a:ext cx="7070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VEGETABLES ARE USED TO MAKE V8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COUNTRIES WHOSE NAMES BEGIN WITH THE LETTER "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39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8 U.S. PRESIDENTS DIED IN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8320" y="761760"/>
            <a:ext cx="740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8 IVY LEAGUE SCHO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2-18T12:57:25Z</dcterms:modified>
  <cp:revision>383</cp:revision>
  <dc:subject/>
  <dc:title>Slide 1</dc:title>
</cp:coreProperties>
</file>