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7AB6-0115-4E8C-B297-A40C34883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47F4-62DB-46D1-B47F-EC2B497E0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FF7C-301D-4FB5-AC9C-BF6077E36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2760-B199-4E12-AF7B-61E7684FA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2409-EF65-45AD-8784-B3EDBC171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66E7-09F8-4A63-B598-EF4180879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07DF-EA45-453C-A319-7E94FC2E5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F276-3E1A-49C1-8131-31408C3C0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F50B-F28E-41E6-BB4A-007FDB063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2F0B-4526-41C8-8069-3C3A15674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A8CB-B2B8-40D7-BD0E-A1BC6AF49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E7A5-8FCA-420D-95E6-6C17BE071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EF72-D01A-4A83-BC38-609FA0173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8415-AA80-40C0-81C3-36FEFE936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AE51-77C2-4325-90E4-D0358ACDB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0A0E-E673-4C56-B241-BDB530EA8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107F-814C-4C6D-ACBF-1EB0BA48C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30AC-66E2-401E-9D6A-2CAD60E66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5115-52C8-4470-89AE-010673935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4D3D-6B6A-4EF0-8F24-3679CD4C7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96EF-71B6-4F90-A549-30C81610B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E869-660D-44F3-92AC-BA0F786B5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C168-F31C-4304-8E6B-472F3A032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33640" y="1523880"/>
            <a:ext cx="6876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 YOU NAME ALL 8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NAMES OF THE 8 HARRY POTTER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604880" y="762120"/>
            <a:ext cx="593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BLOOD GROU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95320" y="3809880"/>
            <a:ext cx="7353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URY, VENUS, EARTH, MARS, JUPITER, SATURN, URANUS, NEPTU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2160" y="762120"/>
            <a:ext cx="7159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PLANETS IN OUR SOLAR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4480" y="3809880"/>
            <a:ext cx="8915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LAND, MASSACHUSETTS, MICHIGAN, MINNESOTA, MAINE, MISSISSIPPI, MISSOURI, MO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77840" y="762120"/>
            <a:ext cx="69883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STATES WHOSE NAMES BEGIN WITH THE LETTER "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YEAR'S, MLK, PRESIDENT'S, MEMORIAL, INDEPENDENCE, LABOR, COLUMBUS, VETERA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43000" y="762120"/>
            <a:ext cx="86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U.S. FEDERAL HOLIDAYS BESIDES CHRISTMAS AND THANKSGIV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3809880"/>
            <a:ext cx="8458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OR, MOURNERS, MEEK, HUNGRY, MERCIFUL, PURE OF HEART, PEACEMAKERS, PERSECU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6212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8 GROUPS OF PEOPLE ARE BLESSED IN THE BEATITUDES OF MATTHEW 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38098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TS,  CELERY,  CARROTS, LETTUCE,  PARSLEY,  TOMATO, WATERCRESS,  SPINA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2120" y="762120"/>
            <a:ext cx="7619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8 VEGETABLES ARE USED TO MAKE V8 JU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80880" y="4343400"/>
            <a:ext cx="8382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LAND,  INDIA,  INDONESIA,  IRAN,  IRAQ, IRELAND,  ISRAEL,  ITA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COUNTRIES WHOSE NAMES BEGIN WITH THE LETTER "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74840" y="3809880"/>
            <a:ext cx="81914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. HARRISON,  TAYLOR,  LINCOLN, GARFIELD,  MCKINLEY,  HARDING, F. ROOSEVELT,  KENNED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49200" y="762120"/>
            <a:ext cx="66438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8 U.S. PRESIDENTS DIED IN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01880" y="762120"/>
            <a:ext cx="714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PLANETS IN OUR SOLAR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43080" y="37339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,  COLUMBIA,  CORNELL, DARTMOUTH,  HARVARD,  YALE, PENNSYLVANIA,  PRINCET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65240" y="762120"/>
            <a:ext cx="70135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IVY LEAGUE SCHOO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04920" y="2743200"/>
            <a:ext cx="85341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RCERER'S STONE, CHAMBER OF SECRETS, PRISONER OF AZKABAN, GOBLET OF FIRE,  ORDER OF THE PHOENIX,  HALF–BLOOD PRINCE, DEATHLY HALLOWS PARTS 1 &amp;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762120"/>
            <a:ext cx="8001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NAMES OF THE 8 HARRY POTTER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+, A-, B+, B-, AB+, AB-, O+, O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690560" y="762120"/>
            <a:ext cx="5762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BLOOD GROU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71560" y="761760"/>
            <a:ext cx="739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STATES WHOSE NAMES BEGIN WITH THE LETTER "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8920" y="762120"/>
            <a:ext cx="8966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U.S. FEDERAL HOLIDAYS BESIDES CHRISTMAS AND THANKSGIV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38040" y="762120"/>
            <a:ext cx="846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8 GROUPS OF PEOPLE ARE BLESSED IN THE BEATITUDES OF MATTHEW 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36800" y="761760"/>
            <a:ext cx="7070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8 VEGETABLES ARE USED TO MAKE V8 JU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1880" y="761760"/>
            <a:ext cx="822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COUNTRIES WHOSE NAMES BEGIN WITH THE LETTER "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52480" y="761760"/>
            <a:ext cx="7439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8 U.S. PRESIDENTS DIED IN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68320" y="761760"/>
            <a:ext cx="7407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IVY LEAGUE SCHOO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12-18T12:57:25Z</dcterms:modified>
  <cp:revision>383</cp:revision>
  <dc:subject/>
  <dc:title>Slide 1</dc:title>
</cp:coreProperties>
</file>