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CCCF-E84E-47DC-A4AD-84752EDF9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D228-744D-4AE7-88BB-129073A1C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09E0-2D5F-4CA8-920F-F2C61A0D2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3255-8928-4339-8EEB-0A58B658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05C1-FA8B-4F36-A7BD-7CDA7ECF9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C038-5A37-4AFB-BE73-CB16E1C23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023B-0CB6-48F3-A89E-8E79DEA5E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48C9-CAEB-4100-B29A-707B2B43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10B7-E81E-4005-921D-FC6EFE75C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5931-446B-458F-B886-746E5D272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46F0-D064-4EC6-A5C1-B2B5AC2D4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95F1-419E-4E90-834A-7C83A730B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4285-13BF-40E0-A777-C039217CC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6EB2-02CF-4437-BE38-CB1C7DAF4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C1A3-8DAA-4E3A-9130-8310D1FFA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48FB-4485-4B6E-BFAF-804258B5C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DBA1-205B-429C-870E-A04B99DA7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6BB3-A284-4497-9D30-762519CA1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5DDA-CEDF-4539-BBC0-F7E2D67F4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A0D8-3A40-4320-9996-0E71DD17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39F1-84B6-4576-9668-E8072B76B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9AE7-4EB2-4D34-9BD8-02C3A295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EFA6-4AD1-4D0F-91B3-723521D85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TTER 2 LE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57200" y="761760"/>
            <a:ext cx="64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IS THE B-2 SPIRIT AIRCRAFT COMMONLY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61840" y="762120"/>
            <a:ext cx="7420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QUARE OF THE SPEED OF LIGHT, 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FIGURES PROMINENTLY IN WHAT FIELD OF PHYS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KISTAN  or 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71560" y="762120"/>
            <a:ext cx="739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COUNTRIES THAT CONTAIN K2, THE SECOND HIGHEST MOUNTAI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O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7720" y="762120"/>
            <a:ext cx="8188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2 IS THE LOW-SUGAR VERSION OF WHAT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43080" y="441972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HE  &amp;  C–3PO  WERE  NOT  IN  "SOLO:  A  STAR  WARS  STOR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2-D2 IS THE ONLY CHARACTER TO APPEAR IN ALL 12 OF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IGHTY  DU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58800" y="762120"/>
            <a:ext cx="782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ST OF THE TITLE OF THE 1994 SPORTS FILM SEQUEL TITLED         "D2: ____ ____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BOFLA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62240" y="762120"/>
            <a:ext cx="6419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VITAMIN B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50920" y="762120"/>
            <a:ext cx="6842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USICAL GROUP U2 IS ORIGINALLY FROM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  PER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8960" y="762120"/>
            <a:ext cx="796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HAS CHEMICAL FORMULA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9800" y="762120"/>
            <a:ext cx="74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COUNTRIES THAT CONTAIN K2, THE SECOND HIGHEST MOUNTAI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UARY  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5120" y="698400"/>
            <a:ext cx="7673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LOYERS ARE REQUIRED BY LAW TO SEND THEIR EMPLOYEES W-2 FORMS BEFORE WHAT 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EALTH  BO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90760" y="762120"/>
            <a:ext cx="61624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IS THE B-2 SPIRIT AIRCRAFT COMMONLY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LA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QUARE OF THE SPEED OF LIGHT, 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FIGURES PROMINENTLY IN WHAT FIELD OF PHYS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2 IS THE LOW-SUGAR VERSION OF WHAT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2-D2 IS THE ONLY CHARACTER TO APPEAR IN ALL 12 OF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ST OF THE TITLE OF THE 1994 SPORTS FILM SEQUEL TITLED         "D2: ____ ____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48920" y="761760"/>
            <a:ext cx="644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VITAMIN B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76480" y="761760"/>
            <a:ext cx="6791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USICAL GROUP U2 IS ORIGINALLY FROM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89120" y="761760"/>
            <a:ext cx="7565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HAS CHEMICAL FORMULA H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MPLOYERS ARE REQUIRED BY LAW TO SEND THEIR EMPLOYEES W-2 FORMS BEFORE WHAT D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3-06T10:55:27Z</dcterms:modified>
  <cp:revision>372</cp:revision>
  <dc:subject/>
  <dc:title>Slide 1</dc:title>
</cp:coreProperties>
</file>