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F300-AE5A-4C34-B92E-DB2298F6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4A6B-06E3-4723-82FA-1712A56C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E92-9D84-404D-BF91-2FE2A7DC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894A-289E-407D-B620-35BAADAE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B15-95A9-4374-822D-A4093263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3B2-8C62-46DD-B800-BCFD5248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916-1DA8-4DEF-A827-C5CA5689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0B6-64F1-47FF-851C-F253E1E5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154-BF96-4045-9597-FC085065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DF0-F2B2-4DF3-A3A6-E5792FAA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989-E406-45E3-957B-B9F4F73F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A1D-B1B4-46D3-AB47-72E8C24C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B01-54B6-4262-BFE3-E190FBF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E14-F05E-4FC6-AE17-38D6ECE6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FA8-A749-44AB-BB44-6B1F4486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2DC-44FD-4AA7-9D1C-1DC133B5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3B00-2422-41BD-8FCA-3412831E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07F8-5034-4E1E-8C5C-29744A80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74F-ACCC-4D00-A576-37FBB732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4E76-E6F8-4094-91FB-B2D162D8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B11A-4063-4C13-83FA-2B76EE3E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695F-2E76-4C6C-BC0C-C9D0A66C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DF0D-5CBD-4C64-9003-35CF7315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TER 2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57200" y="761760"/>
            <a:ext cx="64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E B-2 SPIRIT AIRCRAFT COMMON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61840" y="762120"/>
            <a:ext cx="742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QUARE OF THE SPEED OF LIGHT,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IGURES PROMINENTLY IN WHAT FIELD OF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KISTAN  or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1560" y="762120"/>
            <a:ext cx="739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COUNTRIES THAT CONTAIN K2, THE SECOND HIGHEST MOUNTAI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7720" y="762120"/>
            <a:ext cx="818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2 IS THE LOW-SUGAR VERSION OF W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43080" y="44197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HE  &amp;  C–3PO  WERE  NOT  IN  "SOLO:  A  STAR  WARS  STOR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2-D2 IS THE ONLY CHARACTER TO APPEAR IN ALL 12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GHTY  D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58800" y="762120"/>
            <a:ext cx="78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ST OF THE TITLE OF THE 1994 SPORTS FILM SEQUEL TITLED         "D2: ____ ____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BOFLA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62240" y="762120"/>
            <a:ext cx="6419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VITAMIN B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50920" y="762120"/>
            <a:ext cx="684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U2 IS ORIGINALLY FROM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  PE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CHEMICAL FORMULA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COUNTRIES THAT CONTAIN K2, THE SECOND HIGHEST MOUNTAI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 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LOYERS ARE REQUIRED BY LAW TO SEND THEIR EMPLOYEES W-2 FORMS BEFORE WHAT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EALTH  BO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90760" y="762120"/>
            <a:ext cx="616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E B-2 SPIRIT AIRCRAFT COMMON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QUARE OF THE SPEED OF LIGHT,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IGURES PROMINENTLY IN WHAT FIELD OF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2 IS THE LOW-SUGAR VERSION OF WHAT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2-D2 IS THE ONLY CHARACTER TO APPEAR IN ALL 12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ST OF THE TITLE OF THE 1994 SPORTS FILM SEQUEL TITLED         "D2: ____ ____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48920" y="761760"/>
            <a:ext cx="644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VITAMIN B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U2 IS ORIGINALLY FROM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CHEMICAL FORMULA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LOYERS ARE REQUIRED BY LAW TO SEND THEIR EMPLOYEES W-2 FORMS BEFORE WHAT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6T10:55:27Z</dcterms:modified>
  <cp:revision>372</cp:revision>
  <dc:subject/>
  <dc:title>Slide 1</dc:title>
</cp:coreProperties>
</file>