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5C71-4BBE-4FD3-A443-6DAEC4A4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9B5-D040-42B9-9C94-E048FCB0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48D-D92F-4DDD-8785-798C92F2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17C8-1148-4D9C-9662-50FF0BD1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19F5-FABD-4F39-A2B5-F3142C84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D60D-6739-465A-8828-CE499092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ECF-3BDA-4735-A4F0-18EF3C5C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CF15-026E-4CCE-8956-2CEA2A11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6B3B-7056-4090-ABA4-90CDF554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65AB-20EB-482D-AF28-F9C70E74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AC01-AED6-4A3F-BD0A-D1817ABE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467-E0BE-41C6-AA9E-9E12874E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AF1-11DB-466C-881A-7CCA8A5B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F72D-A8B3-4BBB-AC41-79E3D07A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E860-DF32-4D8D-97DB-6683BF6C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3A2-1BB8-4465-A4A6-00187B9B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90B-5CF1-41A2-9562-2E48E87F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035-3077-4BF4-8F9E-8DF3F16F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5D0-A065-4AAE-A189-2354AC7E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FD3D-5CB9-4723-8974-7CAD6B70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B24-B9A6-4A08-B3A4-CA10E4A9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03C-C693-4CE5-BBCD-7904988A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70F-7F94-4DB3-B2D4-DCCF83E5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F THE ORIGINAL 7 WONDERS OF THE ANCIENT WORLD SURVIVE TO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OF 7-UP SODA CAME FROM THE FACT THAT ITS pH IS OVE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D  &amp;  GLUTT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EADLY SINS, 2 OF THEM START WITH THE LETTER "G". 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7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SOME OF THE MOVIE POSTERS FOR THE FILM "SEVEN", HOW WAS "SEVEN" INTENTIONALLY MISSPE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6368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,  ORANGE,  YELLOW,  GREEN, BLUE,  INDIGO  &amp;  VI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LORS OF THE RAIN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N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AYS OF THE WEEK, ONLY MONDAY CAN BE ANAGRAMMED INTO ANOTHER WORD. 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METALS KNOWN TO THE ANCIENTS (COPPER, GOLD, IRON, LEAD, MERCURY, SILVER &amp; TIN), WHICH ONE COULD THEY NOT M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4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GHLY HOW MANY 7-ELEVEN STORES ARE THERE?  4,000,  16,000, OR 64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3809880"/>
            <a:ext cx="7086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RICA,  ASIA,  EUROPE, NORTH  &amp;  SOUTH AMERICA, ANTARCTICA  &amp; 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NTIN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EADLY SINS, 2 OF THEM START WITH THE LETTER "G".  WHAT ARE TH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RIGINAL  7  LIBERAL  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6094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GRAMMAR, LOGIC, RHETORIC, ARITHMETIC, MUSIC, GEOMETRY &amp; ASTRONOMY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(THE  GREAT  PYRAM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5335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F THE ORIGINAL 7 WONDERS OF THE ANCIENT WORLD SURVIVE TO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(ITS pH IS 3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09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OF 7-UP SODA CAME FROM THE FACT THAT ITS pH IS OVE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SOME OF THE MOVIE POSTERS FOR THE FILM "SEVEN", HOW WAS "SEVEN" INTENTIONALLY MISSPE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LORS OF THE RAIN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AYS OF THE WEEK, ONLY MONDAY CAN BE ANAGRAMMED INTO ANOTHER WORD.  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METALS KNOWN TO THE ANCIENTS (COPPER, GOLD, IRON, LEAD, MERCURY, SILVER &amp; TIN), WHICH ONE COULD THEY NOT ME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GHLY HOW MANY 7-ELEVEN STORES ARE THERE?  4,000, 16,000, OR 64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NTIN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MMAR, LOGIC, RHETORIC, ARITHMETIC, MUSIC, GEOMETRY &amp; ASTRONOMY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20:40:40Z</dcterms:created>
  <dc:creator>Jennifer Budzinski</dc:creator>
  <dc:description/>
  <dc:language>en-US</dc:language>
  <cp:lastModifiedBy>Erich Friedman</cp:lastModifiedBy>
  <dcterms:modified xsi:type="dcterms:W3CDTF">2020-08-28T22:27:17Z</dcterms:modified>
  <cp:revision>311</cp:revision>
  <dc:subject/>
  <dc:title>Slide 1</dc:title>
</cp:coreProperties>
</file>