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A80B-BEF7-43E9-88E9-5175D02ED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EBCA-5DDB-4AD1-AFC3-B97E23D31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8CDB-A111-4756-A6B7-9756155B1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247F-83AA-42E1-B1BA-8124765E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B08D-825F-4F25-BA3F-C0CCA8E2C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6434-86CB-4144-A302-814F0D9F2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60D-DB31-454F-BD8F-51BA7C4AF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C22F-963B-4DAF-BDC1-DB3BE63C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77CA-D315-489E-A530-9B6EE7CB4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623-E2F8-4311-91E7-5B86DDB49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CB21-7D83-49C9-884C-98C21232E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09E9-053D-405A-83C6-25DB44E2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7A11-F967-4D40-B306-91F814335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A56E-9A11-4340-BB4A-FDD67609D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350A-E0C0-43D1-BA89-66D048092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E5EB-9FD0-4AF6-A3F9-57C2B6DDC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954A-6898-40D6-BE3D-B63A94AE5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3A9B-A9FA-4F8F-BAC9-57187B760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C1E0-523D-47E8-A65D-584186E17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4A4C-BA54-4D0A-A556-03EA00F45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EE1D-E1C9-4A35-9FD1-917E2A9BA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8366-A851-43B9-A752-D49625E79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E9AC-E9D6-4CE8-AD36-895BFEDC4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V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OF THE ORIGINAL 7 WONDERS OF THE ANCIENT WORLD SURVIVE TO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OF 7-UP SODA CAME FROM THE FACT THAT ITS pH IS OVE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28600" y="4876920"/>
            <a:ext cx="8686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D  &amp;  GLUTTO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DEADLY SINS, 2 OF THEM START WITH THE LETTER "G".  WHAT ARE TH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7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SOME OF THE MOVIE POSTERS FOR THE FILM "SEVEN", HOW WAS "SEVEN" INTENTIONALLY MISSPE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63680" y="43434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,  ORANGE,  YELLOW,  GREEN, BLUE,  INDIGO  &amp;  VIO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7 COLORS OF THE RAINB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YN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DAYS OF THE WEEK, ONLY MONDAY CAN BE ANAGRAMMED INTO ANOTHER WORD.  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METALS KNOWN TO THE ANCIENTS (COPPER, GOLD, IRON, LEAD, MERCURY, SILVER &amp; TIN), WHICH ONE COULD THEY NOT ME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4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GHLY HOW MANY 7-ELEVEN STORES ARE THERE?  4,000,  16,000, OR 64,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028880" y="3809880"/>
            <a:ext cx="7086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RICA,  ASIA,  EUROPE, NORTH  &amp;  SOUTH AMERICA, ANTARCTICA  &amp;  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7 CONTIN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DEADLY SINS, 2 OF THEM START WITH THE LETTER "G".  WHAT ARE TH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RIGINAL  7  LIBERAL  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609480"/>
            <a:ext cx="8610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GRAMMAR, LOGIC, RHETORIC, ARITHMETIC, MUSIC, GEOMETRY &amp; ASTRONOMY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(THE  GREAT  PYRAMI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5335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OF THE ORIGINAL 7 WONDERS OF THE ANCIENT WORLD SURVIVE TO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(ITS pH IS 3.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60948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OF 7-UP SODA CAME FROM THE FACT THAT ITS pH IS OVE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SOME OF THE MOVIE POSTERS FOR THE FILM "SEVEN", HOW WAS "SEVEN" INTENTIONALLY MISSPE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7 COLORS OF THE RAINB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DAYS OF THE WEEK, ONLY MONDAY CAN BE ANAGRAMMED INTO ANOTHER WORD.  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7 METALS KNOWN TO THE ANCIENTS (COPPER, GOLD, IRON, LEAD, MERCURY, SILVER &amp; TIN), WHICH ONE COULD THEY NOT ME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UGHLY HOW MANY 7-ELEVEN STORES ARE THERE?  4,000, 16,000, OR 64,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7 CONTIN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RAMMAR, LOGIC, RHETORIC, ARITHMETIC, MUSIC, GEOMETRY &amp; ASTRONOMY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20:40:40Z</dcterms:created>
  <dc:creator>Jennifer Budzinski</dc:creator>
  <dc:description/>
  <dc:language>en-US</dc:language>
  <cp:lastModifiedBy>Erich Friedman</cp:lastModifiedBy>
  <dcterms:modified xsi:type="dcterms:W3CDTF">2020-08-28T22:27:17Z</dcterms:modified>
  <cp:revision>311</cp:revision>
  <dc:subject/>
  <dc:title>Slide 1</dc:title>
</cp:coreProperties>
</file>