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15A0-8311-4C18-8375-60BAB67AF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F0CF-F687-4149-AA9F-A61457568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714D-621A-4453-ACEA-CD7E5A7B6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1D55-F68E-4FDB-90AB-E2A8B19E3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043A-5159-4456-B39C-9D20F801B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E719-D8EA-4332-94AC-98BA7E393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BC88-EF3D-4E8A-B5AA-D1488DFF0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0279-DD7F-4B69-8752-91C592049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EAE6-2FF5-4714-946A-6242A2D1B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A0D6-942C-4462-8F07-FE19949CF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76FB-4B07-4E69-83E2-5664823F7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B849-F6E2-42BA-A452-3CD30DA38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D36C-5B83-4658-942C-723332EFF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621C-D9A2-46B9-B5FB-2057E7B97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AFA6-E873-47F0-8DC7-993AA67A0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8BC6-C38F-422B-82A9-F3DF29E7A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8E25-9415-4B4B-8DD2-50AAF85F9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ECB3-6C8B-4F88-BC8D-4157BF000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5534-1374-4361-9C8E-BA555134A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85D2-4868-4511-90C3-772ADD5A8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8785-30A8-4F08-8229-27F84C6CA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AD1B-C6EC-40F1-A8A6-E5BFADCBA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BF40-7BB4-4FD1-A6C2-4721B678B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5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60, 70, OR 80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MALLEST POSITIVE NUMBER DIVISIBLE BY 1, 2, 3, 4, 5, AND 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28600" y="762120"/>
            <a:ext cx="8686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DO FRENCH AND DANISH HAVE NO SEPARATE WORD FOR, OTHER THAN USING THE PHRASE "...PLUS T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43000" y="762120"/>
            <a:ext cx="6858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BASE DID THE BABYLONIANS 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8808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NTERSTATE GOES FROM MARYLAND TO UTA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409760" y="762120"/>
            <a:ext cx="6324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WEIGHT OF 5 STONES IS EQUAL TO HOW MANY POU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ARBLES ARE THERE IN THE GAME OF CHINESE CHECK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HOW MANY YEARS PAST THE DEATH OF THE AUTHOR IS A COPYRIGHT GOO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NUMBER OF HOME RUNS HIT BY A PLAYER IN A 154-GAME SEASON OF PRO BASEB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486080" y="762120"/>
            <a:ext cx="6172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% OF PEOPLE DIE AT WHAT EXACT 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BASE DID THE BABYLONIANS U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19320" y="762120"/>
            <a:ext cx="6705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TOMIC NUMBER OF MERC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47640" y="762120"/>
            <a:ext cx="78487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MALLEST POSITIVE NUMBER DIVISIBLE BY 1, 2, 3, 4, 5, AND 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228600" y="762120"/>
            <a:ext cx="8686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DO FRENCH AND DANISH HAVE NO SEPARATE WORD FOR, OTHER THAN USING THE PHRASE "...PLUS T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NTERSTATE GOES FROM MARYLAND TO UTA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333440" y="762120"/>
            <a:ext cx="64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WEIGHT OF 5 STONES IS EQUAL TO HOW MANY POU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MARBLES ARE THERE IN THE GAME OF CHINESE CHECK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2396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HOW MANY YEARS PAST THE DEATH OF THE AUTHOR IS A COPYRIGHT GOO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NUMBER OF HOME RUNS HIT BY A PLAYER IN A 154-GAME SEASON OF PRO BASEB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% OF PEOPLE DIE AT WHAT EXACT 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TOMIC NUMBER OF MERC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7:49:37Z</dcterms:created>
  <dc:creator>Jennifer Budzinski</dc:creator>
  <dc:description/>
  <dc:language>en-US</dc:language>
  <cp:lastModifiedBy>Erich Friedman</cp:lastModifiedBy>
  <dcterms:modified xsi:type="dcterms:W3CDTF">2020-08-28T22:29:46Z</dcterms:modified>
  <cp:revision>327</cp:revision>
  <dc:subject/>
  <dc:title>Slide 1</dc:title>
</cp:coreProperties>
</file>