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4DB2-C1F7-4AD2-9435-05D97AA01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6030-63D1-418E-A64F-66341F343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285C-40E5-40E5-AFB5-8E5F9AC20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9B26-4536-403B-99FC-D736269F7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77FC-6A77-406B-A7FC-3201EA3A4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D8C-3C99-478D-8AAB-C169D2ABF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699D-73B9-4828-AFBB-19D7483CE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FA4F-94A7-464E-BBE2-5D5551C3C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F5FE-4E9F-4512-B45A-20487CBD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4F04-29DC-4E98-8C0E-BEE26EE70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305C-A6AB-4507-B92C-570E01BD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E340-FD0C-41B8-8653-9F4FA3D0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35E8-E8DA-432D-9CED-17A01447D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5B5-8EEC-4D2F-A18E-12F617BC0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B151-FB28-43DF-9C67-0B09FF78F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3210-E345-46D9-882F-66C565634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683B-DE89-4E84-AC8C-4D0FC7A4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0205-A1C5-468D-8310-B866F21F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3E2D-612D-4578-A6EC-DC7C0975E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79B5-D9EE-443B-95DD-2AF65E6AF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2D09-E77A-405E-887A-FAA80AC86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4A4A-52C2-43CA-9B67-C3579A71E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4AFE-9024-43A9-B74A-E880FE950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5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0, 70, OR 80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NUMBER DIVISIBLE BY 1, 2, 3, 4, 5, AND 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FRENCH AND DANISH HAVE NO SEPARATE WORD FOR, OTHER THAN USING THE PHRASE "...PLUS T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BASE DID THE BABYLONIANS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TERSTATE GOES FROM MARYLAND TO UT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 OF 5 STONES IS EQUAL TO HOW MANY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RBLES ARE THERE IN THE GAME OF CHINESE CHE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YEARS PAST THE DEATH OF THE AUTHOR IS A COPYRIGHT G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HOME RUNS HIT BY A PLAYER IN A 154-GAME SEASON OF PRO BASE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% OF PEOPLE DIE AT WHAT EXACT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BASE DID THE BABYLONIANS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MERC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NUMBER DIVISIBLE BY 1, 2, 3, 4, 5, AND 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FRENCH AND DANISH HAVE NO SEPARATE WORD FOR, OTHER THAN USING THE PHRASE "...PLUS T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TERSTATE GOES FROM MARYLAND TO UT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 OF 5 STONES IS EQUAL TO HOW MANY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RBLES ARE THERE IN THE GAME OF CHINESE CHECK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2396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YEARS PAST THE DEATH OF THE AUTHOR IS A COPYRIGHT G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HOME RUNS HIT BY A PLAYER IN A 154-GAME SEASON OF PRO BASE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% OF PEOPLE DIE AT WHAT EXACT 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MERC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7:49:37Z</dcterms:created>
  <dc:creator>Jennifer Budzinski</dc:creator>
  <dc:description/>
  <dc:language>en-US</dc:language>
  <cp:lastModifiedBy>Erich Friedman</cp:lastModifiedBy>
  <dcterms:modified xsi:type="dcterms:W3CDTF">2020-08-28T22:29:46Z</dcterms:modified>
  <cp:revision>327</cp:revision>
  <dc:subject/>
  <dc:title>Slide 1</dc:title>
</cp:coreProperties>
</file>