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860-B387-4DFB-BC95-2C213504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617-52DA-497B-A571-3196663B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63ED-7573-43FE-822E-49198923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102-9B97-4527-B5D6-DD8850D3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30B-C825-4D73-99E7-E56A0EE6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B60-24CD-4E29-945C-A927566F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1334-60BF-49A4-8D25-16E755BE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786-7E58-4075-9B90-C1DCA015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B74D-9A8E-4034-BF4D-62C5AE55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8AAA-DD32-4B66-BA37-FC34A123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00FA-634F-4064-B1FF-0ADC3FD8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49D-8ABC-4CE4-ABBC-8EBB9A75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651D-9D7A-487C-B3A4-BCD0A86A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075-69F9-403E-B9FB-21CDCC9A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192-205E-41D9-BE62-E2D55F68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4189-4B10-40EC-B0DD-8E6D0896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EBA3-880A-4B2C-BD28-37C5CEE4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69C-D6DD-4CD5-A598-9C9C43A29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2D3-F2F4-44A1-B319-65CBF7C8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E16-3B5B-4896-83CF-09BD5FDED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987E-34FE-4F2D-88F2-6D79FB4E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296-F2B1-42C4-B97C-FCDE9A10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0277-6E02-4622-9080-8AE43DD8B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0, 70, OR 8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49:37Z</dcterms:created>
  <dc:creator>Jennifer Budzinski</dc:creator>
  <dc:description/>
  <dc:language>en-US</dc:language>
  <cp:lastModifiedBy>Erich Friedman</cp:lastModifiedBy>
  <dcterms:modified xsi:type="dcterms:W3CDTF">2020-08-28T22:29:46Z</dcterms:modified>
  <cp:revision>327</cp:revision>
  <dc:subject/>
  <dc:title>Slide 1</dc:title>
</cp:coreProperties>
</file>