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8AE8E-7263-41AC-9DFE-852CAD903A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4694C-B3FF-4E38-ACAF-3987332AB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760CD-4B72-4D58-BE89-B5FDCC835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6EDD5-28EE-4BD7-922C-F15E5B88A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DACAF-F3CA-4F9D-BD42-ACA0CC8C1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A9976-BB85-4CBC-A27C-506E961CD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E0DD5-157C-419F-9231-06FCC3DDC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E0E79-9B86-4713-AD3D-55CBE1609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59E72-B2F5-44E9-A858-08647668E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FA1DE-D2AB-455F-ABDB-D69E0228E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E169C-DE9D-4952-9FF5-0774F8728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E5B6E-12AC-4699-8CB1-7D8742F37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80289-6EDA-41BD-A73C-BD6EC3625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DDF65-D789-43FC-8878-C59522485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3D57F-553A-4CA5-83F9-959CC1171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6BB84-F2D0-46B9-8D6B-2CB7D00DD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3FD7F-E1FB-4B7D-B058-BE433EE4B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7C9B9-1617-496A-A76F-8B069CFE6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ABCA1-645A-436B-A70E-385478FE8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C832E-5A17-47E4-9614-DE6A03360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23613-6B82-4019-AEE4-BEB20F687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A9A97-E65A-45A7-8CC2-308D46117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13A6B-E92D-4F09-BEBB-20C89D218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520"/>
            <a:ext cx="75438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0, 40, OR 50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TOMIC NUMBER OF T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952560" y="762120"/>
            <a:ext cx="7238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HIGHEST NUMBER EVER COUNTED TO ON "SESAME STREE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1028880" y="762120"/>
            <a:ext cx="7086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CANNONBALLS ARE IN THIS STA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3" descr="30.jpg"/>
          <p:cNvPicPr/>
          <p:nvPr/>
        </p:nvPicPr>
        <p:blipFill>
          <a:blip r:embed="rId1"/>
          <a:stretch/>
        </p:blipFill>
        <p:spPr>
          <a:xfrm>
            <a:off x="3129120" y="2590920"/>
            <a:ext cx="2885760" cy="217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752480" y="762120"/>
            <a:ext cx="56390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NT CONSISTS OF HOW MANY DAY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457200" y="4876920"/>
            <a:ext cx="822960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INIMUM AGE FOR U.S. SENATO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43080" y="487980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PEED LIMIT,       IN KILOMETERS PER HOUR,      OF ANY CANADIAN ROAD WITHOUT SPEED LIMIT SIG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WHOLE NUMBER, WHEN SPELLED OUT, THAT HAS ITS LETTERS IN ALPHABETICAL ORD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85800" y="762120"/>
            <a:ext cx="7772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AJOR LEAGUE BASEBALL, HOW MANY PLAYERS ARE ALLOWED TO BE ON THE ROSTER AT ANY ONE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066680" y="762120"/>
            <a:ext cx="7010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MATTHEW 26:15, FOR HOW MANY PIECES OF SILVER DID JUDAS BETRAY JESU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CANNONBALLS ARE IN THIS STAC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30.jpg"/>
          <p:cNvPicPr/>
          <p:nvPr/>
        </p:nvPicPr>
        <p:blipFill>
          <a:blip r:embed="rId1"/>
          <a:stretch/>
        </p:blipFill>
        <p:spPr>
          <a:xfrm>
            <a:off x="3048120" y="2666880"/>
            <a:ext cx="302868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STONES (WHICH ARE ALSO CALLED MEN OR CHECKERS) ARE THERE IN THE GAME OF BACKGA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066680" y="762120"/>
            <a:ext cx="70106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TOMIC NUMBER OF T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800280" y="762120"/>
            <a:ext cx="7543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HIGHEST NUMBER EVER COUNTED TO ON "SESAME STREE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1790640" y="761760"/>
            <a:ext cx="5562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NT CONSISTS OF HOW MANY DAY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INIMUM AGE FOR U.S. SENATO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PEED LIMIT,       IN KILOMETERS PER HOUR,      OF ANY CANADIAN ROAD WITHOUT SPEED LIMIT SIG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WHOLE NUMBER, WHEN SPELLED OUT, THAT HAS ITS LETTERS IN ALPHABETICAL ORD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AJOR LEAGUE BASEBALL, HOW MANY PLAYERS ARE ALLOWED TO BE ON THE ROSTER AT ANY ONE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MATTHEW 26:15, FOR HOW MANY PIECES OF SILVER DID JUDAS BETRAY JESU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STONES (WHICH ARE ALSO CALLED MEN OR CHECKERS) ARE THERE IN THE GAME OF BACKGAMM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1T12:01:48Z</dcterms:created>
  <dc:creator>Jennifer Budzinski</dc:creator>
  <dc:description/>
  <dc:language>en-US</dc:language>
  <cp:lastModifiedBy>Erich Friedman</cp:lastModifiedBy>
  <dcterms:modified xsi:type="dcterms:W3CDTF">2020-08-28T22:31:56Z</dcterms:modified>
  <cp:revision>329</cp:revision>
  <dc:subject/>
  <dc:title>Slide 1</dc:title>
</cp:coreProperties>
</file>