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356C1-D97C-4155-8B16-B4BD15D86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4AC7-6F0D-491E-AB26-E4C224B86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823B-EF31-4951-A1AC-F7C9C7391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D92C-4E9E-49B4-A7DA-3D1D8D811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B3B3-5E91-4B5A-BA86-B9FB6DC09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D5FB-D6C3-4B78-AD9F-26238F1C5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B3C8-CC41-4A0A-9469-8975E9323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9CA9-909E-4EC2-96BE-786500A3E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B7360-34C5-4F76-80EB-8FD93307E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74D3-EC63-4558-983A-3453140A9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2A22-ADF5-45F1-8C8B-E04B41E90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0702F-AD98-4F46-A969-269BC92B5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02DF-B95A-4843-A1A5-3C9AE189C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B555F-26CA-42D2-9743-51DF30C30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7F1A-EBFD-4D22-AA4A-ADABCFFAB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8835-5B3D-4031-9480-D8072522E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8FDB-A2BC-428C-9452-E96BDE476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9BE9-14E5-46FA-8B97-4BA881586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386D-FBB9-42B8-8385-18F3A81C7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43B0-C646-4DD1-AF5B-51D9A16C7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1DC8-6477-432F-9A58-87DBF1BD3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ABEF-95D2-40C8-A4C4-BC5FE1976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8021-9C46-4E6F-8FB7-E958DFCAB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5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, 40, OR 50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NUMBER EVER COUNTED TO ON "SESAME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NONBALLS ARE IN THIS ST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30.jpg"/>
          <p:cNvPicPr/>
          <p:nvPr/>
        </p:nvPicPr>
        <p:blipFill>
          <a:blip r:embed="rId1"/>
          <a:stretch/>
        </p:blipFill>
        <p:spPr>
          <a:xfrm>
            <a:off x="3129120" y="2590920"/>
            <a:ext cx="2885760" cy="217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752480" y="762120"/>
            <a:ext cx="5639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NT CONSISTS OF HOW MANY DA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57200" y="4876920"/>
            <a:ext cx="82296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FOR U.S. SEN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43080" y="48798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EED LIMIT,       IN KILOMETERS PER HOUR,      OF ANY CANADIAN ROAD WITHOUT SPEED LIMIT SIG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HOLE NUMBER, WHEN SPELLED OUT, THAT HAS ITS LETTERS IN ALPHABETICAL O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85800" y="76212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JOR LEAGUE BASEBALL, HOW MANY PLAYERS ARE ALLOWED TO BE ON THE ROSTER AT ANY ONE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MATTHEW 26:15, FOR HOW MANY PIECES OF SILVER DID JUDAS BETRAY JES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CANNONBALLS ARE IN THIS ST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30.jpg"/>
          <p:cNvPicPr/>
          <p:nvPr/>
        </p:nvPicPr>
        <p:blipFill>
          <a:blip r:embed="rId1"/>
          <a:stretch/>
        </p:blipFill>
        <p:spPr>
          <a:xfrm>
            <a:off x="3048120" y="2666880"/>
            <a:ext cx="30286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ONES (WHICH ARE ALSO CALLED MEN OR CHECKERS) ARE THERE IN THE GAME OF BACKGA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66680" y="762120"/>
            <a:ext cx="70106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TOMIC NUMBER OF T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800280" y="762120"/>
            <a:ext cx="75438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HIGHEST NUMBER EVER COUNTED TO ON "SESAME STR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1790640" y="761760"/>
            <a:ext cx="5562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NT CONSISTS OF HOW MANY DA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NIMUM AGE FOR U.S. SENATO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PEED LIMIT,       IN KILOMETERS PER HOUR,      OF ANY CANADIAN ROAD WITHOUT SPEED LIMIT SIG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WHOLE NUMBER, WHEN SPELLED OUT, THAT HAS ITS LETTERS IN ALPHABETICAL O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MAJOR LEAGUE BASEBALL, HOW MANY PLAYERS ARE ALLOWED TO BE ON THE ROSTER AT ANY ONE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MATTHEW 26:15, FOR HOW MANY PIECES OF SILVER DID JUDAS BETRAY JES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TONES (WHICH ARE ALSO CALLED MEN OR CHECKERS) ARE THERE IN THE GAME OF BACKGAMM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1T12:01:48Z</dcterms:created>
  <dc:creator>Jennifer Budzinski</dc:creator>
  <dc:description/>
  <dc:language>en-US</dc:language>
  <cp:lastModifiedBy>Erich Friedman</cp:lastModifiedBy>
  <dcterms:modified xsi:type="dcterms:W3CDTF">2020-08-28T22:31:56Z</dcterms:modified>
  <cp:revision>329</cp:revision>
  <dc:subject/>
  <dc:title>Slide 1</dc:title>
</cp:coreProperties>
</file>