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13A9-AE17-4ACD-BFDC-ABD3C78CA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9A40B-EFE9-4157-89A3-0AF9A9010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6E7B-D41A-47D2-8F39-F9BFF0AC4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2872-EAFC-46DB-872D-5995BE1A5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E08E-FE75-4FEA-BBDB-B1D9BD266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58D0-03FF-4D5B-9CA8-B7DB69F45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825E-FF58-436B-B51A-B3E773A7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A5C-4FAB-4ED2-A579-2F68ED496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5DB6-3B4A-47F1-B920-5B7727D9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B205-AD9C-4250-85B6-44F13C2A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314A-C8FE-45B9-82A0-D361B472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5AEE-B4F7-41C9-A0CE-713C59430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F2B7-CC08-4D0A-AE41-1AB98777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F7CC-7190-4472-8976-F97B9E559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D286-B8C5-4B59-9B66-D95C43E84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2AEB-0FAB-4E92-952F-AAB8CD02C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0DCE-632B-443D-997F-F46BCB95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54B-E696-475A-801B-3A5BA188E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593D-B1E2-41B4-AE08-F458338FB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14EF-CEC8-4C97-80BC-76FAC5C0A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06AB-F3AC-4E3A-BCB0-41604268E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0884-2FCB-4BAC-95EF-293440049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623F-C6B4-4E5C-BC74-BA6648FEB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4, 15, OR 16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WERE OUTLINED BY PRESIDENT WOODROW WILSON IN THE PEACE NEGOTIATIONS AFTER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UGBY, HOW MANY PLAYERS ON A TEAM PLAY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DOES EACH TEAM PLAY IN THE NFL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EMANCIPATION OF MINOR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LLOWED IN A BAG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A TRIANGULAR NUMBER?  14, 15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NITED STATES, WHAT IS THE MINIMUM AGE TO DONATE BLOOD OR GET AN ADULT PAS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PERSONALITY TYPES ARE THERE IN THE MYERS-BRIGGS CLASSIFIC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SPANISH BINGO CALLERS CALL "LA NIÑA BONI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GAMES DOES EACH TEAM PLAY IN THE NFL REGULAR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INES ARE THERE IN A SONN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WERE OUTLINED BY PRESIDENT WOODROW WILSON IN THE PEACE NEGOTIATIONS AFTER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UGBY, HOW MANY PLAYERS ON A TEAM PLAY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EMANCIPATION OF MINOR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LLOWED IN A BAG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A TRIANGULAR NUMBER?  14, 15, OR 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NITED STATES, WHAT IS THE MINIMUM AGE TO DONATE BLOOD OR GET AN ADULT PAS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FFERENT PERSONALITY TYPES ARE THERE IN THE MYERS-BRIGGS CLASSIFI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SPANISH BINGO CALLERS CALL "LA NIÑA BONI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LINES ARE THERE IN A SON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9:35:38Z</dcterms:created>
  <dc:creator>Jennifer Budzinski</dc:creator>
  <dc:description/>
  <dc:language>en-US</dc:language>
  <cp:lastModifiedBy>Erich Friedman</cp:lastModifiedBy>
  <dcterms:modified xsi:type="dcterms:W3CDTF">2020-08-28T22:34:38Z</dcterms:modified>
  <cp:revision>331</cp:revision>
  <dc:subject/>
  <dc:title>Slide 1</dc:title>
</cp:coreProperties>
</file>