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82D-C565-4E70-9C3C-4408BBAA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F9F4-7B73-4AC9-B8D6-DD12C034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4BF-7CEA-4394-8D32-BEF416CE5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E968-C3B6-4350-B816-8D02D096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FA2-E851-4A98-A566-724F6033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E9C-14A0-44A9-9D8F-550EFD31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9B62-5636-4A7D-9056-BAF12539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AAB9-4B58-4B77-87FA-BB14376D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39C4-6EC7-494B-8DB5-121D7F41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91F-F9A5-4381-A55A-88094A40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3C2C-75CE-434E-B193-9BA3D7DF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A15D-9CDE-4414-892B-237131A7D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4931-EAF5-4574-B926-1526AF13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B118-7024-4258-9C08-ABC8A08B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F4C3-78E6-4BE5-A01D-DAF5B0ECE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34E6-4D75-4835-8D4F-D87E7DDA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1968-1548-4A80-9A7F-28865519C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069-E7D3-4D89-877E-642E5F980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8D6-163D-41B8-ABE4-44D8AADE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0D9E-06F2-4EF1-8FCD-4DB55D84A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989F-3C70-476D-B60F-2AA783BF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404-DE6E-4B2E-834F-16B27998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12B-ED2F-438D-AF89-EE9EDBCE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, 15, OR 16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WERE OUTLINED BY PRESIDENT WOODROW WILSON IN THE PEACE NEGOTIATIONS AFTER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UGBY, HOW MANY PLAYERS ON A TEAM PLAY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DOES EACH TEAM PLAY IN THE NFL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EMANCIPATION OF MINOR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LLOWED IN A BAG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A TRIANGULAR NUMBER?  14, 15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NITED STATES, WHAT IS THE MINIMUM AGE TO DONATE BLOOD OR GET AN ADULT PAS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PERSONALITY TYPES ARE THERE IN THE MYERS-BRIGGS 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SPANISH BINGO CALLERS CALL "LA NIÑA BONI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DOES EACH TEAM PLAY IN THE NFL REGULAR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INES ARE THERE IN A SON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WERE OUTLINED BY PRESIDENT WOODROW WILSON IN THE PEACE NEGOTIATIONS AFTER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UGBY, HOW MANY PLAYERS ON A TEAM PLAY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EMANCIPATION OF MINOR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LLOWED IN A BAG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A TRIANGULAR NUMBER?  14, 15, OR 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NITED STATES, WHAT IS THE MINIMUM AGE TO DONATE BLOOD OR GET AN ADULT PAS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PERSONALITY TYPES ARE THERE IN THE MYERS-BRIGGS CLASSIFI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SPANISH BINGO CALLERS CALL "LA NIÑA BONI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INES ARE THERE IN A SON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9:35:38Z</dcterms:created>
  <dc:creator>Jennifer Budzinski</dc:creator>
  <dc:description/>
  <dc:language>en-US</dc:language>
  <cp:lastModifiedBy>Erich Friedman</cp:lastModifiedBy>
  <dcterms:modified xsi:type="dcterms:W3CDTF">2020-08-28T22:34:38Z</dcterms:modified>
  <cp:revision>331</cp:revision>
  <dc:subject/>
  <dc:title>Slide 1</dc:title>
</cp:coreProperties>
</file>