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7EB2-B408-46B4-BBCE-87F37E7C7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176D-11CE-4101-AEE6-456478835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ACF5-9CB1-4D6B-849F-8FDC6AE5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D421-57CE-4192-9B6B-CE742DB13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7B8F-047C-4B29-B48F-BF3025ED9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BA5D-2FDD-470D-8F37-B48988710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9F95-CA47-47EC-A873-416243D9F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D925-F2EC-4F91-8E38-95AF7C9D8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1DFA-7EF1-4FB2-8848-35AE094F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28D6-410D-403A-8CA0-1D851CD4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D687-1FA5-4D0D-8295-FF5D39201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3843-F65C-4F75-9ACB-932484660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6AE5-DD63-4EE8-905B-0C5554C96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402D-1BEA-4C83-9411-0127D2C23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4748-A7CC-4997-B641-0FFABE5B9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1A47-2604-4A7F-ADEB-1B749E5CB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B5EC-0535-4483-8516-311C9DF27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4200-5747-407B-94FE-D237130A3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096C-8646-4D84-BAC2-E33506F52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3706-45C7-46B3-B610-49031A774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175A-79F9-4F8A-A2EE-AFF1CE0D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52AB-9E86-4A38-954A-8EDE715A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0727-17E4-4D8A-86DB-C43F1DE8B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5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, 15, OR 16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INTS WERE OUTLINED BY PRESIDENT WOODROW WILSON IN THE PEACE NEGOTIATIONS AFTER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UGBY, HOW MANY PLAYERS ON A TEAM PLAY AT ANY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AMES DOES EACH TEAM PLAY IN THE NFL REGULAR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FOR EMANCIPATION OF MINOR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NUMBER OF GOLF CLUBS ALLOWED IN A BAG ON THE PGA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A TRIANGULAR NUMBER?  14, 15, OR 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NITED STATES, WHAT IS THE MINIMUM AGE TO DONATE BLOOD OR GET AN ADULT PAS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FFERENT PERSONALITY TYPES ARE THERE IN THE MYERS-BRIGGS CLASSIF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DO SPANISH BINGO CALLERS CALL "LA NIÑA BONIT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AMES DOES EACH TEAM PLAY IN THE NFL REGULAR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LINES ARE THERE IN A SON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INTS WERE OUTLINED BY PRESIDENT WOODROW WILSON IN THE PEACE NEGOTIATIONS AFTER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UGBY, HOW MANY PLAYERS ON A TEAM PLAY AT ANY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FOR EMANCIPATION OF MINOR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NUMBER OF GOLF CLUBS ALLOWED IN A BAG ON THE PGA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A TRIANGULAR NUMBER?  14, 15, OR 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NITED STATES, WHAT IS THE MINIMUM AGE TO DONATE BLOOD OR GET AN ADULT PAS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FFERENT PERSONALITY TYPES ARE THERE IN THE MYERS-BRIGGS CLASSIFIC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DO SPANISH BINGO CALLERS CALL "LA NIÑA BONIT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LINES ARE THERE IN A SON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9:35:38Z</dcterms:created>
  <dc:creator>Jennifer Budzinski</dc:creator>
  <dc:description/>
  <dc:language>en-US</dc:language>
  <cp:lastModifiedBy>Erich Friedman</cp:lastModifiedBy>
  <dcterms:modified xsi:type="dcterms:W3CDTF">2020-08-28T22:34:38Z</dcterms:modified>
  <cp:revision>331</cp:revision>
  <dc:subject/>
  <dc:title>Slide 1</dc:title>
</cp:coreProperties>
</file>