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E882-5D49-4508-99AA-E27CC7C92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2957-BF2C-4600-8F59-5B3AA34F9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D406-71A0-4BB0-A2B0-FD56D5527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0FD5-C9E0-4023-9795-22160FB6D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7A0C-8EE5-4CC5-AC07-C4D62FDB1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0E88-930F-4D1D-99EF-4C3187B19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2C4A-3D5F-466C-97F0-EC004931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2400-9858-4BE8-9E92-D62DD507D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58DB-69C9-443E-B6FF-30C6C5CE2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C3F0-2A3F-4506-A518-0DCDB1AA4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065-EE5D-4045-B637-4BB058AA4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C8BA-7E20-4AFA-8E39-B072EB81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5B86-5DBB-4E83-A344-A6902E22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0E42C-203B-4955-86FE-2BAFF1BB6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C1F-F72A-488A-9841-33D5B1421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83A06-03E0-4A6B-A924-6693BB339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3976-765B-4F67-A45A-06455FB27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44FA-3C50-4AC8-86C2-FA58F493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E3C-03DE-4E4C-9F43-D7E3A3548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B03-99C9-42CE-944A-8306168F2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D688F-F805-40D3-8D8B-35A120539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B1AD-7C91-49EF-BDAC-885A03CC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155C-FAD1-4C85-9DC8-B1A4EE8E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-SOMET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85920" y="761760"/>
            <a:ext cx="65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GREES BELOW ZERO CELSIUS IS ABSOLUTE ZER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200240" y="762120"/>
            <a:ext cx="6743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DUCT OF THE 4 SMALLEST PRIM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52520" y="762120"/>
            <a:ext cx="6438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NES ARE IN THE HUMAN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OF WASHINGTON D.C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OTES ARE REQUIRED IN THE U.S. HOUSE OF REPRESENTATIVES TO ACHIEVE A MAJO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700280" y="754200"/>
            <a:ext cx="574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ARDS ARE IN A FURL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2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FAHRENHEIT DOES WATER BO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90720" y="762120"/>
            <a:ext cx="71625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-SEASON NFL GAMES ARE PLAYED EVERY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-1990 SITCOM STARRED MARLA GIBBS AS A SHARP-TONGUED INNER-CITY GOSS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ONES ARE IN THE HUMAN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VALUE THAT CAN BE REPRESENTED BY AN 8-DIGIT BINARY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3</a:t>
            </a:r>
            <a:r>
              <a:rPr b="0" i="1" lang="en-US" sz="36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71440" y="762120"/>
            <a:ext cx="68011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EGREES BELOW ZERO CELSIUS IS ABSOLUTE Z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14360" y="762120"/>
            <a:ext cx="651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RODUCT OF THE 4 SMALLEST PRIME NUMB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REA CODE OF WASHINGTON D.C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76280" y="762120"/>
            <a:ext cx="81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OTES ARE REQUIRED IN THE U.S. HOUSE OF REPRESENTATIVES TO ACHIEVE A MAJOR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581120" y="762120"/>
            <a:ext cx="5981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YARDS ARE IN A FURL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TEMPERATURE FAHRENHEIT DOES WATER BO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REGULAR-SEASON NFL GAMES ARE PLAYED EVERY SEA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-1990 SITCOM STARRED MARLA GIBBS AS A SHARP-TONGUED INNER-CITY GOSS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VALUE THAT CAN BE REPRESENTED BY AN 8-DIGIT BINARY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22:35:18Z</dcterms:modified>
  <cp:revision>368</cp:revision>
  <dc:subject/>
  <dc:title>Slide 1</dc:title>
</cp:coreProperties>
</file>