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2723-B85D-47AF-BCFA-541A52C60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1EDB-029E-4F89-85AE-342D8DB21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1887-CEB7-4980-B8CB-E69848998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DFD6-D482-425C-B990-68298A8EF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A0D9-0DE8-42A7-B018-643B012D5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F8F3-1A44-4926-B403-43BB5F28A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0F58-23DE-4C8E-B815-F2A5AC92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B4BE-B34D-40DC-9422-22270E733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8845-9AC2-4569-B029-D4723F146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37FC-FAB4-4AD1-A01F-329461D28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CE4F-8419-442D-BC5A-D222EF77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4855-8EF2-4E3A-9089-6FF348282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A523-5934-4EC3-99D4-F6A1BECD3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BE91-C919-4DE2-BB99-4FDA48FD6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8077-EE4A-474C-B2DD-455A5D6DA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E99A-3214-4A87-A526-8CFDA1267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93AA-CD23-42AF-A47B-0FC710082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092E-64D5-4DD2-9CC5-AEF645B57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F475-3F43-419F-A6AC-65DF4619B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7DCE-AA08-4CC3-BD3C-F717F57AE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4C0B-E6DE-4028-AFBA-E2B6C08B3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0197-B101-4D82-BC65-B072984A7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3150-9BE7-41F4-9F1D-3A4DD9B9F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-SOMET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85920" y="761760"/>
            <a:ext cx="657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GREES BELOW ZERO CELSIUS IS ABSOLUTE Z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00240" y="762120"/>
            <a:ext cx="6743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DUCT OF THE 4 SMALLEST PRIME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52520" y="762120"/>
            <a:ext cx="6438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NES ARE IN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76400" y="762120"/>
            <a:ext cx="699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CODE OF WASHINGTON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OTES ARE REQUIRED IN THE U.S. HOUSE OF REPRESENTATIVES TO ACHIEVE A MAJO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700280" y="754200"/>
            <a:ext cx="574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ARDS ARE IN A FUR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TEMPERATURE FAHRENHEIT DOES WATER B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GULAR-SEASON NFL GAMES ARE PLAYED EVERY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-1990 SITCOM STARRED MARLA GIBBS AS A SHARP-TONGUED INNER-CITY GOSS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NES ARE IN THE HUMAN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VALUE THAT CAN BE REPRESENTED BY AN 8-DIGIT BINARY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7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71440" y="762120"/>
            <a:ext cx="6801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GREES BELOW ZERO CELSIUS IS ABSOLUTE Z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14360" y="762120"/>
            <a:ext cx="6515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DUCT OF THE 4 SMALLEST PRIME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33640" y="761760"/>
            <a:ext cx="687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CODE OF WASHINGTON D.C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762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OTES ARE REQUIRED IN THE U.S. HOUSE OF REPRESENTATIVES TO ACHIEVE A MAJO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81120" y="762120"/>
            <a:ext cx="5981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ARDS ARE IN A FUR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TEMPERATURE FAHRENHEIT DOES WATER BO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GULAR-SEASON NFL GAMES ARE PLAYED EVERY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-1990 SITCOM STARRED MARLA GIBBS AS A SHARP-TONGUED INNER-CITY GOSS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VALUE THAT CAN BE REPRESENTED BY AN 8-DIGIT BINARY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5:18Z</dcterms:modified>
  <cp:revision>368</cp:revision>
  <dc:subject/>
  <dc:title>Slide 1</dc:title>
</cp:coreProperties>
</file>