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8C7-4D08-47EA-BB56-96826600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0DBB-8AE9-45D4-AB48-C17B43E2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C578-8DC8-4637-BF8D-0AEEAF3F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45D-325D-498F-B3E4-CC6918E8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26EB-5161-4949-A101-A493BDC9A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B590-1BC6-4EA8-89A9-A580F153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50D-D38F-4220-8702-BDE24132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E483-2D7B-4F33-9973-AFBACADB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740-2B63-4893-8657-D882C1A6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954-2E00-401C-95EC-15F707AC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376E-AFA3-419A-BA17-AB59A387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14E4-35B5-4324-A522-1E2765BD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E73-0AAE-499B-819F-46814AC6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EB3E-D966-4E07-A68C-59E37AD3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5001-8F96-40A2-AE17-2BA4BB13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7FE-0BE3-4BB9-B2F7-470636D7D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988-B8FF-49AB-8E92-AF95EFC5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E7A-AD58-4B65-B6EB-B7D5C2EC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67AD-D8BA-435F-91BE-89D77C34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37CC-1C8F-4DEA-82A6-25981DDA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6662-1F9D-40D7-8F5E-2E8CDAED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4BC-2685-4976-B093-410109200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BFE-40EC-4F40-A4CB-AFA163A8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-SOME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85920" y="76176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GREES BELOW ZERO CELSIUS IS ABSOLUTE Z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DUCT OF THE 4 SMALLEST PRIM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NES ARE IN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OF WASHINGTON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OTES ARE REQUIRED IN THE U.S. HOUSE OF REPRESENTATIVES TO ACHIEVE A MAJO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00280" y="754200"/>
            <a:ext cx="57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ARDS ARE IN A FUR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FAHRENHEIT DOES WATER B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-SEASON NFL GAMES ARE PLAYED EVERY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-1990 SITCOM STARRED MARLA GIBBS AS A SHARP-TONGUED INNER-CITY GOSS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NES ARE IN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VALUE THAT CAN BE REPRESENTED BY AN 8-DIGIT BINARY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71440" y="762120"/>
            <a:ext cx="680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GREES BELOW ZERO CELSIUS IS ABSOLUT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14360" y="762120"/>
            <a:ext cx="651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DUCT OF THE 4 SMALLEST PRIM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OF WASHINGTON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OTES ARE REQUIRED IN THE U.S. HOUSE OF REPRESENTATIVES TO ACHIEVE A MAJO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ARDS ARE IN A FUR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FAHRENHEIT DOES WATER B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-SEASON NFL GAMES ARE PLAYED EVERY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-1990 SITCOM STARRED MARLA GIBBS AS A SHARP-TONGUED INNER-CITY GOSS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VALUE THAT CAN BE REPRESENTED BY AN 8-DIGIT BINARY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5:18Z</dcterms:modified>
  <cp:revision>368</cp:revision>
  <dc:subject/>
  <dc:title>Slide 1</dc:title>
</cp:coreProperties>
</file>