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54EA-ED29-40F7-AD9A-562D9F039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ADC2-2396-43DC-9587-E6DAD90A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31E6-B9CA-444D-AD7E-6BBE9386B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5DB0-8EEB-4C1D-A4F5-4F8BAE8F8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1F0B-6A27-47AD-91BA-A2315304A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3CE4-FC17-432F-A181-AE625297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9199-FE69-412F-B0E2-88EB74A8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E80A-E41F-4EA9-9A81-3BA59EBA5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37A3-E88E-4E3C-9DCA-763173E0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3C5-5CC9-4AD6-8FC5-974CA3737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EFEB-8B4A-41AF-BA6B-7800E42F2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D119-865F-4101-AB3F-FEC629F81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EFFA-5112-475F-BF32-BFD1D425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394F-800F-4615-9C72-C5EED0FE7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FC1F-7778-4DEE-B279-FEA0E5B5D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5434-89FA-40C8-9EC1-704F7C9A6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2BBB-70AD-4867-9919-05647E1C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B7C5-0E19-4F37-AE9C-9F7E9867B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8963-BED7-4B26-8F7B-DD705E24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5834-D49B-4B39-8184-1F667745B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F40-9D40-4A83-945C-9DC1A3375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A2E3-DEC5-4370-8566-369D24AE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4DBE-6D99-4F34-A209-4B19465B2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38320" y="761760"/>
            <a:ext cx="686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NEW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614600" y="762120"/>
            <a:ext cx="59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UNAR MONTH IS APPROXIMATELY HOW MANY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UNS ARE USED TO "SALUTE" THE PRESIDENT OR OTHER HEADS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4960" y="762120"/>
            <a:ext cx="753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DELE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, THE BEST-SELLING ALBUM OF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AYS ARE THERE TO ORDER 4 DISTINCT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700280" y="762120"/>
            <a:ext cx="574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I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RS OF CHROMOSOMES DO HUMAN GENE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ED BALLS ARE THERE ON THE TABLE AT THE BEGINNING OF A SNOOKER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FECT NUMBER IS ONE THAT IS THE SUM OF ITS SMALLER DIVISORS (FOR EXAMPLE, 6=1+2+3).  WHAT IS THE NEXT PERFEC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UNS ARE USED TO "SALUTE" THE PRESIDENT OR OTHER HEADS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CTORS IS A DART BOARD DIVID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71440" y="762120"/>
            <a:ext cx="6801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NEW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724040" y="762120"/>
            <a:ext cx="569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UNAR MONTH IS APPROXIMATELY HOW MANY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DELE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, THE BEST-SELLING ALBUM OF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00080" y="762120"/>
            <a:ext cx="714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AYS ARE THERE TO ORDER 4 DISTINCT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81120" y="762120"/>
            <a:ext cx="598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I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RS OF CHROMOSOMES DO HUMAN GENES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42840" y="761760"/>
            <a:ext cx="725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ED BALLS ARE THERE ON THE TABLE AT THE BEGINNING OF A SNOOKER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FECT NUMBER IS ONE THAT IS THE SUM OF ITS SMALLER DIVISORS (FOR EXAMPLE, 6=1+2+3).  WHAT IS THE NEXT PERFEC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CTORS IS A DART BOARD DIVIDED I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6:02Z</dcterms:modified>
  <cp:revision>371</cp:revision>
  <dc:subject/>
  <dc:title>Slide 1</dc:title>
</cp:coreProperties>
</file>