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2687-80B7-4F14-9E4E-AEAEDBE50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9CDC-088A-4A0A-9F49-304FE923B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31A3-4011-43E4-AF44-D6A7E7E1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57B6-DFD3-4D32-8707-5D3C7021F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D356-900D-4D4F-8B95-340197B96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389-CB3E-4E8B-9082-E19D8E32C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7753-92A3-4412-BAC9-41917744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CF63-71B5-4316-B46C-87597B17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F45-A66D-495F-976B-358873136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6CC0-CD49-4374-9D3D-605919C3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4D46-87EE-4D51-B007-E8F402D4B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0C62-9B54-4A2A-B6C5-3E7136AC5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0256-34AD-4898-A701-3C7C397B8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5CA1-4E6B-4152-B901-C7DEB3042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D2F4-89CB-4A4D-8BD2-D634AEA6D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6579-1598-4033-8CDE-0B613A7A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0B25-E009-457E-8268-C7042952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B906-858F-4F88-AB8D-4390ECC1E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D8EF-D369-4A6F-B02F-AFF87338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057F-97EE-45B7-B9FD-DFE016F1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9DE2-DBE1-4F1B-BED1-22CC67927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3188-8897-4CE1-A692-62A82939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25A9-69E0-4080-8349-0DBD668D4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38320" y="761760"/>
            <a:ext cx="686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IN THE NEW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614600" y="762120"/>
            <a:ext cx="59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UNAR MONTH IS APPROXIMATELY HOW MANY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UNS ARE USED TO "SALUTE" THE PRESIDENT OR OTHER HEADS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4960" y="762120"/>
            <a:ext cx="753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ADELE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UDIO ALBUM, THE BEST-SELLING ALBUM OF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AYS ARE THERE TO ORDER 4 DISTINCT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700280" y="762120"/>
            <a:ext cx="574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I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RS OF CHROMOSOMES DO HUMAN GENE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LORED BALLS ARE THERE ON THE TABLE AT THE BEGINNING OF A SNOOKER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FECT NUMBER IS ONE THAT IS THE SUM OF ITS SMALLER DIVISORS (FOR EXAMPLE, 6=1+2+3).  WHAT IS THE NEXT PERFECT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UNS ARE USED TO "SALUTE" THE PRESIDENT OR OTHER HEADS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CTORS IS A DART BOARD DIVID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71440" y="762120"/>
            <a:ext cx="6801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IN THE NEW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724040" y="762120"/>
            <a:ext cx="569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UNAR MONTH IS APPROXIMATELY HOW MANY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ADELE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UDIO ALBUM, THE BEST-SELLING ALBUM OF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00080" y="762120"/>
            <a:ext cx="714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AYS ARE THERE TO ORDER 4 DISTINCT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81120" y="762120"/>
            <a:ext cx="5981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I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RS OF CHROMOSOMES DO HUMAN GENES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42840" y="761760"/>
            <a:ext cx="725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LORED BALLS ARE THERE ON THE TABLE AT THE BEGINNING OF A SNOOKER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FECT NUMBER IS ONE THAT IS THE SUM OF ITS SMALLER DIVISORS (FOR EXAMPLE, 6=1+2+3).  WHAT IS THE NEXT PERFECT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CTORS IS A DART BOARD DIVIDED I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6:02Z</dcterms:modified>
  <cp:revision>371</cp:revision>
  <dc:subject/>
  <dc:title>Slide 1</dc:title>
</cp:coreProperties>
</file>