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ED38-6238-4318-BC04-A2441593C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CC2F-4BC9-4407-8716-FFA0A956D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4F74-27B5-4998-A3FE-84A52B0D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7DDE-1054-4066-9BA3-39067735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2290-45A8-41D0-AC1E-CDA83AE07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7ABA-3CF1-49EC-A15A-7A5AF5BE3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13F2-5D7A-4D7A-8CB6-5291229FD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3AA-16BD-4FDB-92B1-9D16E727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DF24-92C4-4D45-9E7A-BC5FB9730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D292-7EBD-4A16-AA2D-72FFAAEDD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C6F8-5861-46DB-9AC8-5EF61870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CFAE-DD42-4FE2-B409-749039475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C538-77F3-4D88-80C7-8E39CFAE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1FC7-51B8-4A22-BAE5-8E80453D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E191-771C-4B4A-8488-7EE30B80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AC79-6EED-4FAB-B8D9-E9FAE067B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01F6-698F-40C4-9415-7F6EA83F4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8B2D-AE54-49D7-A31F-58CE2E799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1BFF-11EA-475D-B5E1-28E935D1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724A1-1346-4179-9915-4B3646CBD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CC59-C666-43F8-A625-11503647B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0F84-5834-43A6-8C1B-535F8C49C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5D07-553D-496C-A852-B4D9FA1D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38320" y="761760"/>
            <a:ext cx="686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6212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UNS ARE USED TO "SALUTE" THE PRESIDENT OR OTHER HEADS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IN THE NEW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UNAR MONTH IS APPROXIMATELY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ADELE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UDIO ALBUM, THE BEST-SELLING ALBUM OF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00080" y="762120"/>
            <a:ext cx="714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AYS ARE THERE TO ORDER 4 DISTINCT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I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RS OF CHROMOSOMES DO HUMAN GENES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LORED BALLS ARE THERE ON THE TABLE AT THE BEGINNING OF A SNOOKER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FECT NUMBER IS ONE THAT IS THE SUM OF ITS SMALLER DIVISORS (FOR EXAMPLE, 6=1+2+3).  WHAT IS THE NEXT PERFEC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CTORS IS A DART BOARD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02Z</dcterms:modified>
  <cp:revision>371</cp:revision>
  <dc:subject/>
  <dc:title>Slide 1</dc:title>
</cp:coreProperties>
</file>