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B149-FA4F-4967-B6EE-8753AD356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8933-513C-4037-9FE7-5D1592FC6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2180-697F-4C90-BCC2-29C3F071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CEF2-B98A-4E35-8923-1D7C38DD3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3AC1-01BF-48D0-A6CC-788B05005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3BB7-CA33-430F-B7F1-E7C955E5A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1F22-24AA-4728-85BA-792511FC0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4A80-C8EC-4FC4-BF53-4D83C824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A0E0-5505-4C33-8B0F-7B967BFBE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7619-AD6E-44A7-A6F5-7A5F05832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D566-07BD-4B6A-8080-56FE289F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DDA0-EDFA-481C-8D7C-70F6A4006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E7C2-CEA6-447D-BF26-D3CB72C3E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9FDC-E493-4D91-9E94-E6DCA4500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694C-3A4B-4A78-AB6A-7D2479A1F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DA41-16E4-4F43-BAB4-88C4181D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6C90-00ED-4312-A7D9-6437A52D6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3533-02F4-4486-AFED-881888BF2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9051-CAF4-4172-B617-52D1FEA6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9F9E-CDBD-4D8C-A3C2-7B36447B8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B84-65BE-4843-B5E4-B08CF3B4E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6F16-D771-45A4-9483-4CC3B8DD8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C38E-0BA6-4DB9-AE1F-467FC8498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AND MACY'S HERALD SQUARE ARE LOCATED ON WHAT MAJOR STREET IN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614600" y="762120"/>
            <a:ext cx="59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JOR LEAGUE BASEBALL TEAM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9160" y="762120"/>
            <a:ext cx="710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S START IN THE INDIANAPOLIS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4960" y="762120"/>
            <a:ext cx="753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TO BE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57160" y="74448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ETH DO MOST 10-YEAR-OLD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20640" y="762120"/>
            <a:ext cx="7900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EOPLE ARE ASKED   TO THINK OF A RANDOM NUMBER BETWEEN 1 AND 50, WHAT NUMBER IS CHOSEN MORE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LOTS ARE THERE ON AN AMERICAN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VORS       OF ICE CREAM DOES BASKIN-ROBBINS O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FECT SCORE ON EACH SUBJECT TEST OF THE 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S START IN THE INDIANAPOLIS 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THERE IN THE OLD TEST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71600" y="723960"/>
            <a:ext cx="82008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AND MACY'S HERALD SQUARE ARE LOCATED ON WHAT MAJOR STREET IN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724040" y="762120"/>
            <a:ext cx="569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JOR LEAGUE BASEBALL TEAM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TO BE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5400" y="7621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ETH DO MOST 10-YEAR-OLDS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EOPLE ARE ASKED   TO THINK OF A RANDOM NUMBER BETWEEN 1 AND 50, WHAT NUMBER IS CHOSEN MORE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LOTS ARE THERE ON AN AMERICAN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VORS       OF ICE CREAM DOES BASKIN-ROBBINS O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FECT SCORE ON EACH SUBJECT TEST OF THE A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14520" y="761760"/>
            <a:ext cx="611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OKS ARE THERE IN THE OLD TEST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6:28Z</dcterms:modified>
  <cp:revision>374</cp:revision>
  <dc:subject/>
  <dc:title>Slide 1</dc:title>
</cp:coreProperties>
</file>