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1BF5-F8F7-4146-B6FA-779C0ABC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490-EE20-4AD7-8722-5B15AA61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EAF4-A4EC-49BC-8769-37B3E9917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BEC1-7970-412C-8990-1C4A2E13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11A-73EC-4ADD-B85A-591F9C65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F6C7-FCC3-4A5B-87F2-3A8A62E6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C82F-A283-4530-8B70-68486F4C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2398-4ED8-4951-8BCA-C18B35B5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312-2478-4F88-9E41-30AF9F27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8D6-E7F4-47A6-89E2-86A2BB23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37D-6879-413B-9EEE-4BD072F7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18F-721A-4157-80EA-063152FB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E66-066B-4BC5-A7AB-7782A01B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566-8B5F-442E-8DE6-EDF898ED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6CA-925E-4D45-AF73-C5D66947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D77-F42F-4018-9B42-5829A873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E6B-4CB6-48D0-A8ED-5FB22DC5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E551-4A5F-440D-81E1-EA2FAFA9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9FF-3208-40E5-9468-B117B219C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933-B36B-4FE6-B10E-8332777D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1CF-6D8B-4906-AD03-A801FEA7A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545-5D81-449F-AC01-2DD5F6AB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8896-1E0E-4EF7-A92C-B82AD236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0640" y="762120"/>
            <a:ext cx="790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2396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4520" y="761760"/>
            <a:ext cx="611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28Z</dcterms:modified>
  <cp:revision>374</cp:revision>
  <dc:subject/>
  <dc:title>Slide 1</dc:title>
</cp:coreProperties>
</file>