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D0DE-5ABB-4698-8448-78ED53424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58B7-A544-4AD4-8364-E6C8A3EC9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F9E5-A9DF-464C-A538-1053F50D0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69AA-2138-4C4C-A5CB-BAEC10D5E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2D8F-ABDF-43C8-A82F-4E62C50E0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8AF7-72A0-48A7-A63F-6A5544AA7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1FFF-D9DD-4E94-90BE-1396ECD6B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BDB2-C8A0-47CA-B79D-D27785AA9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135E-7D99-4620-831F-964A6E776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0B26-56D5-40EC-AC54-DBC6B1EBA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19F1-DD5D-4E72-AC79-2097F8E29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A996-C956-4BEE-85B5-2FC07C1FD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83C7-F866-4BF7-8831-C25A16E13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A721-0980-466C-A3B0-5EBCA3B0C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2C76-C0FE-46EA-9005-E44C2F6DE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0FF4-17FE-4B43-9010-CEE36E1D9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C805-1F76-4758-916D-A12E54934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C65C-DD81-43C7-84E5-2C76E6955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9A97-F964-408C-8033-1FD1A570E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71A8-B75D-4FDF-85E9-43D351F47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AFB4-442A-4F1A-A9AD-057281A97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B151-EB7A-4243-A3C1-2615AE289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1213-E694-4C9C-970F-4692FCA23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05120" y="838080"/>
            <a:ext cx="5333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-SOMETHING (EACH ANSWER IS DIFFERE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3560" y="761760"/>
            <a:ext cx="815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MPIRE STATE BUILDING AND MACY'S HERALD SQUARE ARE LOCATED ON WHAT MAJOR STREET IN NY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614600" y="762120"/>
            <a:ext cx="5914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AJOR LEAGUE BASEBALL TEAM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19160" y="762120"/>
            <a:ext cx="7105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RS START IN THE INDIANAPOLIS 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4960" y="762120"/>
            <a:ext cx="7534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AGE TO BE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57160" y="74448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EETH DO MOST 10-YEAR-OLDS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12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20640" y="762120"/>
            <a:ext cx="7900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PEOPLE ARE ASKED   TO THINK OF A RANDOM NUMBER BETWEEN 1 AND 50, WHAT NUMBER IS CHOSEN MORE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LOTS ARE THERE ON AN AMERICAN ROULETTE WHE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47600" y="762120"/>
            <a:ext cx="7048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FLAVORS       OF ICE CREAM DOES BASKIN-ROBBINS O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90560" y="762120"/>
            <a:ext cx="7562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ERFECT SCORE ON EACH SUBJECT TEST OF THE 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RS START IN THE INDIANAPOLIS 5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62040" y="762120"/>
            <a:ext cx="601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ARE THERE IN THE OLD TEST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71600" y="723960"/>
            <a:ext cx="82008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MPIRE STATE BUILDING AND MACY'S HERALD SQUARE ARE LOCATED ON WHAT MAJOR STREET IN NY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724040" y="762120"/>
            <a:ext cx="569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AJOR LEAGUE BASEBALL TEAM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3400" y="761760"/>
            <a:ext cx="747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AGE TO BE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5400" y="7621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EETH DO MOST 10-YEAR-OLDS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PEOPLE ARE ASKED   TO THINK OF A RANDOM NUMBER BETWEEN 1 AND 50, WHAT NUMBER IS CHOSEN MORE THAN ANY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LOTS ARE THERE ON AN AMERICAN ROULETTE WHE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FLAVORS       OF ICE CREAM DOES BASKIN-ROBBINS OFF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ERFECT SCORE ON EACH SUBJECT TEST OF THE A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14520" y="761760"/>
            <a:ext cx="6114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ARE THERE IN THE OLD TEST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22:36:28Z</dcterms:modified>
  <cp:revision>374</cp:revision>
  <dc:subject/>
  <dc:title>Slide 1</dc:title>
</cp:coreProperties>
</file>