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2DE5F-0036-4949-B5FB-A46C4C610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B5854-2705-4F94-AAE1-FF200FD2D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9410B-0AB3-4C38-A41F-C60E54627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90E48-8D94-4962-B160-F90DF1D28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E0232-3FB2-4C97-B265-ACEE162C4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B3837-E79F-426E-803B-F75DB2D93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7093C-FEB3-4B2B-ABAA-97141C38C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5DA17-D4EB-45D6-A9FE-508203B31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CF0F6-080E-4B17-9B3E-EE1820855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F7B41-7DDF-4F40-A327-40669AB86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C1325-CEB5-4F65-A0D8-D24ACD1E1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86177-796E-4078-9E3E-8F96CA168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1B68B-6847-498D-A075-CCC984740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F6E26-52A1-4764-AEDF-9BA77AA5F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C72F5-D2FC-41B4-A47D-93FD9DC9A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8F998-F197-4989-8034-FB2A0AB07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86FF0-4B12-449D-B518-B34336879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AA595-6892-4B8C-A0F8-9B1B97BB0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83BEE-2444-4CA4-83DC-2DDAF3C55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1454B-F266-4669-A128-784A43FED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9633E-A3D4-4AC1-99C6-D175F5106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61F4C-47D1-4F0A-819A-DD3BB5D7E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920A6-4C77-40CF-9B69-600F3BF2B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905120" y="838080"/>
            <a:ext cx="53337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0-SOMETHING (EACH ANSWER IS DIFFERENT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93560" y="761760"/>
            <a:ext cx="8156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HUMAN CHROMOSOMES ARE THE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922320" y="762120"/>
            <a:ext cx="72993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TOMIC NUMBER OF TECHNETIUM, THE FIRST ELEMENT IN THE PERIODIC TABLE WITH NO STABLE ISOTOP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33440" y="762120"/>
            <a:ext cx="82771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THE HITCHHIKER'S GUIDE TO THE GALAXY", WHAT IS THE ANSWER TO "THE ULTIMATE QUESTION OF LIFE, THE UNIVERSE AND EVERYTH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9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96760" y="762120"/>
            <a:ext cx="73486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RCLE OF LATITUDE SERVES AS THE BORDER BETWEEN THE U.S. AND CANADA FOR OVER 2000 MI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152360" y="757080"/>
            <a:ext cx="6839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CANDLES COME IN A BOX OF HANUKKAH CAND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23720" y="762120"/>
            <a:ext cx="8294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YEARS DO YOU HAVE TO BE MARRIED TO HAVE SAPPHIRE AS YOUR TRADITIONAL WEDDING GIF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66640" y="762120"/>
            <a:ext cx="8010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NUMBER IN ENGLISH THAT HAS LETTERS IN ALPHABETICAL ORDER WHEN SPELLED OU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71520" y="762120"/>
            <a:ext cx="840096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KALASHNIKOV RIFLE IS OFTEN KNOWN AS "AK" FOLLOWED BY WHAT NUMB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23880" y="762120"/>
            <a:ext cx="7896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ORGE H. W. BUSH IS OFTEN REFERRED TO BY "BUSH" FOLLOWED BY WHAT NUMBER, TO DIFFERENTIATE HIM FROM HIS 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28680" y="762120"/>
            <a:ext cx="8486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THE HITCHHIKER'S GUIDE   TO THE GALAXY", WHAT IS THE ANSWER TO "THE ULTIMATE QUESTION OF LIFE, THE UNIVERSE AND EVERYTH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238400" y="762120"/>
            <a:ext cx="6667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LONG ARE NBA GAMES, IN MINU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71600" y="762120"/>
            <a:ext cx="8200800" cy="30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HUMAN CHROMOSOMES ARE T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849240" y="762120"/>
            <a:ext cx="74455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TOMIC NUMBER OF TECHNETIUM, THE FIRST ELEMENT IN THE PERIODIC TABLE WITH NO STABLE ISOTOP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3400" y="761760"/>
            <a:ext cx="7477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RCLE OF LATITUDE SERVES AS THE BORDER BETWEEN THE U.S. AND CANADA FOR OVER 2000 MI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49400" y="762120"/>
            <a:ext cx="704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CANDLES COME IN A BOX OF HANUKKAH CAND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YEARS DO YOU HAVE TO BE MARRIED TO HAVE SAPPHIRE AS YOUR TRADITIONAL WEDDING GIF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38200" y="762120"/>
            <a:ext cx="8067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NUMBER IN ENGLISH THAT HAS LETTERS IN ALPHABETICAL ORDER WHEN SPELLED OU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293760" y="761760"/>
            <a:ext cx="8556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KALASHNIKOV RIFLE IS OFTEN KNOWN AS "AK" FOLLOWED BY WHAT NUMB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28560" y="761760"/>
            <a:ext cx="7886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ORGE H. W. BUSH IS OFTEN REFERRED TO BY "BUSH" FOLLOWED BY WHAT NUMBER, TO DIFFERENTIATE HIM FROM HIS 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214280" y="761760"/>
            <a:ext cx="6715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LONG ARE NBA GAMES, IN MINUT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6T01:21:25Z</dcterms:created>
  <dc:creator>Jennifer Budzinski</dc:creator>
  <dc:description/>
  <dc:language>en-US</dc:language>
  <cp:lastModifiedBy>Erich Friedman</cp:lastModifiedBy>
  <dcterms:modified xsi:type="dcterms:W3CDTF">2020-08-28T22:37:02Z</dcterms:modified>
  <cp:revision>379</cp:revision>
  <dc:subject/>
  <dc:title>Slide 1</dc:title>
</cp:coreProperties>
</file>