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D369-258D-456B-88F6-01436BE61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7411-55F3-4AF1-A1A9-DF706E509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2237-2159-43D8-BD41-C30F94495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F9A9-9489-4199-960A-A4708A4E9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4BBB-D2DF-4E80-A912-D35DEA25C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072A-506D-455B-A172-21CFC5635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5E58-8E69-476E-9611-999986C1C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BA5B-ED56-44DD-9E9C-85A659A8C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E046-95B2-46BD-8858-C0573EC28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5B5B-816F-4B13-9061-1DAA2EA5B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26EC-2261-4173-B4BC-32F4D850D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4B2E-4BB4-44B7-A7C2-C5856D3C5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2C51-F455-46F1-83FD-3DB9C097C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FFB2-9CEF-44B6-98E4-49E88B430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C1A8-45FC-4D4D-8A36-705A35BF0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D4ED-7C83-4B4B-A2C8-B114B3FDE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6DB0-7727-410C-B407-54B4FB832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9A76-1AD8-40DC-8211-542AE1A2C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BD08-216F-415F-8647-457044C3F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3225-673A-4BC9-B2E5-B3F27DEC1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A784-DEC5-4D19-AC60-00D0C2E6D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49D1B-7257-4325-86A3-D9B28EA67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F6E2-7906-4AD7-A967-241D4FFC6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905120" y="838080"/>
            <a:ext cx="53337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0-SOMETHING (EACH ANSWER IS DIFFERENT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93560" y="761760"/>
            <a:ext cx="8156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HUMAN CHROMOSOMES ARE T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22320" y="762120"/>
            <a:ext cx="7299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TOMIC NUMBER OF TECHNETIUM, THE FIRST ELEMENT IN THE PERIODIC TABLE WITH NO STABLE ISOTOP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33440" y="762120"/>
            <a:ext cx="82771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HE HITCHHIKER'S GUIDE TO THE GALAXY", WHAT IS THE ANSWER TO "THE ULTIMATE QUESTION OF LIFE, THE UNIVERSE AND EVERYTH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9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96760" y="762120"/>
            <a:ext cx="7348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RCLE OF LATITUDE SERVES AS THE BORDER BETWEEN THE U.S. AND CANADA FOR OVER 2000 MI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52360" y="757080"/>
            <a:ext cx="6839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ANDLES COME IN A BOX OF HANUKKAH CAND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23720" y="762120"/>
            <a:ext cx="8294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YEARS DO YOU HAVE TO BE MARRIED TO HAVE SAPPHIRE AS YOUR TRADITIONAL WEDDING GIF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66640" y="762120"/>
            <a:ext cx="8010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NUMBER IN ENGLISH THAT HAS LETTERS IN ALPHABETICAL ORDER WHEN SPELLED O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71520" y="762120"/>
            <a:ext cx="84009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KALASHNIKOV RIFLE IS OFTEN KNOWN AS "AK" FOLLOWED BY WHAT NUMB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23880" y="762120"/>
            <a:ext cx="7896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ORGE H. W. BUSH IS OFTEN REFERRED TO BY "BUSH" FOLLOWED BY WHAT NUMBER, TO DIFFERENTIATE HIM FROM HIS 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28680" y="762120"/>
            <a:ext cx="8486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THE HITCHHIKER'S GUIDE   TO THE GALAXY", WHAT IS THE ANSWER TO "THE ULTIMATE QUESTION OF LIFE, THE UNIVERSE AND EVERYTH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38400" y="762120"/>
            <a:ext cx="6667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LONG ARE NBA GAMES, IN MINU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71600" y="762120"/>
            <a:ext cx="820080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HUMAN CHROMOSOMES ARE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49240" y="762120"/>
            <a:ext cx="74455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TOMIC NUMBER OF TECHNETIUM, THE FIRST ELEMENT IN THE PERIODIC TABLE WITH NO STABLE ISOTOP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3400" y="761760"/>
            <a:ext cx="7477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RCLE OF LATITUDE SERVES AS THE BORDER BETWEEN THE U.S. AND CANADA FOR OVER 2000 MI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49400" y="762120"/>
            <a:ext cx="704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ANDLES COME IN A BOX OF HANUKKAH CAND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YEARS DO YOU HAVE TO BE MARRIED TO HAVE SAPPHIRE AS YOUR TRADITIONAL WEDDING GIF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8200" y="762120"/>
            <a:ext cx="8067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NUMBER IN ENGLISH THAT HAS LETTERS IN ALPHABETICAL ORDER WHEN SPELLED OU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293760" y="761760"/>
            <a:ext cx="8556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KALASHNIKOV RIFLE IS OFTEN KNOWN AS "AK" FOLLOWED BY WHAT NUMB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ORGE H. W. BUSH IS OFTEN REFERRED TO BY "BUSH" FOLLOWED BY WHAT NUMBER, TO DIFFERENTIATE HIM FROM HIS 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214280" y="761760"/>
            <a:ext cx="6715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LONG ARE NBA GAMES, IN MINU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8-28T22:37:02Z</dcterms:modified>
  <cp:revision>379</cp:revision>
  <dc:subject/>
  <dc:title>Slide 1</dc:title>
</cp:coreProperties>
</file>