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61ED-C6F2-4468-8028-EE61942D4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A66F-A34C-451C-8058-56AB24B7E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2456-0CD0-4CB3-8858-E0E6E3815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F60D-5FD7-4C0A-A844-D4215464C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2532-DA0F-4511-8B12-C59F7F742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80B5-3AB2-4985-9F6B-6060DDFA9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8CE0-79E4-4C06-AF04-5A3F7E5C0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E021-E911-49CC-BDEF-85732D8C8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1963-B894-4BE0-B70E-F315B9E7F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348D-3D73-40A2-BB85-547A521BD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08BE-FBCD-4A8B-AFDF-EDC3CE2D9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F113-231C-47CF-9164-DF9A12608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758C3-904F-48DB-B2C6-33CE105C9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8E04-3372-4302-A0E1-ABBECC646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E8EF-C11F-4ED7-8811-3928DC608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E8C3-BF5D-4859-8F43-6689144E3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0B46-3B9B-400A-994D-D03743631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642F-4555-429A-8B94-B8A2E1B53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5D34-91A3-4125-AF8A-3C24B1839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2BCB-F531-4FB6-8546-B0092B9B3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0617-BE03-4B89-A314-89306AA44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8660-DD2E-44B6-9A48-3BEBE3213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5149-C062-44FA-8084-8F0049313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NAMES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REBEL WITHOUT A CAUSE" ACTOR OVERLAPS WITH A MEMBER OF "THE RAT P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AD SINGER OF THE SUPREMES OVERLAPS WITH A 1992 PRESIDENTIAL CANDI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34196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EDICT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RNOL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CHWARZENE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OLUTIONARY WAR TRAITOR OVERLAPS WITH THE ACTOR WHO PLAYED THE TERMIN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K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E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AJ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FILM DIRECTOR OVERLAPS WITH THE ACTOR WHO PLAYED THE SIX MILLION DOLLAR 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K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AR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ME RUN HITTER IN BASEBALL OVERLAPS WITH THE QUARTERBACK OF THE GREEN BAY PACK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AYN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NICKNAMED "DUKE" OVERLAPS WITH A LAS VEGAS SI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NCER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RAC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HO WON BEST ACTOR IN 1937 AND 1938 OVERLAPS WITH A COMIC ON "SNL" AND "30 R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HARLE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DA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IND SOUL MUSICIAN OVERLAPS WITH THE AUTHOR OF "ON THE ORIGIN OF SPEC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LAR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G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ST OF "AMERICAN BANDSTAND" OVERLAPS WITH THE ACTOR WHO PLAYED RHETT BUT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OLUTIONARY WAR TRAITOR OVERLAPS WITH THE ACTOR WHO PLAYED THE TERMIN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9276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C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KELL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LAR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AND PRINCESS OF MONACO OVERLAPS WITH THE WINNER OF THE FIRST SEASON OF "AMERICAN ID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EA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ARTI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28600" y="7621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REBEL WITHOUT A CAUSE" ACTOR OVERLAPS WITH A MEMBER OF "THE RAT P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NA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OS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PE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AD SINGER OF THE SUPREMES OVERLAPS WITH A 1992 PRESIDENTIAL CANDI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FILM DIRECTOR OVERLAPS WITH THE ACTOR WHO PLAYED THE SIX MILLION DOLLAR 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ME RUN HITTER IN BASEBALL OVERLAPS WITH THE QUARTERBACK OF THE GREEN BAY PACK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NICKNAMED "DUKE" OVERLAPS WITH A LAS VEGAS SIN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HO WON BEST ACTOR IN 1937 AND 1938 OVERLAPS WITH A COMIC ON "SNL" AND "30 R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IND SOUL MUSICIAN OVERLAPS WITH THE AUTHOR OF "ON THE ORIGIN OF SPEC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ST OF "AMERICAN BANDSTAND" OVERLAPS WITH THE ACTOR WHO PLAYED RHETT BUTL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AND PRINCESS OF MONACO OVERLAPS WITH THE WINNER OF THE FIRST SEASON OF "AMERICAN ID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6:38:43Z</dcterms:created>
  <dc:creator>Jennifer Budzinski</dc:creator>
  <dc:description/>
  <dc:language>en-US</dc:language>
  <cp:lastModifiedBy>Erich Friedman</cp:lastModifiedBy>
  <dcterms:modified xsi:type="dcterms:W3CDTF">2020-08-24T13:55:44Z</dcterms:modified>
  <cp:revision>335</cp:revision>
  <dc:subject/>
  <dc:title>Slide 1</dc:title>
</cp:coreProperties>
</file>