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1B00-62F1-4045-BE34-25451637B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6A5D-DC75-4D21-9450-9004654BF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406C-1ED4-4AD6-AE44-088CE737A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55C8-AAA3-4F39-BACC-4334CDB1A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74CE-2985-48C7-89A8-ADF1347BB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B606-13C7-48A3-BA3B-9861E478D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20C4-66A7-453D-8889-9B234DE21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08A5-D2DF-41B7-855E-42F37916F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0533-6AAA-4DC0-B4F4-FCC5F9BB9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8D0E-6210-438C-A7D3-152730EA8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A87E-D745-4956-89BB-2B51AB9C5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F501-49C0-46CC-A228-E8236A6A0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8F21-874C-49AF-885C-02F861C6C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90CB-C56B-41A8-9070-0C9C7C59D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3097-7D66-47FF-97B8-DEDA3FD7B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0BFD-0502-4E8B-8488-4D2224A43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4427-D5D9-422D-8966-755A878CC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AD6E-686E-449A-A8BB-285EA9B33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8880-6136-48F0-919D-0DA6B41FC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BE21-8C19-4369-8438-7DC730B0F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AB87-E2D5-4858-84F4-DBD03AE68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729A-8768-45E0-BD4B-FA3463161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8D15-6748-43A9-9EBD-631DBDAF1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LAPPING NAMES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REBEL WITHOUT A CAUSE" ACTOR OVERLAPS WITH A MEMBER OF "THE RAT P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AD SINGER OF THE SUPREMES OVERLAPS WITH A 1992 PRESIDENTIAL CANDI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34196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EDICT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RNOL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CHWARZENE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VOLUTIONARY WAR TRAITOR OVERLAPS WITH THE ACTOR WHO PLAYED THE TERMIN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K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E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AJ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ACK FILM DIRECTOR OVERLAPS WITH THE ACTOR WHO PLAYED THE SIX MILLION DOLLAR 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K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AR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ME RUN HITTER IN BASEBALL OVERLAPS WITH THE QUARTERBACK OF THE GREEN BAY PACK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WAYN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NICKNAMED "DUKE" OVERLAPS WITH A LAS VEGAS SI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NCER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RAC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OR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HO WON BEST ACTOR IN 1937 AND 1938 OVERLAPS WITH A COMIC ON "SNL" AND "30 R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CHARLE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DA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IND SOUL MUSICIAN OVERLAPS WITH THE AUTHOR OF "ON THE ORIGIN OF SPEC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CLAR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G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ST OF "AMERICAN BANDSTAND" OVERLAPS WITH THE ACTOR WHO PLAYED RHETT BUT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VOLUTIONARY WAR TRAITOR OVERLAPS WITH THE ACTOR WHO PLAYED THE TERMIN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9276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C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KELL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LAR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AND PRINCESS OF MONACO OVERLAPS WITH THE WINNER OF THE FIRST SEASON OF "AMERICAN ID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EA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ARTI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28600" y="76212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REBEL WITHOUT A CAUSE" ACTOR OVERLAPS WITH A MEMBER OF "THE RAT P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NA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OS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PE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AD SINGER OF THE SUPREMES OVERLAPS WITH A 1992 PRESIDENTIAL CANDI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ACK FILM DIRECTOR OVERLAPS WITH THE ACTOR WHO PLAYED THE SIX MILLION DOLLAR 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ME RUN HITTER IN BASEBALL OVERLAPS WITH THE QUARTERBACK OF THE GREEN BAY PACK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NICKNAMED "DUKE" OVERLAPS WITH A LAS VEGAS SIN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HO WON BEST ACTOR IN 1937 AND 1938 OVERLAPS WITH A COMIC ON "SNL" AND "30 RO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IND SOUL MUSICIAN OVERLAPS WITH THE AUTHOR OF "ON THE ORIGIN OF SPEC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ST OF "AMERICAN BANDSTAND" OVERLAPS WITH THE ACTOR WHO PLAYED RHETT BUTL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AND PRINCESS OF MONACO OVERLAPS WITH THE WINNER OF THE FIRST SEASON OF "AMERICAN IDO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6:38:43Z</dcterms:created>
  <dc:creator>Jennifer Budzinski</dc:creator>
  <dc:description/>
  <dc:language>en-US</dc:language>
  <cp:lastModifiedBy>Erich Friedman</cp:lastModifiedBy>
  <dcterms:modified xsi:type="dcterms:W3CDTF">2020-08-24T13:55:44Z</dcterms:modified>
  <cp:revision>335</cp:revision>
  <dc:subject/>
  <dc:title>Slide 1</dc:title>
</cp:coreProperties>
</file>