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7723-58E8-48C8-9BF5-57886A5E2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9791-C9D9-4F4C-9472-4811D234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494A-994D-4B3A-B4C4-438254ED8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8DDD-8331-4366-967E-0E59E9D9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F01F-0488-4919-A860-885B9F2DB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72BA-7F28-4D39-8DFA-C13560C1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92C6-B892-49FA-82F3-E9600989E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C254-7399-4C98-AF89-3EF4BB52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B40A-B870-4DF3-86F4-438CB82D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23C5-C126-4911-948B-8562AD1C7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49D5-A169-418D-AFD5-846DA7C3F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75EA-B0BB-4E68-A89D-E226D686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8C6A-E171-4B12-B3F9-03150EAF1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2421-2C6F-4728-A996-848B91B0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74D8-0900-4102-92CB-A142F781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223D-24C9-4ECE-97A4-454C989B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571F-BD5F-4C70-946C-08B4737D3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6DF-EB0F-444C-AF53-C35C7A3CE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001B-7635-495A-B8D5-D1A1D0B48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20AD-491E-4135-A74D-0232CED3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0B9-D6E9-4016-9223-F13AC34F1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F84C-9CC8-4E83-BB3D-272A39DA1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99D-3C35-4590-ADE4-B3E16D94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BEL WITHOUT A CAUSE" ACTOR OVERLAPS WITH A MEMBER OF "THE RAT P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SINGER OF THE SUPREMES OVERLAPS WITH A 1992 PRESIDENTIAL CANDI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34196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RNOL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 WAR TRAITOR OVERLAPS WITH THE ACTOR WHO PLAYED THE TERMIN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K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E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J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ILM DIRECTOR OVERLAPS WITH THE ACTOR WHO PLAYED THE SIX MILLION DOLLAR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AR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ME RUN HITTER IN BASEBALL OVERLAPS WITH THE QUARTERBACK OF THE GREEN BAY PA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AY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ICKNAMED "DUKE" OVERLAPS WITH A LAS VEGAS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RAC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WON BEST ACTOR IN 1937 AND 1938 OVERLAPS WITH A COMIC ON "SNL" AND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HARLE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SOUL MUSICIAN OVERLAPS WITH THE AUTHOR OF "ON THE ORIGIN OF SPEC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LAR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AMERICAN BANDSTAND" OVERLAPS WITH THE ACTOR WHO PLAYED RHETT BU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 WAR TRAITOR OVERLAPS WITH THE ACTOR WHO PLAYED THE TERMIN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KEL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RINCESS OF MONACO OVERLAPS WITH THE WINNER OF THE FIRST SEASON OF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RTI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BEL WITHOUT A CAUSE" ACTOR OVERLAPS WITH A MEMBER OF "THE RAT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S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E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SINGER OF THE SUPREMES OVERLAPS WITH A 1992 PRESIDENTIAL CANDI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ILM DIRECTOR OVERLAPS WITH THE ACTOR WHO PLAYED THE SIX MILLION DOLLAR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ME RUN HITTER IN BASEBALL OVERLAPS WITH THE QUARTERBACK OF THE GREEN BAY PA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ICKNAMED "DUKE" OVERLAPS WITH A LAS VEGAS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WON BEST ACTOR IN 1937 AND 1938 OVERLAPS WITH A COMIC ON "SNL" AND "30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SOUL MUSICIAN OVERLAPS WITH THE AUTHOR OF "ON THE ORIGIN OF SPEC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AMERICAN BANDSTAND" OVERLAPS WITH THE ACTOR WHO PLAYED RHETT BUT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RINCESS OF MONACO OVERLAPS WITH THE WINNER OF THE FIRST SEASON OF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6:38:43Z</dcterms:created>
  <dc:creator>Jennifer Budzinski</dc:creator>
  <dc:description/>
  <dc:language>en-US</dc:language>
  <cp:lastModifiedBy>Erich Friedman</cp:lastModifiedBy>
  <dcterms:modified xsi:type="dcterms:W3CDTF">2020-08-24T13:55:44Z</dcterms:modified>
  <cp:revision>335</cp:revision>
  <dc:subject/>
  <dc:title>Slide 1</dc:title>
</cp:coreProperties>
</file>