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057F-43D5-47E4-B013-1A420F9E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D932-0776-42A0-BB22-F13C29DD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8CCC-E95C-49B3-8EC6-7B3E0045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15BC-0392-43FB-AC9F-687663EF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96E2-94E3-4168-BD41-21209852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7E6E-86A8-40DA-8BD1-229390B7B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270D-11D6-4928-A1EF-6820E5F96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491E-ECB1-4F39-8930-12564275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E5A2-2F97-46D0-B5EB-F2627553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7014-93B7-449F-B22E-3D0C69B9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7445-8BD9-4272-9A8C-CC99713C2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922E-2E4D-484E-B5A4-F5368B516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6802-29B7-49CE-93CD-104F13FE1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F05E-3DF5-4569-8CCC-2334617D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A2B0-FD69-48CB-B675-089674B2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84FB-F8C8-4BCC-A9EC-774AAF50B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828F-0C72-4B89-BA56-3E73FF288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8AD8-5C11-4C8D-97C6-77025ECF7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9C82-B520-485F-8C49-21B244890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8F52-DE03-4A8F-8C27-617F1259C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61AC-549A-4350-827F-A9B0B3834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C0DD-0D73-4831-AC58-B74C1994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763C-7C9D-43CD-9F1E-BA0901B9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LYRICS (AND ARTISTS) IDENTIFY 2 OVERLAPPING SONG TIT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I AIN'T NO SENATOR'S SON" (CCR) &amp; "THEN HE'D LOOK INTO MY EYES, LORD KNOWS, TO MY SURPRISE" (DUSTY SPRINGFIELD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DDER THAN OLD KING KONG" (JIM CROCE) &amp; "HOW COME YOU TASTE SO GOOD" (THE ROLLING STON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YS  O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UMM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'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BODY ON THE ROAD, NOBODY ON THE BEACH" (DON HENLEY) &amp; "I GOT MY FIRST REAL 6-STRING, BOUGHT IT AT THE FIVE-AND-DIME" (BRYAN ADAM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E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ALIFORNI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N A DARK DESERT HIGHWAY, COOL WIND IN MY HAIR" (THE EAGLES)    &amp; "WELL, EAST COAST GIRLS ARE  HIP, I REALLY DIG THOSE STYLES THEY WEAR" (THE BEACH BOYS)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28880" y="48769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GOT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EA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24000" y="762120"/>
            <a:ext cx="8496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EE THE PEOPLE WALKING DOWN THE STREET, FALL IN LINE JUST WATCHIN' ALL THEIR FEET" (THE GO-GO'S) &amp; "NO ONE WANTS TO BE DEFEATED" (MICHAEL JACKSO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333440" y="4343400"/>
            <a:ext cx="6477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ACKS  OF  M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PEOPLE SAY I'M THE LIFE OF THE PARTY" (SMOKEY ROBINSON) &amp; "BEYOND THE DOOR THERE'S PEACE I'M SURE" (ERIC CLAPTO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52560" y="4343400"/>
            <a:ext cx="7238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OTHER  ONE  BITES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U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E YOU READY, HEY, ARE YOU READY FOR THIS?" (QUEEN)     &amp; "I CLOSE MY EYES, ONLY     FOR A MOMENT, AND THE MOMENT'S GONE" (KANSA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W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UND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 WAS 6-FOOT-4 AND FULL OF MUSCLES" (MEN AT WORK) &amp; "IT'S THE TERROR OF KNOWING WHAT THE WORLD IS ABOUT" (QUEEN &amp; DAVID BOWIE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0948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OVES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S A LITTLE TOO TALL, COULD'VE USED A FEW POUNDS" (BOB SEGER) &amp; "TAKE ME BY THE TONGUE AND I'LL KNOW YOU" (MAROON 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BODY ON THE ROAD, NOBODY ON THE BEACH" (DON HENLEY) &amp; "I GOT MY FIRST REAL 6-STRING, BOUGHT IT AT THE FIVE-AND-DIME" (BRYAN ADAM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H  YOU  WER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ER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OMES  THE  SU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19240" y="762120"/>
            <a:ext cx="8705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O, SO YOU THINK YOU CAN TELL, HEAVEN FROM HELL" (PINK FLOYD) &amp; "IT'S BEEN A LONG COLD LONELY WINTER" (THE BEATLE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828800" y="43434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AT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A  PREACHER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I AIN'T NO SENATOR'S SON" (CCR) &amp; "THEN HE'D LOOK INTO MY EYES, LORD KNOWS, TO MY SURPRISE" (DUSTY SPRINGFIEL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,  BAD  LERO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ROW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DDER THAN OLD KING KONG" (JIM CROCE) &amp; "HOW COME YOU TASTE SO GOOD" (THE ROLLING STON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N A DARK DESERT HIGHWAY, COOL WIND IN MY HAIR" (THE EAGLES)     &amp; "WELL, EAST COAST GIRLS ARE  HIP, I REALLY DIG THOSE STYLES THEY WEAR" (THE BEACH BOYS)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EE THE PEOPLE WALKING DOWN THE STREET, FALL IN LINE JUST WATCHIN' ALL THEIR FEET" (THE GO-GO'S) &amp; "NO ONE WANTS TO BE DEFEATED" (MICHAEL JACKSO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PEOPLE SAY I'M THE LIFE OF THE PARTY" (SMOKEY ROBINSON) &amp; "BEYOND THE DOOR THERE'S PEACE I'M SURE" (ERIC CLAPTON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E YOU READY, HEY, ARE YOU READY FOR THIS?" (QUEEN)     &amp; "I CLOSE MY EYES, ONLY     FOR A MOMENT, AND THE MOMENT'S GONE" (KANSA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228600" y="762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 WAS 6-FOOT-4 AND FULL OF MUSCLES" (MEN AT WORK) &amp; "IT'S THE TERROR OF KNOWING WHAT THE WORLD IS ABOUT" (QUEEN &amp; DAVID BOW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S A LITTLE TOO TALL, COULD'VE USED A FEW POUNDS" (BOB SEGER) &amp; "TAKE ME BY THE TONGUE AND I'LL KNOW YOU" (MAROON 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O, SO YOU THINK YOU CAN TELL, HEAVEN FROM HELL" (PINK FLOYD) &amp; "IT'S BEEN A LONG COLD LONELY WINTER" (THE BEATLES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12:09Z</dcterms:created>
  <dc:creator>Jennifer Budzinski</dc:creator>
  <dc:description/>
  <dc:language>en-US</dc:language>
  <cp:lastModifiedBy>Erich Friedman</cp:lastModifiedBy>
  <dcterms:modified xsi:type="dcterms:W3CDTF">2020-08-26T16:45:49Z</dcterms:modified>
  <cp:revision>361</cp:revision>
  <dc:subject/>
  <dc:title>Slide 1</dc:title>
</cp:coreProperties>
</file>