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3E8E-2E2D-4131-AF2B-D76A8B7CA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D389-ADB9-4AE3-938A-44FC00032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601A-8C4E-417F-930E-D240ECBB5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59F3-CD65-4729-AEB9-8167D4022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05A5-BB38-40EF-9D8B-112660130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A3F8-1AD6-41FE-8765-797FEA484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3ECD-9D1D-440A-87E4-5FE0606A7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4954-D93A-4CB8-9F11-3EB300985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A261-D338-488A-B6C3-DEEDA7699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2C87-D335-48F9-858A-D55CEB819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40FB-973E-4DE9-8343-1308CBB0E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E2C6-6C50-4848-BE86-A773C4771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B52F-5C49-4834-BBC6-5594848BD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5D84-0A0A-4AA6-9FAD-7EA5A7966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F0198-736F-4CC2-9A24-CBAA3B311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A529-716A-4F06-B1D2-FCF5B5928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18DC-CC04-42D2-B1A8-89706518D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C1E8-1F53-447D-BCE7-4270BEB95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246C-5C47-4833-BEFB-BED2FEECD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CE62-B767-4C22-8ABD-BD8D3D3F2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951B-EEC8-4C3E-ADA1-2218F8FE7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0033-4640-436E-A500-38EA1328B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75D64-1176-4A69-B221-19589D107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LYRICS (AND ARTISTS) IDENTIFY 2 OVERLAPPING SONG TITLE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I AIN'T NO SENATOR'S SON" (CCR) &amp; "THEN HE'D LOOK INTO MY EYES, LORD KNOWS, TO MY SURPRISE" (DUSTY SPRINGFIELD)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DDER THAN OLD KING KONG" (JIM CROCE) &amp; "HOW COME YOU TASTE SO GOOD" (THE ROLLING STON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762120" y="487692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OYS  OF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UMM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F  '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52280" y="762120"/>
            <a:ext cx="8839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BODY ON THE ROAD, NOBODY ON THE BEACH" (DON HENLEY) &amp; "I GOT MY FIRST REAL 6-STRING, BOUGHT IT AT THE FIVE-AND-DIME" (BRYAN ADAMS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EL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CALIFORNIA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66760" y="762120"/>
            <a:ext cx="8610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ON A DARK DESERT HIGHWAY, COOL WIND IN MY HAIR" (THE EAGLES)    &amp; "WELL, EAST COAST GIRLS ARE  HIP, I REALLY DIG THOSE STYLES THEY WEAR" (THE BEACH BOYS)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028880" y="48769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  GOT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EA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24000" y="762120"/>
            <a:ext cx="84960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SEE THE PEOPLE WALKING DOWN THE STREET, FALL IN LINE JUST WATCHIN' ALL THEIR FEET" (THE GO-GO'S) &amp; "NO ONE WANTS TO BE DEFEATED" (MICHAEL JACKSON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333440" y="4343400"/>
            <a:ext cx="6477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RACKS  OF  M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EAR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IN  HE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PEOPLE SAY I'M THE LIFE OF THE PARTY" (SMOKEY ROBINSON) &amp; "BEYOND THE DOOR THERE'S PEACE I'M SURE" (ERIC CLAPTON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52560" y="4343400"/>
            <a:ext cx="7238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OTHER  ONE  BITES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US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IN  THE  W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RE YOU READY, HEY, ARE YOU READY FOR THIS?" (QUEEN)     &amp; "I CLOSE MY EYES, ONLY     FOR A MOMENT, AND THE MOMENT'S GONE" (KANSA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19320" y="48769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W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UND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66760" y="762120"/>
            <a:ext cx="8610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 WAS 6-FOOT-4 AND FULL OF MUSCLES" (MEN AT WORK) &amp; "IT'S THE TERROR OF KNOWING WHAT THE WORLD IS ABOUT" (QUEEN &amp; DAVID BOWIE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609480" y="4876920"/>
            <a:ext cx="7848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GHT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OVES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KE  JA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WAS A LITTLE TOO TALL, COULD'VE USED A FEW POUNDS" (BOB SEGER) &amp; "TAKE ME BY THE TONGUE AND I'LL KNOW YOU" (MAROON 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BODY ON THE ROAD, NOBODY ON THE BEACH" (DON HENLEY) &amp; "I GOT MY FIRST REAL 6-STRING, BOUGHT IT AT THE FIVE-AND-DIME" (BRYAN ADAMS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76520" y="4343400"/>
            <a:ext cx="5790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SH  YOU  WER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ER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COMES  THE  SU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19240" y="762120"/>
            <a:ext cx="8705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SO, SO YOU THINK YOU CAN TELL, HEAVEN FROM HELL" (PINK FLOYD) &amp; "IT'S BEEN A LONG COLD LONELY WINTER" (THE BEATLES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828800" y="4343400"/>
            <a:ext cx="5486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TUNAT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F  A  PREACHER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52280" y="762120"/>
            <a:ext cx="8839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I AIN'T NO SENATOR'S SON" (CCR) &amp; "THEN HE'D LOOK INTO MY EYES, LORD KNOWS, TO MY SURPRISE" (DUSTY SPRINGFIELD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,  BAD  LERO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ROW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SU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DDER THAN OLD KING KONG" (JIM CROCE) &amp; "HOW COME YOU TASTE SO GOOD" (THE ROLLING STON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ON A DARK DESERT HIGHWAY, COOL WIND IN MY HAIR" (THE EAGLES)     &amp; "WELL, EAST COAST GIRLS ARE  HIP, I REALLY DIG THOSE STYLES THEY WEAR" (THE BEACH BOYS)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SEE THE PEOPLE WALKING DOWN THE STREET, FALL IN LINE JUST WATCHIN' ALL THEIR FEET" (THE GO-GO'S) &amp; "NO ONE WANTS TO BE DEFEATED" (MICHAEL JACKSON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PEOPLE SAY I'M THE LIFE OF THE PARTY" (SMOKEY ROBINSON) &amp; "BEYOND THE DOOR THERE'S PEACE I'M SURE" (ERIC CLAPTON)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RE YOU READY, HEY, ARE YOU READY FOR THIS?" (QUEEN)     &amp; "I CLOSE MY EYES, ONLY     FOR A MOMENT, AND THE MOMENT'S GONE" (KANSA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228600" y="7621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 WAS 6-FOOT-4 AND FULL OF MUSCLES" (MEN AT WORK) &amp; "IT'S THE TERROR OF KNOWING WHAT THE WORLD IS ABOUT" (QUEEN &amp; DAVID BOWI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WAS A LITTLE TOO TALL, COULD'VE USED A FEW POUNDS" (BOB SEGER) &amp; "TAKE ME BY THE TONGUE AND I'LL KNOW YOU" (MAROON 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"SO, SO YOU THINK YOU CAN TELL, HEAVEN FROM HELL" (PINK FLOYD) &amp; "IT'S BEEN A LONG COLD LONELY WINTER" (THE BEATLES)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9T15:12:09Z</dcterms:created>
  <dc:creator>Jennifer Budzinski</dc:creator>
  <dc:description/>
  <dc:language>en-US</dc:language>
  <cp:lastModifiedBy>Erich Friedman</cp:lastModifiedBy>
  <dcterms:modified xsi:type="dcterms:W3CDTF">2020-08-26T16:45:49Z</dcterms:modified>
  <cp:revision>361</cp:revision>
  <dc:subject/>
  <dc:title>Slide 1</dc:title>
</cp:coreProperties>
</file>