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2.gif" ContentType="image/gif"/>
  <Override PartName="/ppt/media/image3.jpeg" ContentType="image/jpeg"/>
  <Override PartName="/ppt/media/image21.jpeg" ContentType="image/jpeg"/>
  <Override PartName="/ppt/media/image7.gif" ContentType="image/gif"/>
  <Override PartName="/ppt/media/image20.gif" ContentType="image/gif"/>
  <Override PartName="/ppt/media/image18.jpeg" ContentType="image/jpeg"/>
  <Override PartName="/ppt/media/image19.gif" ContentType="image/gif"/>
  <Override PartName="/ppt/media/image17.jpeg" ContentType="image/jpeg"/>
  <Override PartName="/ppt/media/image16.gif" ContentType="image/gif"/>
  <Override PartName="/ppt/media/image5.gif" ContentType="image/gif"/>
  <Override PartName="/ppt/media/image14.jpeg" ContentType="image/jpeg"/>
  <Override PartName="/ppt/media/image15.gif" ContentType="image/gif"/>
  <Override PartName="/ppt/media/image1.jpeg" ContentType="image/jpeg"/>
  <Override PartName="/ppt/media/image4.gif" ContentType="image/gif"/>
  <Override PartName="/ppt/media/image6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51BB-70B9-4637-A683-0CF8644FD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E7C4-35D0-4775-A634-8888B8510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F719-96B7-49A1-A1F3-6AF624D8A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DFC0-1474-479E-B5C3-7303813BD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B81C-D299-4643-A6AA-CD782C09F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87BC-7E8B-44C6-B7F8-30B5E16DD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3F29-F4D0-449B-9206-10334D809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C2AC-113B-4705-A859-DCBEFE8A9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4FFC-4E5F-43D2-9122-5BEAE2C4D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AC8C-E63F-40AC-A316-79175DDFE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E2B2-3E4B-4F68-8904-767868A4C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09A6-7D28-43E4-886C-04E7DB540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E2B3-C05B-4294-8018-6D98F8DD4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EAA2-3144-40D7-B06A-6FED1AE12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8228-FFD7-4360-8BCF-3B7A8AB1B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536E-8D4E-4BB2-A694-5CCCCB034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00EE-82B1-4B8B-A9D6-D3140344A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5AD9-C3A5-403D-A40F-540A9016D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6836-DE76-45B7-82DA-7215FC3B5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87D6-8145-4970-8019-CF75ADD6C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F5AB-3D55-4E7D-82A0-80A900651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2E0B-A0FF-4790-AFEF-0C50FDEA0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2FC9-9DCF-4978-BF89-0E2612A5B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66680" y="1333440"/>
            <a:ext cx="701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PAIRS OF COUNTRIES WITH OVERLAPPING NAM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1068480" y="1346040"/>
            <a:ext cx="2097000" cy="36496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" descr=""/>
          <p:cNvPicPr/>
          <p:nvPr/>
        </p:nvPicPr>
        <p:blipFill>
          <a:blip r:embed="rId2"/>
          <a:stretch/>
        </p:blipFill>
        <p:spPr>
          <a:xfrm>
            <a:off x="4267080" y="1346040"/>
            <a:ext cx="3810240" cy="36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762120" y="1344600"/>
            <a:ext cx="4572000" cy="25686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"/>
          <p:cNvPicPr/>
          <p:nvPr/>
        </p:nvPicPr>
        <p:blipFill>
          <a:blip r:embed="rId2"/>
          <a:stretch/>
        </p:blipFill>
        <p:spPr>
          <a:xfrm>
            <a:off x="6095880" y="1344600"/>
            <a:ext cx="228600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A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U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"/>
          <p:cNvPicPr/>
          <p:nvPr/>
        </p:nvPicPr>
        <p:blipFill>
          <a:blip r:embed="rId1"/>
          <a:stretch/>
        </p:blipFill>
        <p:spPr>
          <a:xfrm>
            <a:off x="431640" y="1371600"/>
            <a:ext cx="3195720" cy="27939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"/>
          <p:cNvPicPr/>
          <p:nvPr/>
        </p:nvPicPr>
        <p:blipFill>
          <a:blip r:embed="rId2"/>
          <a:stretch/>
        </p:blipFill>
        <p:spPr>
          <a:xfrm>
            <a:off x="4038480" y="1379520"/>
            <a:ext cx="4707000" cy="27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ATE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ALA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1"/>
          <a:stretch/>
        </p:blipFill>
        <p:spPr>
          <a:xfrm>
            <a:off x="1143000" y="1373040"/>
            <a:ext cx="3544920" cy="36277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" descr=""/>
          <p:cNvPicPr/>
          <p:nvPr/>
        </p:nvPicPr>
        <p:blipFill>
          <a:blip r:embed="rId2"/>
          <a:stretch/>
        </p:blipFill>
        <p:spPr>
          <a:xfrm>
            <a:off x="6019920" y="1373040"/>
            <a:ext cx="1728720" cy="36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450720" y="1523880"/>
            <a:ext cx="3206880" cy="34178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"/>
          <p:cNvPicPr/>
          <p:nvPr/>
        </p:nvPicPr>
        <p:blipFill>
          <a:blip r:embed="rId2"/>
          <a:stretch/>
        </p:blipFill>
        <p:spPr>
          <a:xfrm>
            <a:off x="4167360" y="1523880"/>
            <a:ext cx="4501800" cy="205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457200" y="5013360"/>
            <a:ext cx="82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E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990720" y="1262160"/>
            <a:ext cx="1676160" cy="37512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4" descr=""/>
          <p:cNvPicPr/>
          <p:nvPr/>
        </p:nvPicPr>
        <p:blipFill>
          <a:blip r:embed="rId2"/>
          <a:stretch/>
        </p:blipFill>
        <p:spPr>
          <a:xfrm>
            <a:off x="3581280" y="1262160"/>
            <a:ext cx="4689720" cy="37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KIS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A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"/>
          <p:cNvPicPr/>
          <p:nvPr/>
        </p:nvPicPr>
        <p:blipFill>
          <a:blip r:embed="rId1"/>
          <a:stretch/>
        </p:blipFill>
        <p:spPr>
          <a:xfrm>
            <a:off x="674640" y="1371600"/>
            <a:ext cx="3600360" cy="35053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"/>
          <p:cNvPicPr/>
          <p:nvPr/>
        </p:nvPicPr>
        <p:blipFill>
          <a:blip r:embed="rId2"/>
          <a:stretch/>
        </p:blipFill>
        <p:spPr>
          <a:xfrm>
            <a:off x="4938840" y="1371600"/>
            <a:ext cx="35100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NIG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025880" cy="31244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4957920" y="1295280"/>
            <a:ext cx="375732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ET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NA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1676160" cy="35211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"/>
          <p:cNvPicPr/>
          <p:nvPr/>
        </p:nvPicPr>
        <p:blipFill>
          <a:blip r:embed="rId2"/>
          <a:stretch/>
        </p:blipFill>
        <p:spPr>
          <a:xfrm>
            <a:off x="4137120" y="1295280"/>
            <a:ext cx="3787560" cy="352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431640" y="1371600"/>
            <a:ext cx="3195720" cy="27939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6" descr=""/>
          <p:cNvPicPr/>
          <p:nvPr/>
        </p:nvPicPr>
        <p:blipFill>
          <a:blip r:embed="rId2"/>
          <a:stretch/>
        </p:blipFill>
        <p:spPr>
          <a:xfrm>
            <a:off x="4038480" y="1379520"/>
            <a:ext cx="470700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L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N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876240" y="1303200"/>
            <a:ext cx="2210040" cy="36450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"/>
          <p:cNvPicPr/>
          <p:nvPr/>
        </p:nvPicPr>
        <p:blipFill>
          <a:blip r:embed="rId2"/>
          <a:stretch/>
        </p:blipFill>
        <p:spPr>
          <a:xfrm>
            <a:off x="3924360" y="1303200"/>
            <a:ext cx="4343400" cy="364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7628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MI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NICA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G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" descr=""/>
          <p:cNvPicPr/>
          <p:nvPr/>
        </p:nvPicPr>
        <p:blipFill>
          <a:blip r:embed="rId1"/>
          <a:stretch/>
        </p:blipFill>
        <p:spPr>
          <a:xfrm>
            <a:off x="1068480" y="1346040"/>
            <a:ext cx="2097000" cy="3649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"/>
          <p:cNvPicPr/>
          <p:nvPr/>
        </p:nvPicPr>
        <p:blipFill>
          <a:blip r:embed="rId2"/>
          <a:stretch/>
        </p:blipFill>
        <p:spPr>
          <a:xfrm>
            <a:off x="4267080" y="1346040"/>
            <a:ext cx="381024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L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762120" y="1344600"/>
            <a:ext cx="4572000" cy="25686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"/>
          <p:cNvPicPr/>
          <p:nvPr/>
        </p:nvPicPr>
        <p:blipFill>
          <a:blip r:embed="rId2"/>
          <a:stretch/>
        </p:blipFill>
        <p:spPr>
          <a:xfrm>
            <a:off x="6095880" y="1344600"/>
            <a:ext cx="2286000" cy="37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1143000" y="1373040"/>
            <a:ext cx="3544920" cy="36277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" descr=""/>
          <p:cNvPicPr/>
          <p:nvPr/>
        </p:nvPicPr>
        <p:blipFill>
          <a:blip r:embed="rId2"/>
          <a:stretch/>
        </p:blipFill>
        <p:spPr>
          <a:xfrm>
            <a:off x="6019920" y="1373040"/>
            <a:ext cx="1728720" cy="36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450720" y="1523880"/>
            <a:ext cx="3206880" cy="34178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"/>
          <p:cNvPicPr/>
          <p:nvPr/>
        </p:nvPicPr>
        <p:blipFill>
          <a:blip r:embed="rId2"/>
          <a:stretch/>
        </p:blipFill>
        <p:spPr>
          <a:xfrm>
            <a:off x="4167360" y="1523880"/>
            <a:ext cx="4501800" cy="20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990720" y="1262160"/>
            <a:ext cx="1676160" cy="37512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" descr=""/>
          <p:cNvPicPr/>
          <p:nvPr/>
        </p:nvPicPr>
        <p:blipFill>
          <a:blip r:embed="rId2"/>
          <a:stretch/>
        </p:blipFill>
        <p:spPr>
          <a:xfrm>
            <a:off x="3581280" y="1262160"/>
            <a:ext cx="4689720" cy="37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674640" y="1371600"/>
            <a:ext cx="3600360" cy="35053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2"/>
          <a:stretch/>
        </p:blipFill>
        <p:spPr>
          <a:xfrm>
            <a:off x="4938840" y="1371600"/>
            <a:ext cx="35100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025880" cy="3124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" descr=""/>
          <p:cNvPicPr/>
          <p:nvPr/>
        </p:nvPicPr>
        <p:blipFill>
          <a:blip r:embed="rId2"/>
          <a:stretch/>
        </p:blipFill>
        <p:spPr>
          <a:xfrm>
            <a:off x="4957920" y="1295280"/>
            <a:ext cx="375732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1676160" cy="35211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"/>
          <p:cNvPicPr/>
          <p:nvPr/>
        </p:nvPicPr>
        <p:blipFill>
          <a:blip r:embed="rId2"/>
          <a:stretch/>
        </p:blipFill>
        <p:spPr>
          <a:xfrm>
            <a:off x="4137120" y="1295280"/>
            <a:ext cx="378756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876240" y="1303200"/>
            <a:ext cx="2210040" cy="3645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" descr=""/>
          <p:cNvPicPr/>
          <p:nvPr/>
        </p:nvPicPr>
        <p:blipFill>
          <a:blip r:embed="rId2"/>
          <a:stretch/>
        </p:blipFill>
        <p:spPr>
          <a:xfrm>
            <a:off x="3924360" y="1303200"/>
            <a:ext cx="4343400" cy="364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26T16:46:38Z</dcterms:modified>
  <cp:revision>294</cp:revision>
  <dc:subject/>
  <dc:title>Slide 1</dc:title>
</cp:coreProperties>
</file>