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BCC8-3399-47B5-B896-FB9FAC68E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9D4A-21B4-4E1A-8EED-943A9CF0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64EB-61CC-4620-8E10-A380BB32E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92E-3D7C-4632-B7A7-469DD5218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1C85-3C57-46E0-AB51-5D54C2C1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41AA-EDE0-43B2-AFEA-B7228CB8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3898-7C35-4F4B-AD4D-780A7235D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E709-AF8F-4319-A06D-9181E029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DA5E-0E1B-450E-BAE3-3A26BFEE4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6215-9E96-403E-9A76-816B6172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F0A0-D266-4D89-AACD-9A95B8B9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6CCD-DBD4-4AB4-9ACF-363DC33BA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580C-53C2-414D-80AD-F2DC4896B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39E1-9634-4389-B8E3-356372B06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E49C-306E-4E88-B121-5F6914C9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5E95-29C0-4918-8085-1989F0BD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403F-367E-492A-A354-F3DA93A3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A9FD-3E53-47ED-BE6A-F0EE924C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DF0F-DF6E-4F1B-8EEE-8E4A7D9A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F448-810F-4A22-82F7-D4E3F06C9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95D7-7A8F-4F16-9D21-4F7A33A81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8994-77F3-4E4B-AC85-B150F0EA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F4B5-074C-4F09-8786-C3FE33465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2 OVERLAPPING SONG TIT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IN', ROLLIN', ROLLIN'  ON THE RIVER" (CCR) &amp; "SHE GREW UP IN AN INDIANA TOWN" (TOM PETT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5244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A LADY WHO'S SURE, ALL THAT GLITTERS IS GOLD" (LED ZEPPELIN) &amp; "OOH, BABY, DO YOU KNOW WHAT THAT'S WORTH?" (BELINDA CARLISL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62120" y="43434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THING  LEADS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OT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Y  IN  PARAD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HAT THEY SAY, SAY WHAT YOU MEAN" (THE FIXX) &amp; "SHE CALLS OUT TO THE MAN ON THE STREET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733400" y="4343400"/>
            <a:ext cx="56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BUILT  THI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I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76120" y="762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MEONE'S ALWAYS PLAYING CORPORATION GAMES" (STARSHIP) &amp; "GOOD MORNING, AMERICA, HOW ARE YOU?" (ARLO GUTHRIE)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160" y="48769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HOPE  YOU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N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THE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6120" y="762120"/>
            <a:ext cx="751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WHEN YOU GET THE CHOICE TO SIT IT OUT"  (LEE ANN WOMACK) &amp;          "I SAID RIDE, SALLY, RIDE" (SLY &amp; THE FAMILY STON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95600" y="4876920"/>
            <a:ext cx="5752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O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I'M STILL IN LOVE WITH YOU" (NEIL YOUNG) &amp; "WIDER THAN A MILE, I'M CROSSING YOU IN STYLE SOME DAY" (ANDY WILLI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66720" y="4343400"/>
            <a:ext cx="7810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THE  LIGHTS  WENT  OUT  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EORGI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MY 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1920" y="762120"/>
            <a:ext cx="902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 NIGHT THAT THEY HUNG AN INNOCENT MAN" (VICKI LAWRENCE) &amp; "THE WHOLE DAY THROUGH, JUST AN OLD SWEET SONG" (RAY CHAR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00280" y="4876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EFRE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GHWAY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95200" y="762120"/>
            <a:ext cx="855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SLIP AWAY, SLIP AWAY ON YOU" (GORDON LIGHTFOOT) &amp; "AND I'M GOING DOWN, ALL THE WAY, WHOA!" (AC/D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,  RATTLE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LL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200" y="762120"/>
            <a:ext cx="8877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YOU WON'T DO RIGHT TO SAVE YOUR DOGGONE SOUL" (BILL HALEY &amp; HIS COMETS) &amp; "I'M GONNA WRITE A LITTLE LETTER, GONNA MAIL IT TO MY LOCAL DJ" (THE BEAT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HAT THEY SAY, SAY WHAT YOU MEAN" (THE FIXX) &amp; "SHE CALLS OUT TO THE MAN ON THE STREET" (PHIL COLLIN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2057400" y="4343400"/>
            <a:ext cx="502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T  THE  ROA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CK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DI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37960" y="762120"/>
            <a:ext cx="8668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DON'T YOU COME BACK, NO MORE, NO MORE, NO MORE, NO MORE" (RAY CHARLES) &amp; "TWO AMERICAN KIDS GROWING UP IN THE HEARTLAND" (JOHN MELLENCAMP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828800" y="43434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U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JANE'S  LAST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IN', ROLLIN', ROLLIN'   ON THE RIVER" (CCR) &amp; "SHE GREW UP IN AN INDIANA TOWN" (TOM PETT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IRWAY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AV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A LADY WHO'S SURE, ALL THAT GLITTERS IS GOLD" (LED ZEPPELIN) &amp; "OOH, BABY, DO YOU KNOW WHAT THAT'S WORTH?" (BELINDA CARLISL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MEONE'S ALWAYS PLAYING CORPORATION GAMES" (STARSHIP) &amp; "GOOD MORNING, AMERICA, HOW ARE YOU?" (ARLO GUTHRIE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WHEN YOU GET THE CHOICE TO SIT IT OUT" (LEE ANN WOMACK) &amp;         "I SAID RIDE, SALLY, RIDE" (SLY &amp; THE FAMILY STON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I'M STILL IN LOVE WITH YOU" (NEIL YOUNG) &amp; "WIDER THAN A MILE, I'M CROSSING YOU IN STYLE SOME DAY" (ANDY WILLIAM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60" y="761760"/>
            <a:ext cx="912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THE NIGHT THAT THEY HUNG AN INNOCENT MAN" (VICKI LAWRENCE) &amp; "THE WHOLE DAY THROUGH, JUST AN OLD SWEET SONG" (RAY CHARLES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66760" y="76212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SLIP AWAY, SLIP AWAY ON YOU" (GORDON LIGHTFOOT) &amp; "AND I'M GOING DOWN, ALL THE WAY, WHOA!" (AC/D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52280" y="762120"/>
            <a:ext cx="883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YOU WON'T DO RIGHT TO SAVE YOUR DOGGONE SOUL" (BILL HALEY &amp; HIS COMETS) &amp; "I'M GONNA WRITE A LITTLE LETTER, GONNA MAIL IT TO MY LOCAL DJ" (THE BEAT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DON'T YOU COME BACK, NO MORE, NO MORE, NO MORE, NO MORE" (RAY CHARLES) &amp; "TWO AMERICAN KIDS GROWING UP IN THE HEARTLAND" (JOHN MELLENCAMP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6T16:50:41Z</dcterms:modified>
  <cp:revision>375</cp:revision>
  <dc:subject/>
  <dc:title>Slide 1</dc:title>
</cp:coreProperties>
</file>