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2059-5976-4BEF-8E12-52401DBDA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EBF-F8A1-42E3-B17D-3BAD08743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08F-0C1E-4D75-B28E-7E79AEBE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E61-53BF-4402-A37A-2330F598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903A-D3AE-4E4D-B660-4B021E3A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8ED-3731-44AB-8CBB-960D3F486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50B-319B-4C62-BAED-92ABDACD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733-42CE-44A6-B4CA-FF4B88BF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817E-D86A-4818-9B52-6C05E8F9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2EE-0819-4FD1-8E5D-715B66AA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BFCF-DA4B-44D5-A096-8870243E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AE7-08BC-47F2-A235-B29C15212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D2F7-F6CF-484B-A4E9-182BDA15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6E10-B188-447D-B1CA-1A5E7EAEF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3B9B-5323-4264-9A31-47A10DE0F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174F-D20C-4AC9-89BE-F37171AC4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3D10-96B4-4CAF-AA35-FC4DEB3E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0BF4-12AE-45FD-B6ED-0B973036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497-648C-4A88-915D-DCC82E93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A86-5A70-4403-849E-286768E4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C9CF-0C98-4299-A4DB-637E70CE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B0B3-6C3D-4EF9-9A23-DBE115ED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F2E0-DE38-4527-9FE5-D80A5F767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2 OVERLAPPING SONG TIT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IN', ROLLIN', ROLLIN'  ON THE RIVER" (CCR) &amp; "SHE GREW UP IN AN INDIANA TOWN" (TOM PETT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5244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A LADY WHO'S SURE, ALL THAT GLITTERS IS GOLD" (LED ZEPPELIN) &amp; "OOH, BABY, DO YOU KNOW WHAT THAT'S WORTH?" (BELINDA CARLISL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62120" y="43434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THING  LEADS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OT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Y  IN  PARAD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HAT THEY SAY, SAY WHAT YOU MEAN" (THE FIXX) &amp; "SHE CALLS OUT TO THE MAN ON THE STREET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733400" y="4343400"/>
            <a:ext cx="56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BUILT  THI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I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76120" y="762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MEONE'S ALWAYS PLAYING CORPORATION GAMES" (STARSHIP) &amp; "GOOD MORNING, AMERICA, HOW ARE YOU?" (ARLO GUTHRIE)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160" y="48769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HOPE  YOU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N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THE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6120" y="762120"/>
            <a:ext cx="751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WHEN YOU GET THE CHOICE TO SIT IT OUT"  (LEE ANN WOMACK) &amp;          "I SAID RIDE, SALLY, RIDE" (SLY &amp; THE FAMILY STON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95600" y="4876920"/>
            <a:ext cx="5752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O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I'M STILL IN LOVE WITH YOU" (NEIL YOUNG) &amp; "WIDER THAN A MILE, I'M CROSSING YOU IN STYLE SOME DAY" (ANDY WILLI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66720" y="4343400"/>
            <a:ext cx="7810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THE  LIGHTS  WENT  OUT  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EORGI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MY 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1920" y="762120"/>
            <a:ext cx="902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 NIGHT THAT THEY HUNG AN INNOCENT MAN" (VICKI LAWRENCE) &amp; "THE WHOLE DAY THROUGH, JUST AN OLD SWEET SONG" (RAY CHAR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00280" y="4876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EFRE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GHWAY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95200" y="762120"/>
            <a:ext cx="855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SLIP AWAY, SLIP AWAY ON YOU" (GORDON LIGHTFOOT) &amp; "AND I'M GOING DOWN, ALL THE WAY, WHOA!" (AC/D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,  RATTLE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LL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200" y="762120"/>
            <a:ext cx="8877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YOU WON'T DO RIGHT TO SAVE YOUR DOGGONE SOUL" (BILL HALEY &amp; HIS COMETS) &amp; "I'M GONNA WRITE A LITTLE LETTER, GONNA MAIL IT TO MY LOCAL DJ" (THE BEAT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HAT THEY SAY, SAY WHAT YOU MEAN" (THE FIXX) &amp; "SHE CALLS OUT TO THE MAN ON THE STREET" (PHIL COLLIN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2057400" y="4343400"/>
            <a:ext cx="50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T  THE  ROA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CK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DI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37960" y="762120"/>
            <a:ext cx="8668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DON'T YOU COME BACK, NO MORE, NO MORE, NO MORE, NO MORE" (RAY CHARLES) &amp; "TWO AMERICAN KIDS GROWING UP IN THE HEARTLAND" (JOHN MELLENCAMP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828800" y="43434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U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JANE'S  LAST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IN', ROLLIN', ROLLIN'   ON THE RIVER" (CCR) &amp; "SHE GREW UP IN AN INDIANA TOWN" (TOM PETT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IRWAY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AV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A LADY WHO'S SURE, ALL THAT GLITTERS IS GOLD" (LED ZEPPELIN) &amp; "OOH, BABY, DO YOU KNOW WHAT THAT'S WORTH?" (BELINDA CARLISL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MEONE'S ALWAYS PLAYING CORPORATION GAMES" (STARSHIP) &amp; "GOOD MORNING, AMERICA, HOW ARE YOU?" (ARLO GUTHRIE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WHEN YOU GET THE CHOICE TO SIT IT OUT" (LEE ANN WOMACK) &amp;         "I SAID RIDE, SALLY, RIDE" (SLY &amp; THE FAMILY STON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I'M STILL IN LOVE WITH YOU" (NEIL YOUNG) &amp; "WIDER THAN A MILE, I'M CROSSING YOU IN STYLE SOME DAY" (ANDY WILLIAM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60" y="761760"/>
            <a:ext cx="912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 NIGHT THAT THEY HUNG AN INNOCENT MAN" (VICKI LAWRENCE) &amp; "THE WHOLE DAY THROUGH, JUST AN OLD SWEET SONG" (RAY CHARLES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66760" y="7621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SLIP AWAY, SLIP AWAY ON YOU" (GORDON LIGHTFOOT) &amp; "AND I'M GOING DOWN, ALL THE WAY, WHOA!" (AC/D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52280" y="762120"/>
            <a:ext cx="883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YOU WON'T DO RIGHT TO SAVE YOUR DOGGONE SOUL" (BILL HALEY &amp; HIS COMETS) &amp; "I'M GONNA WRITE A LITTLE LETTER, GONNA MAIL IT TO MY LOCAL DJ" (THE BEAT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DON'T YOU COME BACK, NO MORE, NO MORE, NO MORE, NO MORE" (RAY CHARLES) &amp; "TWO AMERICAN KIDS GROWING UP IN THE HEARTLAND" (JOHN MELLENCAMP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6T16:50:41Z</dcterms:modified>
  <cp:revision>375</cp:revision>
  <dc:subject/>
  <dc:title>Slide 1</dc:title>
</cp:coreProperties>
</file>