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F6B6-9F90-44F0-A0FF-A117375DB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E582-E74F-4C36-B2B3-79A44FDBD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5893-0777-488F-8F75-32C8B5E77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CF62-DBE6-4DC1-B478-EDACEA006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C9BF-BC75-4EFE-A9DA-9CD95C749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4825-F626-4DA1-A766-A99A4DFF2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161E-DED5-42A0-921E-AC6CE0E65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F222-F687-4BEB-A310-6C9D47DBB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C69B-A4FE-4095-9407-D20B69188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EB88-CF58-4F94-BE4D-1F7A3C3E9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BC8A-97E9-4A6D-8A99-D4A4D640C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97AA-6953-4AB2-95EC-B844CD36C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1A13-C2F1-45D3-8D0A-3C742D6E4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3C28-C811-4538-82CF-7C1114E33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5386-9EAC-4897-8CE8-7193833A6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761F-1467-47AB-B7E4-0C591169E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4A7D-B382-4E3F-894A-AD29962C6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06E8-8D41-4420-9C3C-240AC505A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850A-35A0-4570-83F3-763B58971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B6C0-1692-4307-A5C9-492A1199C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2BC0-0B8B-4E50-BE52-BF9B3E57F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1D2A-2570-4767-A28C-EA793831A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3D36-C41C-4FB0-BEEF-8E7FD4538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23960" y="15238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LAPPING TV TITLES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NG-RUNNING GAME SHOW NOW HOSTED BY ALEC BALDWIN &amp; '11-'19 MOST POPULAR HBO SERIES E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RRENT AND LONG-RUNNING NAVAL CRIME PROCEDURAL &amp; CURRENT DRAMA ABOUT    A POLICE TACTICAL UN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685800" y="4876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PPY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DAYS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OF  OUR  L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74-'84 SITCOM ABOUT THE CUNNINGHAM FAMILY &amp; CURRENT LONG-RUNNING SOAP OPERA WHOSE LOGO IS AN HOURGLAS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91440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SI: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MIAMI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76280" y="762120"/>
            <a:ext cx="8191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02-'12 CRIME DRAMA STARRING DAVID CARUSO &amp; '84-'89 CRIME DRAMA STARRING  DON JOHNSON AND PHILIP MICHAEL THOM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305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CAGO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FIR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RRENT DRAMA SERIES THAT IS ALSO THE NAME OF A PRO SOCCER TEAM &amp; '02-'03 SPACE WESTERN THAT IS ALSO THE NAME OF A BEE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UTH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PARK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  AND  RECRE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09480" y="762120"/>
            <a:ext cx="79250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RRENT ADULT SATIRICAL ANIMATED SERIES &amp;           '09-'15 SATIRICAL SITCOM STARRING AMY POEHL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752480" y="4343400"/>
            <a:ext cx="5639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CTOR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  LINE  IS  IT  ANY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RRENT AND LONGEST-RUNNING BRITISH SCI-FI SHOW EVER &amp; CURRENT IMPROV COMEDY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723960" y="4876920"/>
            <a:ext cx="7696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ULL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HOUS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OF  C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87-'95 SITCOM ABOUT A WIDOWER RAISING 3 DAUGHTERS &amp; '13-'18 NETFLIX THRILLER ABOUT THE PRESIDENT OF THE U.S.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53352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0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ROCK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D  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06-'13 SITCOM STARRING TINA FEY AS HEAD WRITER OF A  TV SHOW &amp; '74-'80 DRAMA STARRING JAMES GARNER AS A PRIVATE INVESTIGA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74-'84 SITCOM ABOUT THE CUNNINGHAM FAMILY &amp; CURRENT LONG-RUNNING SOAP OPERA WHOSE LOGO IS AN HOURGLAS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685800" y="48769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.A.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LAW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&amp;  ORD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86-'94 LEGAL DRAMA THAT WON 15 EMMY AWARDS &amp; '90-'10 POLICE PROCEDURAL WITH 6 SPIN-OFF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143000" y="4876920"/>
            <a:ext cx="7010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CH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GAM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OF  THR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09760" y="762120"/>
            <a:ext cx="8124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NG-RUNNING GAME SHOW NOW HOSTED BY ALEC BALDWIN &amp; '11-'19 MOST POPULAR HBO SERIES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CI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RRENT AND LONG-RUNNING NAVAL CRIME PROCEDURAL &amp; CURRENT DRAMA ABOUT    A POLICE TACTICAL UN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02-'12 CRIME DRAMA STARRING DAVID CARUSO &amp; '84-'89 CRIME DRAMA STARRING  DON JOHNSON AND PHILIP MICHAEL THOM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RRENT DRAMA SERIES THAT IS ALSO THE NAME OF A PRO SOCCER TEAM &amp; '02-'03 SPACE WESTERN THAT IS ALSO THE NAME OF A BEE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RRENT ADULT SATIRICAL ANIMATED SERIES &amp;           '09-'15 SATIRICAL SITCOM STARRING AMY POEHL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RRENT AND LONGEST-RUNNING BRITISH SCI-FI SHOW EVER &amp; CURRENT IMPROV COMEDY S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87-'95 SITCOM ABOUT A WIDOWER RAISING 3 DAUGHTERS &amp; '13-'18 NETFLIX THRILLER ABOUT THE PRESIDENT OF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06-'13 SITCOM STARRING TINA FEY AS HEAD WRITER OF A   TV SHOW &amp; '74-'80 DRAMA STARRING JAMES GARNER AS A PRIVATE INVESTIGA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86-'94 LEGAL DRAMA THAT WON 15 EMMY AWARDS &amp; '90-'10 POLICE PROCEDURAL WITH 6 SPIN-OFF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4T16:08:44Z</dcterms:created>
  <dc:creator>Jennifer Budzinski</dc:creator>
  <dc:description/>
  <dc:language>en-US</dc:language>
  <cp:lastModifiedBy>Erich Friedman</cp:lastModifiedBy>
  <dcterms:modified xsi:type="dcterms:W3CDTF">2020-08-26T16:51:30Z</dcterms:modified>
  <cp:revision>354</cp:revision>
  <dc:subject/>
  <dc:title>Slide 1</dc:title>
</cp:coreProperties>
</file>