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8FDE-D7E1-44F9-AD6C-14227CA0E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70FF-FD81-4FCD-A12A-CE2B898AF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E388-31F5-4C51-A4B7-4F7E892FF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7CD0-2F4D-4BF9-9838-C4D277752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D57C-8EF0-45AC-91F8-0A5B61DDB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D94D-55D0-4DBB-81BE-D9EE35618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8FB0-08DF-414F-90A5-07759D49E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57B3-4700-472C-811F-72BE718BC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1490-7D94-472C-843C-8CE53A726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8380-CF36-4DE4-BE9C-B1A5749F9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EE95-4F46-4716-9F4B-2D7221C41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0CEF-1EBF-4587-8F5D-C47ED53CA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C21F-7F16-4136-A4AC-BA3CAB3E9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F4AB-901E-405A-A681-9076687D1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11C6-BFE1-44B1-8AA2-5D97B0E9C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EC92-CA94-467B-8BA2-B8BCF4E3F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5C61-B237-4E5E-BDCF-89C7076E6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DA9A-A6F2-4E2B-8401-00D0EB7D9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FC9A-15C6-4850-98C8-2B0933BC6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0CAA-C674-411C-B2E3-59588B931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D3A2-8372-489E-B6EF-1F0C2FBA5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13C1-13FA-4F05-A1E8-88206E481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CFC9-F95A-47F5-8A13-293637BE0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23960" y="15238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LAPPING TV TITLES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NG-RUNNING GAME SHOW NOW HOSTED BY ALEC BALDWIN &amp; '11-'19 MOST POPULAR HBO SERIES E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RENT AND LONG-RUNNING NAVAL CRIME PROCEDURAL &amp; CURRENT DRAMA ABOUT    A POLICE TACTICAL UN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685800" y="4876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PPY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DAYS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OF  OUR  L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74-'84 SITCOM ABOUT THE CUNNINGHAM FAMILY &amp; CURRENT LONG-RUNNING SOAP OPERA WHOSE LOGO IS AN HOURGLAS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1440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SI: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MIAMI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76280" y="762120"/>
            <a:ext cx="8191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02-'12 CRIME DRAMA STARRING DAVID CARUSO &amp; '84-'89 CRIME DRAMA STARRING  DON JOHNSON AND PHILIP MICHAEL THOM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305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CAGO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FIR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RENT DRAMA SERIES THAT IS ALSO THE NAME OF A PRO SOCCER TEAM &amp; '02-'03 SPACE WESTERN THAT IS ALSO THE NAME OF A BEE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UTH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PARK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  AND  RECRE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2120"/>
            <a:ext cx="79250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RENT ADULT SATIRICAL ANIMATED SERIES &amp;           '09-'15 SATIRICAL SITCOM STARRING AMY POEHL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752480" y="4343400"/>
            <a:ext cx="5639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CTOR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  LINE  IS  IT  ANY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RENT AND LONGEST-RUNNING BRITISH SCI-FI SHOW EVER &amp; CURRENT IMPROV COMEDY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723960" y="4876920"/>
            <a:ext cx="7696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ULL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HOUS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OF  C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87-'95 SITCOM ABOUT A WIDOWER RAISING 3 DAUGHTERS &amp; '13-'18 NETFLIX THRILLER ABOUT THE PRESIDENT OF THE U.S.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53352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0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ROCK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D 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06-'13 SITCOM STARRING TINA FEY AS HEAD WRITER OF A  TV SHOW &amp; '74-'80 DRAMA STARRING JAMES GARNER AS A PRIVATE INVESTIGA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74-'84 SITCOM ABOUT THE CUNNINGHAM FAMILY &amp; CURRENT LONG-RUNNING SOAP OPERA WHOSE LOGO IS AN HOURGLAS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85800" y="48769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.A.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LAW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&amp;  ORD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86-'94 LEGAL DRAMA THAT WON 15 EMMY AWARDS &amp; '90-'10 POLICE PROCEDURAL WITH 6 SPIN-OFF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143000" y="4876920"/>
            <a:ext cx="7010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CH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GAM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OF  THR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09760" y="762120"/>
            <a:ext cx="8124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NG-RUNNING GAME SHOW NOW HOSTED BY ALEC BALDWIN &amp; '11-'19 MOST POPULAR HBO SERIES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CI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RENT AND LONG-RUNNING NAVAL CRIME PROCEDURAL &amp; CURRENT DRAMA ABOUT    A POLICE TACTICAL UN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02-'12 CRIME DRAMA STARRING DAVID CARUSO &amp; '84-'89 CRIME DRAMA STARRING  DON JOHNSON AND PHILIP MICHAEL THOM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RENT DRAMA SERIES THAT IS ALSO THE NAME OF A PRO SOCCER TEAM &amp; '02-'03 SPACE WESTERN THAT IS ALSO THE NAME OF A BEE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RENT ADULT SATIRICAL ANIMATED SERIES &amp;           '09-'15 SATIRICAL SITCOM STARRING AMY POEHL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RENT AND LONGEST-RUNNING BRITISH SCI-FI SHOW EVER &amp; CURRENT IMPROV COMEDY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87-'95 SITCOM ABOUT A WIDOWER RAISING 3 DAUGHTERS &amp; '13-'18 NETFLIX THRILLER ABOUT THE PRESIDENT OF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06-'13 SITCOM STARRING TINA FEY AS HEAD WRITER OF A   TV SHOW &amp; '74-'80 DRAMA STARRING JAMES GARNER AS A PRIVATE INVESTIGA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86-'94 LEGAL DRAMA THAT WON 15 EMMY AWARDS &amp; '90-'10 POLICE PROCEDURAL WITH 6 SPIN-OFF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4T16:08:44Z</dcterms:created>
  <dc:creator>Jennifer Budzinski</dc:creator>
  <dc:description/>
  <dc:language>en-US</dc:language>
  <cp:lastModifiedBy>Erich Friedman</cp:lastModifiedBy>
  <dcterms:modified xsi:type="dcterms:W3CDTF">2020-08-26T16:51:30Z</dcterms:modified>
  <cp:revision>354</cp:revision>
  <dc:subject/>
  <dc:title>Slide 1</dc:title>
</cp:coreProperties>
</file>