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96B2-BCEF-425F-9AF7-D96EC2D0A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1E27-4D00-426F-BEA6-C58750545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899E-186E-49CA-BFB2-C4FFCB58E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D6FB-D7A0-4CFF-A3D8-F7B4C683E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EA06-F96C-4EC6-A434-24B01D457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01A4-FFD0-40BC-AEEB-C51F99835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AF0F-99CE-4CB7-A4A6-A14A43B64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73AB-553B-4B70-A1C7-C6557FEA2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B928-D7D3-48B7-A750-5613C5BFF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BABD-B657-4B3C-A539-0F9880519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57CF-E0B6-4533-9942-3826E4C3F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7520-252F-42DD-8B6C-82597B8E6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1FFA-C69F-41C7-9EE1-0EFE3ED45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651F-0E9A-46A8-94D2-223A5F6FD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7BD8-6841-43A0-B821-207000831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E45A-86D9-4B22-908B-8626BC283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2702-E605-4CA0-A6E3-9FFFA57B9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CC0E-B87E-474A-B992-3EAE2270A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601B-E937-48F9-AB47-95BC307ED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9528-2831-4531-ABF6-7E6C428B4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1696-AFBB-40AB-93E7-C5B78C947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8436-44BA-4487-AF97-1AC19ECB0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8DD3-1D93-4083-AEF7-0FDAF7E3A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23960" y="15238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LAPPING TV TITLES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NG-RUNNING GAME SHOW NOW HOSTED BY ALEC BALDWIN &amp; '11-'19 MOST POPULAR HBO SERIES E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AND LONG-RUNNING NAVAL CRIME PROCEDURAL &amp; CURRENT DRAMA ABOUT    A POLICE TACTICAL UN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685800" y="4876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PPY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DAYS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OF  OUR  L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74-'84 SITCOM ABOUT THE CUNNINGHAM FAMILY &amp; CURRENT LONG-RUNNING SOAP OPERA WHOSE LOGO IS AN HOURGLAS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SI: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MIAMI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76280" y="762120"/>
            <a:ext cx="8191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02-'12 CRIME DRAMA STARRING DAVID CARUSO &amp; '84-'89 CRIME DRAMA STARRING  DON JOHNSON AND PHILIP MICHAEL THOM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AGO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FIR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DRAMA SERIES THAT IS ALSO THE NAME OF A PRO SOCCER TEAM &amp; '02-'03 SPACE WESTERN THAT IS ALSO THE NAME OF A BEE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UTH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PARK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  AND  RECRE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ADULT SATIRICAL ANIMATED SERIES &amp;           '09-'15 SATIRICAL SITCOM STARRING AMY POEH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752480" y="4343400"/>
            <a:ext cx="5639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CTOR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  LINE  IS  IT  ANY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AND LONGEST-RUNNING BRITISH SCI-FI SHOW EVER &amp; CURRENT IMPROV COMEDY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723960" y="4876920"/>
            <a:ext cx="7696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ULL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HOUS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OF  C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87-'95 SITCOM ABOUT A WIDOWER RAISING 3 DAUGHTERS &amp; '13-'18 NETFLIX THRILLER ABOUT THE PRESIDENT OF THE U.S.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53352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0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ROCK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D 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06-'13 SITCOM STARRING TINA FEY AS HEAD WRITER OF A  TV SHOW &amp; '74-'80 DRAMA STARRING JAMES GARNER AS A PRIVATE INVESTIGA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74-'84 SITCOM ABOUT THE CUNNINGHAM FAMILY &amp; CURRENT LONG-RUNNING SOAP OPERA WHOSE LOGO IS AN HOURGLAS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85800" y="48769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.A.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LAW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&amp;  ORD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86-'94 LEGAL DRAMA THAT WON 15 EMMY AWARDS &amp; '90-'10 POLICE PROCEDURAL WITH 6 SPIN-OFF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143000" y="4876920"/>
            <a:ext cx="7010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CH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GAM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OF  THR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09760" y="762120"/>
            <a:ext cx="8124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NG-RUNNING GAME SHOW NOW HOSTED BY ALEC BALDWIN &amp; '11-'19 MOST POPULAR HBO SERIES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CI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AND LONG-RUNNING NAVAL CRIME PROCEDURAL &amp; CURRENT DRAMA ABOUT    A POLICE TACTICAL UN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02-'12 CRIME DRAMA STARRING DAVID CARUSO &amp; '84-'89 CRIME DRAMA STARRING  DON JOHNSON AND PHILIP MICHAEL THOM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DRAMA SERIES THAT IS ALSO THE NAME OF A PRO SOCCER TEAM &amp; '02-'03 SPACE WESTERN THAT IS ALSO THE NAME OF A BEE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ADULT SATIRICAL ANIMATED SERIES &amp;           '09-'15 SATIRICAL SITCOM STARRING AMY POEHL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AND LONGEST-RUNNING BRITISH SCI-FI SHOW EVER &amp; CURRENT IMPROV COMEDY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87-'95 SITCOM ABOUT A WIDOWER RAISING 3 DAUGHTERS &amp; '13-'18 NETFLIX THRILLER ABOUT THE PRESIDENT OF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06-'13 SITCOM STARRING TINA FEY AS HEAD WRITER OF A   TV SHOW &amp; '74-'80 DRAMA STARRING JAMES GARNER AS A PRIVATE INVESTIGA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86-'94 LEGAL DRAMA THAT WON 15 EMMY AWARDS &amp; '90-'10 POLICE PROCEDURAL WITH 6 SPIN-OFF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4T16:08:44Z</dcterms:created>
  <dc:creator>Jennifer Budzinski</dc:creator>
  <dc:description/>
  <dc:language>en-US</dc:language>
  <cp:lastModifiedBy>Erich Friedman</cp:lastModifiedBy>
  <dcterms:modified xsi:type="dcterms:W3CDTF">2020-08-26T16:51:30Z</dcterms:modified>
  <cp:revision>354</cp:revision>
  <dc:subject/>
  <dc:title>Slide 1</dc:title>
</cp:coreProperties>
</file>