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23E3-5045-40C8-A483-00C29919D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1AE5-AC8F-4DF8-B3EF-01D5FAD96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766F-887B-4A9B-B1BD-4E388449C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0C7EB-0DD5-4FFB-8E78-20B3AF89B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D228-814D-4687-B504-30543B630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532C-BC92-48E1-97E1-3E82BB0BF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AE42-FA14-432B-ADB1-E65748B35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1336-B6EE-4DB4-A72A-2F47B5E66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93AB-B9D9-4A85-871F-857649769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448B-63E4-4052-9713-2831F6C40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EA0F-521A-40B1-85AE-138584844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4577-CC95-4890-9413-E2A6992D8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C6CE-56F7-4C47-B63E-D2AD3B4AC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EBE99-CBB0-439E-A4EA-A68DE258F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1CD7-E5B1-4387-9FCC-E7346F92C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46AB-79BB-4843-BBBC-364B10662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8825-5804-4AF6-BE25-E6A4111C4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A196-E5E3-4DDF-8A19-F69E50CC1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3BEE-5948-4CA6-8682-445086B07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AD07-7493-4E69-AA7A-112769C45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6C23-7D98-4D80-BEE8-911DC25A2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E1983-EA8C-4257-84C1-747BA538D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6096-16AE-4981-9065-C74F26600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5238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TV TITLES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93-'05 GRITTY POLICE PROCEDURAL SET IN THE BIG APPLE &amp; CURRENT POLICE PROCEDURAL STARRING TOM SELLE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5-'89 SITCOM ABOUT A FAMILY THAT BUILDS A CHILD ROBOT &amp; '75-'79 SUPERHERO SERIES STARRING LYNDA CAR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&amp;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GRAC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UNDER  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98-'06 SITCOM ABOUT A GAY LAWYER AND A STRAIGHT INTERIOR DESIGNER &amp; '93-'98 SITCOM ABOUT A SINGLE MOTHER RAISING 3 KID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DER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AMIL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GU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SITCOM ABOUT THE PRITCHETT CLAN &amp; CURRENT ANIMATED SITCOM ABOUT THE GRIFFIN CL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ALKING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EA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SUCCESSFUL ZOMBIE SERIES EVER &amp; '04-'06 HBO WESTERN SERIES WITH AN ENSEMBLE C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3434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  TO  GET  AWAY  WITH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URD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 SHE  WR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DRAMA SERIES STARRING VIOLA DAVIS &amp; '84-'96 CRIME DRAMA STARRING ANGELA LANSB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  IS  THE  NEW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LAC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-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13-'19 NETFLIX SERIES  ABOUT A WOMEN'S PRISON  &amp; CURRENT SERIES ABOUT   AN UPPER-MIDDLE-CLASS AFRICAN-AMERICAN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ACTS  OF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IF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N  PIE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79-'88 SITCOM ABOUT AN ALL-FEMALE BOARDING SCHOOL   &amp; '15-'19 SITCOM STARRING COLIN HANKS, DIANNE WIEST, AND JAMES BROL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X  FEET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UND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THE  D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01-'05 HBO DRAMA ABOUT A FUNERAL HOME &amp; '13-'15 SCI-FI SERIES ABOUT THE ISOLATED TOWN OF CHESTER'S M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98-'06 SITCOM ABOUT A GAY LAWYER AND A STRAIGHT INTERIOR DESIGNER &amp; '93-'98 SITCOM ABOUT A SINGLE MOTHER RAISING 3 KID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85800" y="488808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HER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URPH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RO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1-'83 WESTERN DRAMA STARRING MERLIN OLSEN &amp; '88-'98 SITCOM STARRING CANDICE BERG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YP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LU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L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93-'05 GRITTY POLICE PROCEDURAL SET IN THE BIG APPLE &amp; CURRENT POLICE PROCEDURAL STARRING TOM SELLE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LL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OND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WO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5-'89 SITCOM ABOUT A FAMILY THAT BUILDS A CHILD ROBOT &amp; '75-'79 SUPERHERO SERIES STARRING LYNDA CAR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SITCOM ABOUT THE PRITCHETT CLAN &amp; CURRENT ANIMATED SITCOM ABOUT THE GRIFFIN CL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SUCCESSFUL ZOMBIE SERIES EVER &amp; '04-'06 HBO WESTERN SERIES WITH AN ENSEMBLE C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DRAMA SERIES STARRING VIOLA DAVIS &amp; '84-'96 CRIME DRAMA STARRING ANGELA LANSB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13-'19 NETFLIX SERIES  ABOUT A WOMEN'S PRISON  &amp; CURRENT SERIES ABOUT   AN UPPER-MIDDLE-CLASS AFRICAN-AMERICAN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79-'88 SITCOM ABOUT AN ALL-FEMALE BOARDING SCHOOL   &amp; '15-'19 SITCOM STARRING COLIN HANKS, DIANNE WIEST, AND JAMES BROL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01-'05 HBO DRAMA ABOUT A FUNERAL HOME &amp; '13-'15 SCI-FI SERIES ABOUT THE ISOLATED TOWN OF CHESTER'S MI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81-'83 WESTERN DRAMA STARRING MERLIN OLSEN &amp; '88-'98 SITCOM STARRING CANDICE BERG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4T16:08:44Z</dcterms:created>
  <dc:creator>Jennifer Budzinski</dc:creator>
  <dc:description/>
  <dc:language>en-US</dc:language>
  <cp:lastModifiedBy>Erich Friedman</cp:lastModifiedBy>
  <dcterms:modified xsi:type="dcterms:W3CDTF">2021-05-11T03:00:19Z</dcterms:modified>
  <cp:revision>350</cp:revision>
  <dc:subject/>
  <dc:title>Slide 1</dc:title>
</cp:coreProperties>
</file>