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290B2-0961-40EF-8CEA-5F0A614999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82024-285E-46BD-AF69-B8253838F1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6BA14-1D68-4BBE-AFEF-B2A1534FD0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63A62-0216-4553-B96B-65D28FADF6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ACC42-073E-4310-8CA6-F50BD8694A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FFB21-7A12-4A8F-BC9F-E52BB61B72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C509C-9761-4608-9648-28A9DD86BF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C58AF-19C7-4645-A498-BED0157B83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45F7E-CC0F-4026-B982-0789CD046C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FAF4D-D2EF-42E6-BB40-BFD1D34B03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F93E3-71F1-481E-8326-E341E5173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5E797-F0F7-418B-8921-187DC2A278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9C31E-677E-4B75-BCEB-E4CF77DEC8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EBAA8-AB72-4807-846B-B9196F307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2ED43-7D29-4CB1-99A2-B269F415E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32D93-F059-4DD7-AE7E-6B93A618CF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AE75F-0CB9-46B8-AAF4-FB40FBA2DA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C4516-BE79-4D0A-92E1-ABA32030BD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59484-6490-42AE-8DE2-A00C76C9DD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72FE5-4DD9-41D0-B607-582803B4D5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A336C-BD04-49B9-B5D2-85A1806997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CF365-2A22-4E45-B93B-FCB73C032F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A1CD4-4242-4B53-8BA4-F1915A0EE3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23960" y="152388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VERLAPPING TV TITLES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'93-'05 GRITTY POLICE PROCEDURAL SET IN THE BIG APPLE &amp; CURRENT POLICE PROCEDURAL STARRING TOM SELLEC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71680" y="762120"/>
            <a:ext cx="8001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'85-'89 SITCOM ABOUT A FAMILY THAT BUILDS A CHILD ROBOT &amp; '75-'79 SUPERHERO SERIES STARRING LYNDA CAR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685800" y="48769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L  &amp;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GRAC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UNDER  F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762120" y="762120"/>
            <a:ext cx="76197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'98-'06 SITCOM ABOUT A GAY LAWYER AND A STRAIGHT INTERIOR DESIGNER &amp; '93-'98 SITCOM ABOUT A SINGLE MOTHER RAISING 3 KID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914400" y="4876920"/>
            <a:ext cx="7391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DERN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FAMILY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GU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71680" y="762120"/>
            <a:ext cx="80010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URRENT SITCOM ABOUT THE PRITCHETT CLAN &amp; CURRENT ANIMATED SITCOM ABOUT THE GRIFFIN CL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3059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WALKING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DEAD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OST SUCCESSFUL ZOMBIE SERIES EVER &amp; '04-'06 HBO WESTERN SERIES WITH AN ENSEMBLE CA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34340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W  TO  GET  AWAY  WITH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MURDER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,  SHE  WRO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09480" y="762120"/>
            <a:ext cx="792504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URRENT DRAMA SERIES STARRING VIOLA DAVIS &amp; '84-'96 CRIME DRAMA STARRING ANGELA LANSBU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RANGE  IS  THE  NEW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BLACK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-I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'13-'19 NETFLIX SERIES  ABOUT A WOMEN'S PRISON  &amp; CURRENT SERIES ABOUT   AN UPPER-MIDDLE-CLASS AFRICAN-AMERICAN FAMI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723960" y="4876920"/>
            <a:ext cx="7696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FACTS  OF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LIF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IN  PIE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19040" y="762120"/>
            <a:ext cx="83059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'79-'88 SITCOM ABOUT AN ALL-FEMALE BOARDING SCHOOL   &amp; '15-'19 SITCOM STARRING COLIN HANKS, DIANNE WIEST, AND JAMES BROL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533520" y="4876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X  FEET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UNDER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THE  D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380880" y="762120"/>
            <a:ext cx="8382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'01-'05 HBO DRAMA ABOUT A FUNERAL HOME &amp; '13-'15 SCI-FI SERIES ABOUT THE ISOLATED TOWN OF CHESTER'S MI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'98-'06 SITCOM ABOUT A GAY LAWYER AND A STRAIGHT INTERIOR DESIGNER &amp; '93-'98 SITCOM ABOUT A SINGLE MOTHER RAISING 3 KIDS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685800" y="4888080"/>
            <a:ext cx="77724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THER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MURPHY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BROW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38080" y="762120"/>
            <a:ext cx="74678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'81-'83 WESTERN DRAMA STARRING MERLIN OLSEN &amp; '88-'98 SITCOM STARRING CANDICE BERG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143000" y="4876920"/>
            <a:ext cx="7010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YPD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BLU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BLO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028880" y="762120"/>
            <a:ext cx="7086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'93-'05 GRITTY POLICE PROCEDURAL SET IN THE BIG APPLE &amp; CURRENT POLICE PROCEDURAL STARRING TOM SELLEC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MALL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WONDER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WO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71680" y="762120"/>
            <a:ext cx="8001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'85-'89 SITCOM ABOUT A FAMILY THAT BUILDS A CHILD ROBOT &amp; '75-'79 SUPERHERO SERIES STARRING LYNDA CAR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URRENT SITCOM ABOUT THE PRITCHETT CLAN &amp; CURRENT ANIMATED SITCOM ABOUT THE GRIFFIN CL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OST SUCCESSFUL ZOMBIE SERIES EVER &amp; '04-'06 HBO WESTERN SERIES WITH AN ENSEMBLE CA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URRENT DRAMA SERIES STARRING VIOLA DAVIS &amp; '84-'96 CRIME DRAMA STARRING ANGELA LANSBU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'13-'19 NETFLIX SERIES  ABOUT A WOMEN'S PRISON  &amp; CURRENT SERIES ABOUT   AN UPPER-MIDDLE-CLASS AFRICAN-AMERICAN FAMIL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'79-'88 SITCOM ABOUT AN ALL-FEMALE BOARDING SCHOOL   &amp; '15-'19 SITCOM STARRING COLIN HANKS, DIANNE WIEST, AND JAMES BROL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61800" y="761760"/>
            <a:ext cx="8420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'01-'05 HBO DRAMA ABOUT A FUNERAL HOME &amp; '13-'15 SCI-FI SERIES ABOUT THE ISOLATED TOWN OF CHESTER'S MIL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'81-'83 WESTERN DRAMA STARRING MERLIN OLSEN &amp; '88-'98 SITCOM STARRING CANDICE BERG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4T16:08:44Z</dcterms:created>
  <dc:creator>Jennifer Budzinski</dc:creator>
  <dc:description/>
  <dc:language>en-US</dc:language>
  <cp:lastModifiedBy>Erich Friedman</cp:lastModifiedBy>
  <dcterms:modified xsi:type="dcterms:W3CDTF">2021-05-11T03:00:19Z</dcterms:modified>
  <cp:revision>350</cp:revision>
  <dc:subject/>
  <dc:title>Slide 1</dc:title>
</cp:coreProperties>
</file>