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3F03-FDE4-4A21-9F66-FEC208E7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E3A9-87E3-4789-A32B-0480D57C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7DF4-6105-43F1-8ECB-0E09045F9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7086-1176-4580-B739-EB71B06E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4C72-A806-438B-82B6-BE8EC5940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5070-DF2A-4E6D-887F-F55432D28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215C-B4D3-4F58-A316-FC27A44B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B11-18AB-4B24-8EC3-596545615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C5D3-3634-4E59-9EA7-BC3478827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CE66-F7D1-49E9-AA30-1FBB3041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98AF-C31E-4DF0-9964-340E1357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40A4-AB79-4F79-93B3-E8D690AB5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8E3F-F227-4215-847D-0A5EFD5B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4BAA-3A49-46AA-A1FD-3848B7E92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7606-C86C-4DC6-9EAC-DD12B38B0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CAB6-16AE-4198-BE34-5A9A74B4F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77A7-D8DE-4F2C-82FC-F592FD672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3484-2E9D-4A65-B636-A7E8540A4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DC5E-1B15-4AA1-A07D-BF1C13C63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8B23-13FB-4500-A031-9BFB5664B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6B63-3CF6-4188-8592-E1C9F0841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684A-13E4-4763-8480-4CF4563D1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4DB-FB4C-4BD1-9D2F-835856450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42720" y="10666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VE THE 2 OVERLAPPING MUSICAL ARTISTS FROM THE SONGS THEY SANG                        (½ CREDIT FOR 1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EMI-CHARMED LIFE" &amp; WHO SANG "NO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STAR" &amp; WHO SANG "I WANT IT THAT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AYLO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RE AND RAIN" &amp; WHO SANG "WE ARE NEVER EVER GETTING BACK TOGETHER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IM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&amp;  GARFUN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'RE SO VAIN" &amp; WHO SANG "SOUNDS OF SILE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AN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GE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IKKI DON'T LOSE THAT NUMBER" &amp; WHO SANG "LEADER OF THE B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ACK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ROW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RILLER" &amp; WHO SANG "DOCTOR MY E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ICHAE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UB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7760" y="762120"/>
            <a:ext cx="8448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AITH" &amp; WHO SANG "HAVEN'T MET YOU Y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OH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ET MAN" &amp; WHO SANG "WAITING ON THE WORLD TO CHAN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  ÖYST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UL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E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EAPER" &amp; WHO SANG "KARMA CHAMELE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RE AND RAIN" &amp; WHO SANG "WE ARE NEVER EVER GETTING BACK TOGETHER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343400"/>
            <a:ext cx="655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, SWEAT,  A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FOR 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54200"/>
            <a:ext cx="807696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'VE MADE ME SO VERY HAPPY" &amp; WHO SANG "EVERYBODY WANTS TO RULE THE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RD  EY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IN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E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47840" y="762120"/>
            <a:ext cx="8248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EMI-CHARMED LIFE" &amp; WHO SANG "NO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EL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TREET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STAR" &amp; WHO SANG "I WANT IT THAT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'RE SO VAIN" &amp; WHO SANG "SOUNDS OF SILE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IKKI DON'T LOSE THAT NUMBER" &amp; WHO SANG "LEADER OF THE B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RILLER" &amp; WHO SANG "DOCTOR MY EY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AITH" &amp; WHO SANG "HAVEN'T MET YOU Y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ET MAN" &amp; WHO SANG "WAITING ON THE WORLD TO CHAN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95480" y="761760"/>
            <a:ext cx="695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EAPER" &amp; WHO SANG "KARMA CHAMELE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'VE MADE ME SO VERY HAPPY" &amp; WHO SANG "EVERYBODY WANTS TO RULE THE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2-08-28T14:18:08Z</dcterms:modified>
  <cp:revision>351</cp:revision>
  <dc:subject/>
  <dc:title>Slide 1</dc:title>
</cp:coreProperties>
</file>