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7442-1754-4E8A-AEDB-6B8EB2C85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8FDE-A6F8-4B72-A8B0-D80B395A9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EF2D-D8E8-4EE6-BB24-4B686A9E2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BF4B-DE48-4776-9F94-676911C3F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3008-D311-412A-A8F1-5E8B5B953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2803-658C-4663-A193-EBBF3940E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92969-1031-4D1F-AD92-EF9FC54B0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C83A-037D-4BF5-9AD5-4080A7136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0DB0-C3FD-474A-BCDE-3D386776E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937F-6FEE-474C-B2F1-C09E4FC4C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153C-7509-4DAF-8C18-1E6859A9F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8F13-D86B-4F49-88AF-FBE9ADD2A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FCAC-27E4-4B23-9BA6-D0977F57D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0805-99A3-435A-AEC9-6852D711F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E9F8-8F3C-4349-8801-077569D3F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42F1-8625-40FE-98FC-B5578D1EE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1EEA-0245-4054-AD4B-287FA5BAD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C0A2-57FF-4500-AF15-DA0E7F7A4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28C8-6AED-4555-B2E6-BC36C5C80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91CE-4CFA-497B-B6D2-4B8AA7D66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8909-158D-4902-AC6A-508CCEC4F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3C96-9E16-4A91-974F-FDCB7097C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0626-F891-413B-AAD6-5AF3E5782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42720" y="10666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IVE THE 2 OVERLAPPING MUSICAL ARTISTS FROM THE SONGS THEY SANG                        (½ CREDIT FOR 1)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EMI-CHARMED LIFE" &amp; WHO SANG "NO R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OCKSTAR" &amp; WHO SANG "I WANT IT THAT 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AYLO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IRE AND RAIN" &amp; WHO SANG "WE ARE NEVER EVER GETTING BACK TOGETHER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L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IM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&amp;  GARFUNK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71680" y="762120"/>
            <a:ext cx="8001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YOU'RE SO VAIN" &amp; WHO SANG "SOUNDS OF SILE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EL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AN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GEL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IKKI DON'T LOSE THAT NUMBER" &amp; WHO SANG "LEADER OF THE B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JACKSO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BROW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09480" y="762120"/>
            <a:ext cx="79250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RILLER" &amp; WHO SANG "DOCTOR MY EY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ICHAEL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BUBL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47760" y="762120"/>
            <a:ext cx="84484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AITH" &amp; WHO SANG "HAVEN'T MET YOU Y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723960" y="4876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TO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JOH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A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66720" y="762120"/>
            <a:ext cx="7810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OCKET MAN" &amp; WHO SANG "WAITING ON THE WORLD TO CHANG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53352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  ÖYSTER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CUL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RE 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REAPER" &amp; WHO SANG "KARMA CHAMELE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IRE AND RAIN" &amp; WHO SANG "WE ARE NEVER EVER GETTING BACK TOGETHER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95280" y="4343400"/>
            <a:ext cx="6553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OD, SWEAT,  AND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EARS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FOR  F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3520" y="754200"/>
            <a:ext cx="807696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YOU'VE MADE ME SO VERY HAPPY" &amp; WHO SANG "EVERYBODY WANTS TO RULE THE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143000" y="487692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RD  EY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LIN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E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47840" y="762120"/>
            <a:ext cx="8248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EMI-CHARMED LIFE" &amp; WHO SANG "NO 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CKEL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AC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TREET  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OCKSTAR" &amp; WHO SANG "I WANT IT THAT 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04880" y="761760"/>
            <a:ext cx="7734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YOU'RE SO VAIN" &amp; WHO SANG "SOUNDS OF SILE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IKKI DON'T LOSE THAT NUMBER" &amp; WHO SANG "LEADER OF THE B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RILLER" &amp; WHO SANG "DOCTOR MY EY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52440" y="762120"/>
            <a:ext cx="8439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AITH" &amp; WHO SANG "HAVEN'T MET YOU Y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ROCKET MAN" &amp; WHO SANG "WAITING ON THE WORLD TO CHANG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95480" y="761760"/>
            <a:ext cx="6953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HE REAPER" &amp; WHO SANG "KARMA CHAMELE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YOU'VE MADE ME SO VERY HAPPY" &amp; WHO SANG "EVERYBODY WANTS TO RULE THE WOR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4T16:08:44Z</dcterms:created>
  <dc:creator>Jennifer Budzinski</dc:creator>
  <dc:description/>
  <dc:language>en-US</dc:language>
  <cp:lastModifiedBy>Erich Friedman</cp:lastModifiedBy>
  <dcterms:modified xsi:type="dcterms:W3CDTF">2022-08-28T14:18:08Z</dcterms:modified>
  <cp:revision>351</cp:revision>
  <dc:subject/>
  <dc:title>Slide 1</dc:title>
</cp:coreProperties>
</file>