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B4B0-8BE6-48F7-9597-C49E400D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58AF-07F9-4E06-8966-841556E04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E3EC-34DC-4AD7-A2F2-A5563FCD1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C0AA-0C3B-475B-90DA-138E4B99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D5B-B48D-4B9D-9E75-B432E8F5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D0D6-0E29-4D40-BD36-CF24B6A8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081-28EB-47CA-8178-508B63DC1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18FC-4554-4A16-B7E8-179480141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CC5-DF4C-4FAA-84E8-9A15DC4B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6EE-7AC7-4045-BE5A-29737352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4CE3-62E3-4F0D-952C-B3306091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4E56-CDEC-476A-90D5-31CA562D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5FA-FB0D-4E9B-9B46-F29BC1C1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67BD-283F-4B30-8F7E-9B12EED6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8798-546E-410A-98B2-B308E68D8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3092-6D82-4E5B-BAFD-75CA3C0D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7D33-535B-4870-8C5F-C459B177E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D041-243B-429E-B1B8-64CBC9C7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FAE1-F0A9-4A50-87DA-B2721257F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D035-9AA1-4DA7-A7D6-D43766AD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204-0268-44CE-95EB-3FE58F1B6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52AF-D243-4BAB-97B7-EFDBC70E4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7112-7FD5-4F15-9177-FB77B30B5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THE OVERLAPPING SONG TIT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DON'T CARE TOO MUCH FOR MONEY" (THE BEATLES) &amp; "I'LL ALWAYS BE TRUE" (THE BEA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A RED DOOR" (ROLLING STONES) &amp; "GOT ME SO BLIND I CAN'T SEE" (SANTAN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943280" y="4343400"/>
            <a:ext cx="5257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IN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FAST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READ THE NEWS TODAY,  OH BOY" (THE BEATLES) &amp; "SURELY MAKE YOU LOSE YOUR MIND" (THE EAGLE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IR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 IS A BURNING THING" (JOHNNY CASH) &amp; "JUST YESTERDAY MORNING THEY LET ME KNOW YOU WERE GONE" (JAMES TAYLOR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3434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 I  STAY  OR  SHOULD  I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YOUR  OWN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IF I STAY IT WILL BE DOUBLE" (THE CLASH) &amp; "LOVING YOU ISN'T THE RIGHT THING TO DO" (FLEETWOOD MA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  BREATH  YOU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K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WATCHING YOU" (THE POLICE) &amp; "I'LL BE GONE IN A DAY OR TWO" (A-H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343400"/>
            <a:ext cx="723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PATHY  FOR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VI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ITH  A  BLUE  DRESS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A MAN OF WEALTH AND TASTE" (THE ROLLING STONES) &amp; "FEE FEE FI FI FO FO FUM" (MITCH RYDER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343400"/>
            <a:ext cx="609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MME  SO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V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, TOUCHIN',  SQUEEZIN'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28600" y="762120"/>
            <a:ext cx="8686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 GLAD WE MADE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PENCER DAVIS GROUP) &amp; "YOU'RE TEARING ME APART, EVERY EVERY DAY" (JOURNE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Y  LAD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Y ACROSS MY BIG BRASS BE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 &amp; "I'M BEGGING DARLING PLEASE" (DEREK &amp; THE DOMINO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READ THE NEWS TODAY,  OH BOY" (THE BEATLES) &amp; "SURELY MAKE YOU LOSE YOUR MIND" (THE EAGLE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43280" y="43434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NSHI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OF  YOUR  L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WARM WHEN SHE'S AWAY" (BILL WITHERS) &amp; "I'VE BEEN WAITING SO LONG TO BE WHERE I'M GOING" (CREA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'T  BUY  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V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E 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DON'T CARE TOO MUCH FOR MONEY" (THE BEATLES) &amp; "I'LL ALWAYS BE TRUE" (THE BEA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I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GIC  WOM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A RED DOOR" (ROLLING STONES) &amp; "GOT ME SO BLIND I CAN'T SEE" (SANTAN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OVE IS A BURNING THING" (JOHNNY CASH) &amp; "JUST YESTERDAY MORNING THEY LET ME KNOW YOU WERE GONE" (JAMES TAYLOR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320" y="762120"/>
            <a:ext cx="899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IF I STAY IT WILL BE DOUBLE" (THE CLASH) &amp; "LOVING YOU ISN'T THE RIGHT THING TO DO" (FLEETWOOD MA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WATCHING YOU" (THE POLICE) &amp; "I'LL BE GONE IN A DAY OR TWO" (A-HA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A MAN OF WEALTH AND TASTE" (THE ROLLING STONES) &amp; "FEE FEE FI FI FO FO FUM" (MITCH RYDER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8600" y="762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 GLAD WE MADE I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PENCER DAVIS GROUP) &amp; "YOU'RE TEARING ME APART, EVERY EVERY DAY" (JOURNE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AY ACROSS MY BIG BRASS BE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BOB DYLAN) &amp; "I'M BEGGING DARLING PLEASE" (DEREK &amp; THE DOMINO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WARM WHEN SHE'S AWAY" (BILL WITHERS) &amp; "I'VE BEEN WAITING SO LONG TO BE WHERE I'M GOING" (CREA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4T18:03:34Z</dcterms:modified>
  <cp:revision>353</cp:revision>
  <dc:subject/>
  <dc:title>Slide 1</dc:title>
</cp:coreProperties>
</file>