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A7D5-49AE-4D9C-940D-292E63FE2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B07-4C20-454C-9C49-57593227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82DB-DD25-4A59-B3FC-48D997DA4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F2A7-54E6-4E08-85A5-92CEAFFDC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5F2D-75FC-47D1-9431-6B93AEFE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8691-0EE0-4078-9731-9C7518FC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E36-C270-4A36-A57E-27A8AE47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22D-59F9-4F5E-8F60-7424BC10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24C-CAA3-42BC-8233-A9F88151E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B29A-B919-4F0D-9418-15278896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82D-DF64-4EC6-93AA-5A5ACB0D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0DA-AD61-4C11-90C3-543F48E4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A66C-4D3D-4BFF-8B0A-D74A3D0A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95F-4117-44C3-892D-ECF27687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28F-78F2-4636-B513-2F70AF6A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042-CF68-4FAA-8B0C-F43BFDE8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304-7406-4900-A46D-531ACCAB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D348-C56B-4798-9399-51201307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B845-DF82-4FFB-8122-0C3D767A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5C72-340C-4BBC-BF55-234167CD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3ECF-7A8D-416D-9642-4D1ADE1F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A7B-F79E-4079-8015-061AC159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9FD1-86F1-4E02-A12B-4512B0E31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THE OVERLAPPING SONG TITL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DON'T CARE TOO MUCH FOR MONEY" (THE BEATLES) &amp; "I'LL ALWAYS BE TRUE" (THE BEA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A RED DOOR" (ROLLING STONES) &amp; "GOT ME SO BLIND I CAN'T SEE" (SANTAN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943280" y="434340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IN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F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THE  FAST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READ THE NEWS TODAY,  OH BOY" (THE BEATLES) &amp; "SURELY MAKE YOU LOSE YOUR MIND" (THE EAGLE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I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 IS A BURNING THING" (JOHNNY CASH) &amp; "JUST YESTERDAY MORNING THEY LET ME KNOW YOU WERE GONE" (JAMES TAYLOR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 I  STAY  OR  SHOULD  I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YOUR  OWN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IF I STAY IT WILL BE DOUBLE" (THE CLASH) &amp; "LOVING YOU ISN'T THE RIGHT THING TO DO" (FLEETWOOD MA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  BREATH  YOU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WATCHING YOU" (THE POLICE) &amp; "I'LL BE GONE IN A DAY OR TWO" (A-H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343400"/>
            <a:ext cx="7238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PATHY  FOR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VI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ITH  A  BLUE  DRESS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A MAN OF WEALTH AND TASTE" (THE ROLLING STONES) &amp; "FEE FEE FI FI FO FO FUM" (MITCH RYD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343400"/>
            <a:ext cx="609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MME  SO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OV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, TOUCHIN',  SQUEEZIN'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28600" y="7621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 GLAD WE MADE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PENCER DAVIS GROUP) &amp; "YOU'RE TEARING ME APART, EVERY EVERY DAY" (JOURNE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Y  LAD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Y ACROSS MY BIG BRASS BE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 &amp; "I'M BEGGING DARLING PLEASE" (DEREK &amp; THE DOMINO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READ THE NEWS TODAY,  OH BOY" (THE BEATLES) &amp; "SURELY MAKE YOU LOSE YOUR MIND" (THE EAGLE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43280" y="434340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N'T  N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NSHI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OF  YOUR  L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WARM WHEN SHE'S AWAY" (BILL WITHERS) &amp; "I'VE BEEN WAITING SO LONG TO BE WHERE I'M GOING" (CREA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'T  BUY  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E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DON'T CARE TOO MUCH FOR MONEY" (THE BEATLES) &amp; "I'LL ALWAYS BE TRUE" (THE BEA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I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GIC  WOM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A RED DOOR" (ROLLING STONES) &amp; "GOT ME SO BLIND I CAN'T SEE" (SANTAN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 IS A BURNING THING" (JOHNNY CASH) &amp; "JUST YESTERDAY MORNING THEY LET ME KNOW YOU WERE GONE" (JAMES TAYLOR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320" y="762120"/>
            <a:ext cx="89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IF I STAY IT WILL BE DOUBLE" (THE CLASH) &amp; "LOVING YOU ISN'T THE RIGHT THING TO DO" (FLEETWOOD MA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WATCHING YOU" (THE POLICE) &amp; "I'LL BE GONE IN A DAY OR TWO" (A-HA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A MAN OF WEALTH AND TASTE" (THE ROLLING STONES) &amp; "FEE FEE FI FI FO FO FUM" (MITCH RYDE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8600" y="762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 GLAD WE MADE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PENCER DAVIS GROUP) &amp; "YOU'RE TEARING ME APART, EVERY EVERY DAY" (JOURNE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Y ACROSS MY BIG BRASS BE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 &amp; "I'M BEGGING DARLING PLEASE" (DEREK &amp; THE DOMINO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WARM WHEN SHE'S AWAY" (BILL WITHERS) &amp; "I'VE BEEN WAITING SO LONG TO BE WHERE I'M GOING" (CREA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4T18:03:34Z</dcterms:modified>
  <cp:revision>353</cp:revision>
  <dc:subject/>
  <dc:title>Slide 1</dc:title>
</cp:coreProperties>
</file>