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830A-255B-4435-AFFC-6E0A7914C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D7F3-6A5C-4F0B-9FCA-E4877A25B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2472-4CFF-4270-AE2F-734B00E03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CE17-6084-4395-A7AA-4724BF1DE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B389-AE92-4549-8E88-F2334EED7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FCE3-0687-46AF-A0E8-7BC6E2C51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C8E0-CF4E-444F-94E0-D65DB663C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6CA2-3F3C-403D-8F87-F231A2626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D812-CBA0-4661-9215-C0F949D5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68F3-EAB2-481E-897F-F42984776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7525-9D23-487C-99D2-1D9A5A18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C9B3-0BE7-4340-A77D-0C1010BB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F5E9-CE33-4205-A6EE-3B5DE9A2B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532F-ED03-4E75-8287-88D7751E2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DCA9-250F-477B-8AF9-9D492A3D6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2699-4706-45B3-9B10-8896C60C9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0EA1-192C-4975-9C62-1B1065361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EA39-2B9E-41F7-9C7E-A6F9B6F71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67D9-43DB-4851-976D-0A91C74B6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FC79-50E8-4E8A-87C6-07C1B7C60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2C90-EDC7-4AE9-BAE2-BCE82DF8E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F097-828A-4B92-8900-7A395DB4B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9AC5-2D85-4CDE-B64D-64B53C2A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80880" y="133344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PLOT SUMMARIES, IDENTIFY THESE PAIRS OF OVERLAPPING FILM TITLE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GE REINHOLD FANTASIZES ABOUT PHOEBE CATES &amp; MUSIC SNOBS JOHN CUSACK AND JACK BLACK HANG OUT IN A RECORD ST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REW LANDS ON MARS AND GETS ATTACKED BY INSECTS AND GORILLAS &amp; CHIMPANZEES HAVE TAKEN OVER EARTH IN THE FU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XTH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EN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ND SE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EY JOEL OSMENT SEES DEAD PEOPLE &amp; THRE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ISTERS ENDURE UNHAPPY COURTSHIP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3434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  FORC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ON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FLEW  OVER  THE  CUCKOO'S  N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HARRISON FORD'S PLANE GETS HIJACKED &amp; JACK NICHOLSON IS IN A MENTAL INSTIT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GING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UL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UR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DE NIRO BOXES &amp; A VETERAN CATCHER MENTORS A PROSPECT IN THE MINOR LEA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ITTL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ISS  SUN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AMILY ADOPTS A MOUSE AS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ON &amp; ABIGAIL BRESLIN COMPETES IN A BEAUTY PAGE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I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LANE FULL OF PRISON INMATES GETS HIJACKED &amp; A DOG PLAYS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495680"/>
            <a:ext cx="6096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'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GEL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THE  OUT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MERON DIAZ, LUCY LIU, AND DREW BARRYMORE KICK SOME BUTT &amp; A BASEBALL TEAM WINS THE PENNANT WITH HELP FROM ABO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0948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AK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RIDA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NIGHT 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NDSAY LOHAN SWAPS BODIES WITH HER MOM &amp; BILLY BOB THORNTON COACHES HIGH SCHOOL FOOTBALL IN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EY JOEL OSMENT SEES DEAD PEOPLE &amp; THRE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ISTERS ENDURE UNHAPPY COURTSHIP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523880" y="4343400"/>
            <a:ext cx="617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NT  FOR  RE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OCTOB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CONNERY GOES ROGUE IN A SOVIET SUBMARINE &amp; A COAL MINER'S SON PLAYS WITH ROCKETS IN THE 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41972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ST  TIMES  AT  RIDGEMONT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IG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FIDE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GE REINHOLD FANTASIZES ABOUT PHOEBE CATES &amp; MUSIC SNOBS JOHN CUSACK AND JACK BLACK HANG OUT IN A RECORD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LANE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THE  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REW LANDS ON MARS AND GETS ATTACKED BY INSECTS AND GORILLAS &amp; CHIMPANZEES HAVE TAKEN OVER EARTH IN THE FU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HARRISON FORD'S PLANE GETS HIJACKED &amp; JACK NICHOLSON IS IN A MENTAL INSTIT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DE NIRO BOXES &amp; A VETERAN CATCHER MENTORS A PROSPECT IN THE MINOR LEA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AMILY ADOPTS A MOUSE AS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ON &amp; ABIGAIL BRESLIN COMPETES IN A BEAUTY PAGE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LANE FULL OF PRISON INMATES GETS HIJACKED &amp; A DOG PLAYS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MERON DIAZ, LUCY LIU, AND DREW BARRYMORE KICK SOME BUTT &amp; A BASEBALL TEAM WINS THE PENNANT WITH HELP FROM ABOV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NDSAY LOHAN SWAPS BODIES WITH HER MOM &amp; BILLY BOB THORNTON COACHES HIGH SCHOOL FOOTBALL IN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CONNERY GOES ROGUE IN A SOVIET SUBMARINE &amp; A COAL MINER'S SON PLAYS WITH ROCKETS IN THE 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4:41:15Z</dcterms:created>
  <dc:creator>Jennifer Budzinski</dc:creator>
  <dc:description/>
  <dc:language>en-US</dc:language>
  <cp:lastModifiedBy>Erich Friedman</cp:lastModifiedBy>
  <dcterms:modified xsi:type="dcterms:W3CDTF">2020-08-24T23:00:58Z</dcterms:modified>
  <cp:revision>343</cp:revision>
  <dc:subject/>
  <dc:title>Slide 1</dc:title>
</cp:coreProperties>
</file>