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8871-C4B8-4C1E-ADB6-D7230E270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E704-14F9-4F17-9060-993AAA92C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72AA-F938-4FE3-8DF4-4CD652FDF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584B-B963-4F92-932A-63D604AB0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D41E-6E7C-4BCE-86D2-C327B297A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F0AC-2373-4609-80FF-CAB93D398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B884-B86E-4243-A9DC-DF97B584E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0D0D-9547-423D-BED8-87B8897CC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2676-2105-4492-8ECB-6FB145FDF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81D1-CCF9-4488-813B-FE16C4F46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F739-4750-436F-8D41-0384C4145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288B-4382-4978-9283-E76D2887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5D7E-AB37-4A3D-93D0-E56FCC135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91F8-AC6D-4EC3-A5ED-EA52DCEEC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6CF7-0BE4-486E-9CE8-6CB16FF8E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1032-7E0B-419A-9F9C-6622214D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CFFF-A8F7-4B13-A3FA-C30F6F6FF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7CB2-89DF-4A13-9F68-A0DB6C3E1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5DAC-8C87-45BA-BAFC-90669D43D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8D2B-165C-47D3-A912-F1B4952EF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FB28-1FCA-4D47-8437-3F91DCAED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12D1-9192-459D-B342-C17C0ADD8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959A-0549-48C5-A73A-975C59106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80880" y="133344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PLOT SUMMARIES, IDENTIFY THESE PAIRS OF OVERLAPPING FILM TITLE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GE REINHOLD FANTASIZES ABOUT PHOEBE CATES &amp; MUSIC SNOBS JOHN CUSACK AND JACK BLACK HANG OUT IN A RECORD ST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REW LANDS ON MARS AND GETS ATTACKED BY INSECTS AND GORILLAS &amp; CHIMPANZEES HAVE TAKEN OVER EARTH IN THE FU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XTH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ENS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ND SE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EY JOEL OSMENT SEES DEAD PEOPLE &amp; THRE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ISTERS ENDURE UNHAPPY COURTSHIP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343400"/>
            <a:ext cx="7162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  FORC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ON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FLEW  OVER  THE  CUCKOO'S  N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HARRISON FORD'S PLANE GETS HIJACKED &amp; JACK NICHOLSON IS IN A MENTAL INSTIT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GING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UL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UR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DE NIRO BOXES &amp; A VETERAN CATCHER MENTORS A PROSPECT IN THE MINOR LEA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ITTL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ISS  SUN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AMILY ADOPTS A MOUSE AS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ON &amp; ABIGAIL BRESLIN COMPETES IN A BEAUTY PAGE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I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LANE FULL OF PRISON INMATES GETS HIJACKED &amp; A DOG PLAYS BASKE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495680"/>
            <a:ext cx="6096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'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GEL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THE  OUT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MERON DIAZ, LUCY LIU, AND DREW BARRYMORE KICK SOME BUTT &amp; A BASEBALL TEAM WINS THE PENNANT WITH HELP FROM ABO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0948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AK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RIDA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NIGHT L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NDSAY LOHAN SWAPS BODIES WITH HER MOM &amp; BILLY BOB THORNTON COACHES HIGH SCHOOL FOOTBALL IN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EY JOEL OSMENT SEES DEAD PEOPLE &amp; THRE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ISTERS ENDURE UNHAPPY COURTSHIP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523880" y="4343400"/>
            <a:ext cx="6172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NT  FOR  RE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OCTOB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CONNERY GOES ROGUE IN A SOVIET SUBMARINE &amp; A COAL MINER'S SON PLAYS WITH ROCKETS IN THE 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41972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ST  TIMES  AT  RIDGEMONT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IG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FIDE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UDGE REINHOLD FANTASIZES ABOUT PHOEBE CATES &amp; MUSIC SNOBS JOHN CUSACK AND JACK BLACK HANG OUT IN A RECORD ST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LANE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THE  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REW LANDS ON MARS AND GETS ATTACKED BY INSECTS AND GORILLAS &amp; CHIMPANZEES HAVE TAKEN OVER EARTH IN THE FU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SIDENT HARRISON FORD'S PLANE GETS HIJACKED &amp; JACK NICHOLSON IS IN A MENTAL INSTIT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DE NIRO BOXES &amp; A VETERAN CATCHER MENTORS A PROSPECT IN THE MINOR LEA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AMILY ADOPTS A MOUSE AS A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ON &amp; ABIGAIL BRESLIN COMPETES IN A BEAUTY PAGE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LANE FULL OF PRISON INMATES GETS HIJACKED &amp; A DOG PLAYS BASKE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MERON DIAZ, LUCY LIU, AND DREW BARRYMORE KICK SOME BUTT &amp; A BASEBALL TEAM WINS THE PENNANT WITH HELP FROM ABOV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NDSAY LOHAN SWAPS BODIES WITH HER MOM &amp; BILLY BOB THORNTON COACHES HIGH SCHOOL FOOTBALL IN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CONNERY GOES ROGUE IN A SOVIET SUBMARINE &amp; A COAL MINER'S SON PLAYS WITH ROCKETS IN THE 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4:41:15Z</dcterms:created>
  <dc:creator>Jennifer Budzinski</dc:creator>
  <dc:description/>
  <dc:language>en-US</dc:language>
  <cp:lastModifiedBy>Erich Friedman</cp:lastModifiedBy>
  <dcterms:modified xsi:type="dcterms:W3CDTF">2020-08-24T23:00:58Z</dcterms:modified>
  <cp:revision>343</cp:revision>
  <dc:subject/>
  <dc:title>Slide 1</dc:title>
</cp:coreProperties>
</file>