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D37A-A719-4A15-B381-B354C32B2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8300-812F-455A-9EC7-2E229D90D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EF34-CECD-46CF-8A06-DA5C98C36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AC73-2E70-4209-93A4-E7CA03AC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26E7-5B01-4B5A-B45C-55918B940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D2E1-6FE2-46E8-8D1E-A1C14A741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CECB-0BE3-42CA-82E1-597AE63E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E990-233F-42F4-94D1-1744D0B3F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972D-55AE-4F56-8ABA-C1F36F99D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29BE-328F-4C56-87A9-0C5F1072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4EC8-DE47-4F89-9AD8-02071FE63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097E-C003-41AA-AED7-BE42D0E95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2FF0-C3B1-4A32-8481-9C3FEF9D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936A-3976-4238-93BD-4270261B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D405-CE61-4FC5-8AB1-C26D41D03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49DB-AB90-46DF-9E12-0549B0F4A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5281-ED5A-489C-A4DE-31BDA714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4829-F328-4784-B028-A0D224C2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F71B-1A8B-4413-8D43-0C61B08A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F550-94E4-4B34-A594-C4BFEDF36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CFD2-06BE-4E2A-AED3-F4F48A46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8BFD-B71B-42A3-9400-A4B5CAE2B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545B-0A2A-4FEC-A8D2-20D7C74B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NAMES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MBSTONE" AND "OVERBOARD" ACTOR OVERLAPS WITH THE LEAD ACTOR OF "GLADI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OF "ANNIE HALL" OVERLAPS WITH A LEADING FIGURE OF THE BEAT GENE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MU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ILLAR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IMBER WHO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CLIMBED MOUNT EVEREST OVERLAPS WITH A 2016 PRESIDENTIAL CANDI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. H.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AWREN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WE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LADY CHATTERLEY'S LOVER" OVERLAPS WITH THE HOST OF A MUSICAL VARIETY TV SHOW FROM 1951 TO 19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RR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D.C. OVERLAPS WITH THE RECORD HOLDER FOR HOME RUNS IN SINGLE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ART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AND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PLAYED "THE JERK" OVERLAPS WITH THE OSCAR-WINNING ACTOR WHO PLAYED BELA LUGOSI IN "ED 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RU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WILL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ULGAR 60'S COMIC OVERLAPS WITH THE STAR OF THE "DIE HARD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ICHAE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J. FOX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WHAM AND SINGER OF "FAITH" OVERLAPS WITH AN ACTOR FAMOUS FOR HAVING PARKINSON'S DISE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E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RAN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ZAPP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NLY GAY MEMBER OF CONGRESS OVERLAPS WITH A PROLIFIC NON-CONFORMIST MUSIC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IMBER WHO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CLIMBED MOUNT EVEREST OVERLAPS WITH A 2016 PRESIDENTIAL CANDID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Y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OS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ING ACTRESS IN "SLEEPLESS IN SEATTLE" OVERLAPS WITH THE LEAD ACTOR IN "THE NOTEBO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USSE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R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MBSTONE" AND "OVERBOARD" ACTOR OVERLAPS WITH THE LEAD ACTOR OF "GLADI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LL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INS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OF "ANNIE HALL" OVERLAPS WITH A LEADING FIGURE OF THE BEAT GENE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LADY CHATTERLEY'S LOVER" OVERLAPS WITH THE HOST OF A MUSICAL VARIETY TV SHOW FROM 1951 TO 19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D.C. OVERLAPS WITH THE RECORD HOLDER FOR HOME RUNS IN SINGLE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PLAYED "THE JERK" OVERLAPS WITH THE OSCAR-WINNING ACTOR WHO PLAYED BELA LUGOSI IN "ED W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ULGAR 60'S COMIC OVERLAPS WITH THE STAR OF THE "DIE HARD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WHAM AND SINGER OF "FAITH" OVERLAPS WITH AN ACTOR FAMOUS FOR HAVING PARKINSON'S DISE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NLY GAY MEMBER OF CONGRESS OVERLAPS WITH A PROLIFIC NON-CONFORMIST MUSIC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ING ACTRESS IN "SLEEPLESS IN SEATTLE" OVERLAPS WITH THE LEAD ACTOR IN "THE NOTEBO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7:09:28Z</dcterms:created>
  <dc:creator>Jennifer Budzinski</dc:creator>
  <dc:description/>
  <dc:language>en-US</dc:language>
  <cp:lastModifiedBy>Erich Friedman</cp:lastModifiedBy>
  <dcterms:modified xsi:type="dcterms:W3CDTF">2020-08-25T18:11:04Z</dcterms:modified>
  <cp:revision>337</cp:revision>
  <dc:subject/>
  <dc:title>Slide 1</dc:title>
</cp:coreProperties>
</file>