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3FAC-671F-4342-A307-5021F82C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EC57-CA30-43DE-9B52-A289180B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E2BE-3D4E-4A72-8505-29E28605B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8C84-188D-479C-B6FF-7D7C43B07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CD77-8812-48D9-934F-A206174FD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F37A-F0DD-4D4C-BD94-970D72A4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42B-85AC-4DE8-9ED5-FB05FAF0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5272-BE10-4137-A04D-EBB0EB28D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4975-4BA3-4BD2-A1B1-5DD65875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E207-58C1-42C4-BE37-3733344B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BAA4-F786-454C-B148-D7C2AC03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8363-1DE5-4480-81B1-2D7C188E9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D75-07F2-4669-B9AE-52DAA027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BFDC-9896-42E6-A240-3E695904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6E37-35DB-4406-9F41-8C24EB73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8105-73C1-442F-B4D3-A836CBC0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5515-70FD-4AAB-9576-BBEFF9C3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2F98-1A77-4D85-B396-7B3A37A7F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9526-1502-48CD-B77F-43203FD4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BEB2-61C4-4C3C-AF6A-68AB3529A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D646-D049-4D04-9BB2-7DB96032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D78A-5E3B-4A56-9253-B5E000696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60B1-01ED-48FC-9AEF-1759457BA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MBSTONE" AND "OVERBOARD" ACTOR OVERLAPS WITH THE LEAD ACTOR OF "GLAD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OF "ANNIE HALL" OVERLAPS WITH A LEADING FIGURE OF THE BEAT GEN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MU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ILLAR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MBER WHO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CLIMBED MOUNT EVEREST OVERLAPS WITH A 2016 PRESIDENTIAL CANDI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. H.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AWREN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E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LADY CHATTERLEY'S LOVER" OVERLAPS WITH THE HOST OF A MUSICAL VARIETY TV SHOW FROM 1951 TO 19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RR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D.C. OVERLAPS WITH THE RECORD HOLDER FOR HOME RUNS IN SINGLE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RT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AND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PLAYED "THE JERK" OVERLAPS WITH THE OSCAR-WINNING ACTOR WHO PLAYED BELA LUGOSI IN "ED 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RU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ILL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ULGAR 60'S COMIC OVERLAPS WITH THE STAR OF THE "DIE HARD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ICHAE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J. FOX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WHAM AND SINGER OF "FAITH" OVERLAPS WITH AN ACTOR FAMOUS FOR HAVING PARKINSON'S DISE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E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RAN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ZAPP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NLY GAY MEMBER OF CONGRESS OVERLAPS WITH A PROLIFIC NON-CONFORMIST MUS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MBER WHO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CLIMBED MOUNT EVEREST OVERLAPS WITH A 2016 PRESIDENTIAL CANDI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Y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OS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ING ACTRESS IN "SLEEPLESS IN SEATTLE" OVERLAPS WITH THE LEAD ACTOR IN "THE NOTEBO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USSE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R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MBSTONE" AND "OVERBOARD" ACTOR OVERLAPS WITH THE LEAD ACTOR OF "GLAD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LL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INS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OF "ANNIE HALL" OVERLAPS WITH A LEADING FIGURE OF THE BEAT GEN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LADY CHATTERLEY'S LOVER" OVERLAPS WITH THE HOST OF A MUSICAL VARIETY TV SHOW FROM 1951 TO 19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D.C. OVERLAPS WITH THE RECORD HOLDER FOR HOME RUNS IN SINGLE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PLAYED "THE JERK" OVERLAPS WITH THE OSCAR-WINNING ACTOR WHO PLAYED BELA LUGOSI IN "ED W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ULGAR 60'S COMIC OVERLAPS WITH THE STAR OF THE "DIE HARD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WHAM AND SINGER OF "FAITH" OVERLAPS WITH AN ACTOR FAMOUS FOR HAVING PARKINSON'S DISE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NLY GAY MEMBER OF CONGRESS OVERLAPS WITH A PROLIFIC NON-CONFORMIST MUS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ING ACTRESS IN "SLEEPLESS IN SEATTLE" OVERLAPS WITH THE LEAD ACTOR IN "THE NOTEBO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7:09:28Z</dcterms:created>
  <dc:creator>Jennifer Budzinski</dc:creator>
  <dc:description/>
  <dc:language>en-US</dc:language>
  <cp:lastModifiedBy>Erich Friedman</cp:lastModifiedBy>
  <dcterms:modified xsi:type="dcterms:W3CDTF">2020-08-25T18:11:04Z</dcterms:modified>
  <cp:revision>337</cp:revision>
  <dc:subject/>
  <dc:title>Slide 1</dc:title>
</cp:coreProperties>
</file>