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C4FBB-7328-4091-833E-5E48E2080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C478-5484-494E-9657-3F60FB115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D721D-38CE-4E0D-A261-C1891EF3C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D83B-27A6-4B3D-A21B-AF10426CDA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8503-7AA1-4288-841A-12CF44A2D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9317-2B06-4B98-B7C8-C75A60860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8042-939E-4B7C-8327-89F2AEE58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4F1E1-A551-4AA2-96AF-8F2E7F620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FB896-511E-49EB-A423-E7B9A3503E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A635-0D38-4215-91CE-62933185F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3511-B08C-42C3-9487-4ED219AC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097A-71C6-4384-A685-E83ECB187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5F8-5201-4DE9-B1BC-1795FD458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CE07-33E6-4F01-A1ED-3E4B3914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39EB-50AA-4027-8DC1-5AD46B230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4ED4A-E561-4826-85A4-6F4FAD9F3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7C5F1-C555-414C-BE2B-57EDFF646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C623-F68B-44E3-BEB7-6C1C7DF77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AADB5-5E97-4126-80B0-098652635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395A2-5E68-427A-B83C-3C424622D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93F9-47F0-41E4-A98E-3D42828B4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C46AA-BAB5-4832-8EEE-5B33BB0D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28BD-2FB1-45D2-ACF4-A0D40F2ED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LAPPING NAMES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90440" y="761760"/>
            <a:ext cx="8763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800280" y="762120"/>
            <a:ext cx="75438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EDMUND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HILLA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LIN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800280" y="762120"/>
            <a:ext cx="7543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8808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D. H.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LAWREN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EL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609480" y="762120"/>
            <a:ext cx="79250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76920"/>
            <a:ext cx="83059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ION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ARRY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BO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76920"/>
            <a:ext cx="8458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STEV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ARTI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LAND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95360" y="4876920"/>
            <a:ext cx="8153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LENN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BRUCE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WILLI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85800" y="762120"/>
            <a:ext cx="777240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EORGE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MICHAE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J. FOX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685800" y="76212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BARNE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FRANK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ZAPPA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609480" y="762120"/>
            <a:ext cx="79250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09480" y="7621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LIMBER WHO 1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CLIMBED MOUNT EVEREST OVERLAPS WITH A 2016 PRESIDENTIAL CANDIDAT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G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YA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OS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7696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URT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USSELL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CROW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723960" y="762120"/>
            <a:ext cx="769608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"TOMBSTONE" AND "OVERBOARD" ACTOR OVERLAPS WITH THE LEAD ACTOR OF "GLADIATOR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WOODY 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LLEN</a:t>
            </a: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  GINSBER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838080" y="762120"/>
            <a:ext cx="74678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IRECTOR OF "ANNIE HALL" OVERLAPS WITH A LEADING FIGURE OF THE BEAT GENERA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571320" y="7617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UTHOR OF "LADY CHATTERLEY'S LOVER" OVERLAPS WITH THE HOST OF A MUSICAL VARIETY TV SHOW FROM 1951 TO 1982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YOR OF D.C. OVERLAPS WITH THE RECORD HOLDER FOR HOME RUNS IN SINGLE SEAS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ACTOR WHO PLAYED "THE JERK" OVERLAPS WITH THE OSCAR-WINNING ACTOR WHO PLAYED BELA LUGOSI IN "ED WOOD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7640" y="72396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VULGAR 60'S COMIC OVERLAPS WITH THE STAR OF THE "DIE HARD"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799920" y="761760"/>
            <a:ext cx="7543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EMBER OF WHAM AND SINGER OF "FAITH" OVERLAPS WITH AN ACTOR FAMOUS FOR HAVING PARKINSON'S DISEAS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OPENLY GAY MEMBER OF CONGRESS OVERLAPS WITH A PROLIFIC NON-CONFORMIST MUSICIA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19040" y="76176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LEADING ACTRESS IN "SLEEPLESS IN SEATTLE" OVERLAPS WITH THE LEAD ACTOR IN "THE NOTEBOOK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1T17:09:28Z</dcterms:created>
  <dc:creator>Jennifer Budzinski</dc:creator>
  <dc:description/>
  <dc:language>en-US</dc:language>
  <cp:lastModifiedBy>Erich Friedman</cp:lastModifiedBy>
  <dcterms:modified xsi:type="dcterms:W3CDTF">2020-08-25T18:11:04Z</dcterms:modified>
  <cp:revision>337</cp:revision>
  <dc:subject/>
  <dc:title>Slide 1</dc:title>
</cp:coreProperties>
</file>