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CE55-55DB-4D21-AA91-8F72CEC5A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AF47-473C-48A1-9AE9-0C856FDFB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233B-0CC7-466A-AC5B-77176BE05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1019-6205-4983-AAA3-1AC137AAA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BA90-0600-4043-8D1B-77D55E931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8CEB-9B13-4EC9-AF7F-D8BAB1BCE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1A61-7538-4365-A799-2500F5593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CFC1-9E54-436C-A5C0-272C89112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FA13-C7EA-4397-909E-AECB78DF7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EF95-4CBC-4815-A0E2-BD3C5B57C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55A8-4B92-4638-A021-2BD890B74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ACC2-456B-4BBC-A347-A2E3D5A3D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8ADB-3964-466F-8FDB-E9BB73FF3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9028-C287-4778-A7BF-91E795DA2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5042-FE52-40D7-8DCB-7112B0063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7380-EE55-43DD-BD95-8469A4032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A3D7-2B31-4B04-A027-9BDD61BEB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2D2C-8DCD-4B6A-B712-4BAC2B7A3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5352-5475-4B66-8E23-161D9A1CE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23AE-2AEF-4D42-AEC6-FEACE1103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6F4D-75D8-4B01-9A06-305822222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623A-3998-4206-9370-F04698241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BD80-91D2-495F-B7D9-DA6E4F8CB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NAMES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UNDISPUTED QUEEN OF DISCO" OVERLAPS WITH THE SISTER OF RIVER, RAIN, JOAQUIN, AND LIBERT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SCAR DRIVER WHO WON THE SPRINT CUP IN '95, '97, '98, AND '01 OVERLAPS WITH THE SINGER OF "SUN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ARVI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GA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90400" y="762120"/>
            <a:ext cx="7963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 ACTOR FOR "CAT BALLOU" OVERLAPS WITH THE SINGER OF "I HEARD IT THROUGH THE GRAPEV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OUI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ARMSTR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03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ER KNOWN A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BROWN BOMBER" OVERLAPS WITH THE JAZZ TRUMPETER KNOWN AS "SATCHM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RK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OUGLA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ACARTH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NOMINATED FOR "CHAMPION" AND "LUST FOR LIFE" OVERLAPS WITH THE WWII FIELD MARSHALL OF THE PHILIPPINE AR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UTH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VAND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NINETY-FIVE THESES" OVERLAPS WITH  THE SINGER OF "NEVER TOO MUCH", "HERE AND NOW",  AND "I CAN MAKE IT BET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AYLO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WIFT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FIRE AND RAIN" OVERLAPS WITH THE SINGER OF "WE ARE NEVER EVER GETTING BACK TOGE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JACKS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ROW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KING OF POP" OVERLAPS WITH THE SINGER OF "THE PRETEN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ARRIS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FOR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BEATLES OVERLAPS WITH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GROSSING FILM STAR OF ALL TIME, AFTER SAMUEL L.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 ACTOR FOR "CAT BALLOU" OVERLAPS WITH THE SINGER OF "I HEARD IT THROUGH THE GRAPEV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JEFFERS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THE DECLARATION OF INDEPENDENCE OVERLAPS WITH THE PRESIDENT OF  THE CONFEDERATE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NA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UMM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52600" y="762120"/>
            <a:ext cx="8038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UNDISPUTED QUEEN OF DISCO" OVERLAPS WITH THE SISTER OF RIVER, RAIN, JOAQUIN, AND LIBER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GORD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LIGHT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SCAR DRIVER WHO WON THE SPRINT CUP IN '95, '97, '98, AND '01 OVERLAPS WITH THE SINGER OF "SUN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ER KNOWN A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BROWN BOMBER" OVERLAPS WITH THE JAZZ TRUMPETER KNOWN AS "SATCHM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NOMINATED FOR "CHAMPION" AND "LUST FOR LIFE" OVERLAPS WITH THE WWII FIELD MARSHALL OF THE PHILIPPINE AR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09680" y="762120"/>
            <a:ext cx="832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NINETY-FIVE THESES" OVERLAPS WITH THE SINGER OF "NEVER TOO MUCH", "HERE AND NOW",  AND "I CAN MAKE IT BET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23960"/>
            <a:ext cx="807696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OF "FIRE AND RAIN" OVERLAPS WITH THE SINGER OF "WE ARE NEVER EVER GETTING BACK TOGETH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KING OF POP" OVERLAPS WITH THE SINGER OF "THE PRETEN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BEATLES OVERLAPS WITH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GROSSING FILM STAR OF ALL TIME, AFTER SAMUEL L.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THE DECLARATION OF INDEPENDENCE OVERLAPS WITH THE PRESIDENT OF  THE CONFEDERATE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7:09:28Z</dcterms:created>
  <dc:creator>Jennifer Budzinski</dc:creator>
  <dc:description/>
  <dc:language>en-US</dc:language>
  <cp:lastModifiedBy>Erich Friedman</cp:lastModifiedBy>
  <dcterms:modified xsi:type="dcterms:W3CDTF">2020-08-26T16:34:15Z</dcterms:modified>
  <cp:revision>346</cp:revision>
  <dc:subject/>
  <dc:title>Slide 1</dc:title>
</cp:coreProperties>
</file>