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81B2-E673-485D-894B-C89A1BE60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896-82B8-4F80-9ED1-4023EF61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F40-8368-4370-B8CE-25AB67E6C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7AAB-586C-4E74-B5DA-DEC23645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FD7-05A8-43EA-850E-79D834BAA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E5F-B0FF-418C-8F62-DA2751FE7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B21D-160C-406E-8C0C-A6BCE6BD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404C-4382-4685-A4E7-418A4B7E3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A2B1-376F-4E8F-B242-EE5C85654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890-1172-4C03-99D7-9AF609E2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0013-BC81-4642-B409-23E321C5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1B5-0189-4D26-B24C-6B5B43E8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0C9-3E21-4A3E-B9CB-6E3AE7DD6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6139-AF3A-4BBC-8D10-F5FB3FC7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0E1B-91E5-4F0E-8655-3B155BED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002-05FC-48A2-B8F8-CB36C764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6B35-25C2-42C5-8331-8CD7CCE7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DDA4-1541-4EB4-8773-7061C1CFF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0D50-2D19-4D8F-BA96-41385986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8F78-CDAB-4E0E-922F-95024257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787-17F3-4D27-9D41-CBB0A84A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88A5-E7F4-487D-85B4-311D1972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EB8-CA0C-416E-B2F5-075238E4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UNDISPUTED QUEEN OF DISCO" OVERLAPS WITH THE SISTER OF RIVER, RAIN, JOAQUIN, AND LIBER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HO WON THE SPRINT CUP IN '95, '97, '98, AND '01 OVERLAPS WITH THE SINGER OF 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RV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 ACTOR FOR "CAT BALLOU" OVERLAPS WITH THE SINGER OF "I HEARD IT THROUGH THE GRAPEV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OUI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03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KNOWN 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ROWN BOMBER" OVERLAPS WITH THE JAZZ TRUMPETER KNOWN AS "SATCH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OUGLA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C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"CHAMPION" AND "LUST FOR LIFE" OVERLAPS WITH THE WWII FIELD MARSHALL OF THE PHILIPPINE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UT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AND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NINETY-FIVE THESES" OVERLAPS WITH  THE SINGER OF "NEVER TOO MUCH", "HERE AND NOW",  AND "I CAN MAKE IT BET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YLO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WIF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IRE AND RAIN" OVERLAPS WITH THE SINGER OF "WE ARE NEVER EVER GETTING BACK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CK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POP" OVERLAPS WITH THE SINGER OF "THE PRETE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ARRI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BEATLES OVERLAPS WITH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GROSSING FILM STAR OF ALL TIME, AFTER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 ACTOR FOR "CAT BALLOU" OVERLAPS WITH THE SINGER OF "I HEARD IT THROUGH THE GRAPEV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EFFER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THE DECLARATION OF INDEPENDENCE OVERLAPS WITH THE PRESIDENT OF 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MM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2600" y="762120"/>
            <a:ext cx="803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UNDISPUTED QUEEN OF DISCO" OVERLAPS WITH THE SISTER OF RIVER, RAIN, JOAQUIN, AND LIBER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ORD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HO WON THE SPRINT CUP IN '95, '97, '98, AND '01 OVERLAPS WITH THE SINGER OF 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KNOWN 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ROWN BOMBER" OVERLAPS WITH THE JAZZ TRUMPETER KNOWN AS "SATCHM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"CHAMPION" AND "LUST FOR LIFE" OVERLAPS WITH THE WWII FIELD MARSHALL OF THE PHILIPPINE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09680" y="762120"/>
            <a:ext cx="83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NINETY-FIVE THESES" OVERLAPS WITH THE SINGER OF "NEVER TOO MUCH", "HERE AND NOW",  AND "I CAN MAKE IT BET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23960"/>
            <a:ext cx="807696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IRE AND RAIN" OVERLAPS WITH THE SINGER OF "WE ARE NEVER EVER GETTING BACK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POP" OVERLAPS WITH THE SINGER OF "THE PRETE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BEATLES OVERLAPS WITH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GROSSING FILM STAR OF ALL TIME, AFTER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THE DECLARATION OF INDEPENDENCE OVERLAPS WITH THE PRESIDENT OF  THE CONFEDERATE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7:09:28Z</dcterms:created>
  <dc:creator>Jennifer Budzinski</dc:creator>
  <dc:description/>
  <dc:language>en-US</dc:language>
  <cp:lastModifiedBy>Erich Friedman</cp:lastModifiedBy>
  <dcterms:modified xsi:type="dcterms:W3CDTF">2020-08-26T16:34:15Z</dcterms:modified>
  <cp:revision>346</cp:revision>
  <dc:subject/>
  <dc:title>Slide 1</dc:title>
</cp:coreProperties>
</file>