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9E9E-0A7B-4F92-9775-FEBF82C5D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9803-07C4-4CED-8A5F-EEC5FDAF0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D61E-ABFD-422B-AC76-6A9FAC0D1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6777-76E0-4373-AFC8-255B61B96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A3EF-2A1A-4A83-AEC4-9EC41A68F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198F-6E0F-4F5B-8DDF-89CFA38BE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072D-E3D7-4F2B-B12D-ACEEA70C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7BB3-82A5-49C5-9AAC-8C6E6826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3425-23CC-402D-921A-7A5490BF0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7DEC-E730-4F1C-B30E-AA6A7A1F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2447-21F5-4AE7-81BF-A56075D3D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A2AB-0E4B-4531-B0C5-D93EF9CE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2B253-36F0-4EF7-8675-5DC28DE0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835E-2CFA-48FE-8B90-65A098CA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7634-F915-44E1-BA57-438A92EED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78D0-D573-4017-99F5-81EFE0133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B50C-F1CE-4152-8CF7-82BC9C423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96ED-FE5B-48A6-AEE5-FFFE6F997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D864-7E66-41CD-BFAF-77D8A18F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AE47-F23C-4036-9ACF-F357379D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2516-14BD-48C4-B18F-C779A38F1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40E5-A26D-450D-A436-A7C3F1909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9413-EA95-480C-AD70-25AFF72E2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RCURY AND SPACE SHUTTLE ASTRONAUT OVERLAPS WITH AN ACTRESS IN "FATAL ATTRACTION" AND "DANGEROUS LIAISONS"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SELLING TROPICAL SALSA ARTIST OVERLAPS WITH THE ACTOR WHO PLAYED HANNIBAL LE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I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DER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ONDE BOMBSHELL FROM "WKRP IN CINCINNATI" OVERLAPS WITH A WHITE-HAIRED CNN NEWS ANC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RANKL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OF BIFOCALS OVERLAPS WITH THE LONGEST SERVING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INST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IANIST WHO BRIEFLY ATTENDED STETSON OVERLAPS WITH THE WWII PRIME MINISTER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EL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IAN AND POT ACTIVIST OVERLAPS WITH A FORMER PRESIDENT OF SOU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R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AME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JOYC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LAKERS SUPERSTAR OVERLAPS WITH THE AUTHOR OF "ULYS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OMA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SUPREME COURT JUDGE OVERLAPS WITH "THE WIZARD OF MENLO 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LBER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EINSTE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ANNOUNCER KNOWN AS "THE VOICE OF BASKETBALL" OVERLAPS WITH THE DISCOVERER  OF RELA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ONDE BOMBSHELL FROM "WKRP IN CINCINNATI" OVERLAPS WITH A WHITE-HAIRED CNN NEWS ANCH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HRISTI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RIN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OR OF HERCULE POIROT AND MISS MARPLE OVERLAPS WITH ONE OF BILLY JOEL'S W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LEN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RCURY AND SPACE SHUTTLE ASTRONAUT OVERLAPS WITH AN ACTRESS IN "FATAL ATTRACTION" AND "DANGEROUS LIAISONS"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THON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HO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SELLING TROPICAL SALSA ARTIST OVERLAPS WITH THE ACTOR WHO PLAYED HANNIBAL LE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OF BIFOCALS OVERLAPS WITH THE LONGEST SERVING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PIANIST WHO BRIEFLY ATTENDED STETSON OVERLAPS WITH THE WWII PRIME MINISTER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IAN AND POT ACTIVIST OVERLAPS WITH A FORMER PRESIDENT OF SOU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.A. LAKERS SUPERSTAR OVERLAPS WITH THE AUTHOR OF "ULYS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SUPREME COURT JUDGE OVERLAPS WITH "THE WIZARD OF MENLO 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ANNOUNCER KNOWN AS "THE VOICE OF BASKETBALL" OVERLAPS WITH THE DISCOVERER  OF RELA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OR OF HERCULE POIROT AND MISS MARPLE OVERLAPS WITH ONE OF BILLY JOEL'S W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7:09:28Z</dcterms:created>
  <dc:creator>Jennifer Budzinski</dc:creator>
  <dc:description/>
  <dc:language>en-US</dc:language>
  <cp:lastModifiedBy>Erich Friedman</cp:lastModifiedBy>
  <dcterms:modified xsi:type="dcterms:W3CDTF">2020-08-26T16:35:25Z</dcterms:modified>
  <cp:revision>345</cp:revision>
  <dc:subject/>
  <dc:title>Slide 1</dc:title>
</cp:coreProperties>
</file>