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A1E7-9B12-4B27-A946-47C4587A2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D18E-D4AA-4E61-9A89-1466FC557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BF8A-E3C8-44F4-9446-A673B44B4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E9EF-5A4F-42B5-BBEC-344BC832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E0A2-3615-4132-8390-C3C00F020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58EA-94E1-4CC9-BA40-092A677DE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D264-A282-42D2-B5CE-5C183FEA1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DEAB-FBF3-4DCE-A786-A777B1A55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A093-ACDD-407D-9CAD-6D56D610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4B21-1B2F-495F-96EE-362CB5794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D5B1-12B8-41A8-A000-1407F5811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E207-ACBF-46EA-8DE4-3DA2A488D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15E8-E4C9-45CB-BBFD-AFB1C911A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CE89-37FE-4ADB-8EC6-C83447342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45CA-5B64-4D33-999D-3E051707F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850E-ADD3-46C8-B47B-6AC06F925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6BD9-F286-40A2-AB03-8225617F8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7292-5609-4730-AAB8-244AA7605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0681-8007-457F-9A25-52134D94F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F840-AD77-40FA-BF8D-BF5917BCF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07F4-A3D9-4A09-9A66-619E796E8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3DDE-0D9E-4A18-8AB9-E14FA87E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55A5-FCA5-4183-A7A0-C2393CDFA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NAMES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RCURY AND SPACE SHUTTLE ASTRONAUT OVERLAPS WITH AN ACTRESS IN "FATAL ATTRACTION" AND "DANGEROUS LIAISONS"?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SELLING TROPICAL SALSA ARTIST OVERLAPS WITH THE ACTOR WHO PLAYED HANNIBAL LE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I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DER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0400" y="762120"/>
            <a:ext cx="7963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ONDE BOMBSHELL FROM "WKRP IN CINCINNATI" OVERLAPS WITH A WHITE-HAIRED CNN NEWS ANC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RANKLI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OF BIFOCALS OVERLAPS WITH THE LONGEST SERVING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INST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PIANIST WHO BRIEFLY ATTENDED STETSON OVERLAPS WITH THE WWII PRIME MINISTER OF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EL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ND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IAN AND POT ACTIVIST OVERLAPS WITH A FORMER PRESIDENT OF SOU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BRO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JAME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JOYC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.A. LAKERS SUPERSTAR OVERLAPS WITH THE AUTHOR OF "ULYS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ENC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HOMA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-AMERICAN SUPREME COURT JUDGE OVERLAPS WITH "THE WIZARD OF MENLO P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LBER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EINSTE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 ANNOUNCER KNOWN AS "THE VOICE OF BASKETBALL" OVERLAPS WITH THE DISCOVERER  OF RELA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ONDE BOMBSHELL FROM "WKRP IN CINCINNATI" OVERLAPS WITH A WHITE-HAIRED CNN NEWS ANCH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536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HRISTI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RIN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OR OF HERCULE POIROT AND MISS MARPLE OVERLAPS WITH ONE OF BILLY JOEL'S W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LEN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66760" y="7621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RCURY AND SPACE SHUTTLE ASTRONAUT OVERLAPS WITH AN ACTRESS IN "FATAL ATTRACTION" AND "DANGEROUS LIAISONS"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THON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HOP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SELLING TROPICAL SALSA ARTIST OVERLAPS WITH THE ACTOR WHO PLAYED HANNIBAL LE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OF BIFOCALS OVERLAPS WITH THE LONGEST SERVING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PIANIST WHO BRIEFLY ATTENDED STETSON OVERLAPS WITH THE WWII PRIME MINISTER OF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IAN AND POT ACTIVIST OVERLAPS WITH A FORMER PRESIDENT OF SOUTH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.A. LAKERS SUPERSTAR OVERLAPS WITH THE AUTHOR OF "ULYS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-AMERICAN SUPREME COURT JUDGE OVERLAPS WITH "THE WIZARD OF MENLO P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 ANNOUNCER KNOWN AS "THE VOICE OF BASKETBALL" OVERLAPS WITH THE DISCOVERER  OF RELA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OR OF HERCULE POIROT AND MISS MARPLE OVERLAPS WITH ONE OF BILLY JOEL'S W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7:09:28Z</dcterms:created>
  <dc:creator>Jennifer Budzinski</dc:creator>
  <dc:description/>
  <dc:language>en-US</dc:language>
  <cp:lastModifiedBy>Erich Friedman</cp:lastModifiedBy>
  <dcterms:modified xsi:type="dcterms:W3CDTF">2020-08-26T16:35:25Z</dcterms:modified>
  <cp:revision>345</cp:revision>
  <dc:subject/>
  <dc:title>Slide 1</dc:title>
</cp:coreProperties>
</file>